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5D2-0800-4149-8AB0-E98F7579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E67-4434-4D3F-B08E-E970F5FC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3A0-1167-4F94-BA7B-D81AD385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AC1-8465-4920-A7A2-B76F08C5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D7C-4DA9-4F09-9527-2A78C0C7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FFFD-E866-4190-94B5-C332B288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BC9E-9410-43BD-A2EC-A9290ADB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05C4-D740-473C-9631-DF21078F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C45D-0EC4-4720-8876-A31B5C08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6D3E-C97A-4A9E-8216-6D2F87D4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B6A4-2B2A-49F9-90EE-4A25A66C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AA6-D469-4218-B752-F86F7FB2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6F80-3892-4B89-99B1-CBC9D6CF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B7CB-1CCC-494D-9077-B06E1E90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6275-B6D1-416A-B4C1-FF457138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2339-063D-44BD-A671-F45780F2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BD76-0EA0-4DE7-AE27-FE2A7178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26E-3167-4C73-B93A-32F28835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E4F-67BC-4BD6-9EA6-B7BF6CC9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16B-974B-45C8-A304-D2BDFF44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4DB-B014-477F-8134-F35D8743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8D3-B95F-40EE-890D-18ADE323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98E-7474-4FBB-924A-92D74308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390-0078-4FB1-B166-A373E8A3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D585-19DE-4D07-B722-EC1C452D52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5C25-EFA4-43A6-8D88-5A3E4FC77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6270-649E-47F0-9FFD-31CD792A62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AE2F-9781-49E2-8545-0A12F19B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han@info.vub.ac.be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 Narrow"/>
              </a:rPr>
              <a:t>Introduction to Modula</a:t>
            </a:r>
            <a:r>
              <a:rPr b="1" lang="fr-BE" sz="6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GB" sz="66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ohan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99D0-15D8-4A90-AA3B-B76E7DEA26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FF7FBB8-C88B-4E7F-B023-BDBAA1608E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ingle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haracters (‘a’) : CH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Integers (-40) : INTE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als (2.7) : 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os number (3) : CARD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ogical (TRUE/FALSE) : BOOL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y the name « single types 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4ED-B481-4490-87B0-FEED0148F8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0175E-DFE9-4B0F-9E44-077F55C53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 : CHA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 : INTEG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c : RE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d : CARDIN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 : BOOLE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 := ‘z’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 := -34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c := 0.35E-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d := 34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 := FALS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98108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8288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clar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4382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5720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952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41148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sig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905120"/>
            <a:ext cx="106704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62160" y="167652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53080" y="1371600"/>
            <a:ext cx="1819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eywo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457200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962520" y="5181480"/>
            <a:ext cx="3124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74A-4C9A-4A40-AAA2-027F0D48F1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39A1F-47F2-43B8-84C2-4BF3CF8A3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Variables vs. Literals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iable can have several values (not at one tim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Literals are the values themselv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z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4.34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EA9-274D-437B-B18E-D9087D1368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87672-D034-4174-82F7-903367B681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Working with number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INTEGER, CARDINAL and 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Sum using +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Substract using 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Multiply using 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Divide u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DIV for CARDINAL and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/ for 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o using M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D92-A599-45FF-9204-DDA7A6D11B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37937-3FF0-4846-94A6-BE52B8DE84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Working with number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, b : INTEG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d : RE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f : CARDIN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 := -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 := a *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d := 5.0 / 3.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f  := 5 DIV 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5A0-380E-47A8-928F-22275242C1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9A66E-9C43-4C9C-AE5D-82E628F0B9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Conversions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Numbers can not be mixe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ARDINAL </a:t>
            </a:r>
            <a:r>
              <a:rPr b="1" lang="fr-BE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REAL </a:t>
            </a:r>
            <a:r>
              <a:rPr b="1" lang="fr-BE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INTEG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onversion is nee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TRUNC(real) =&gt; CARDI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FLOAT(cardinal/integer) =&gt; 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E91-7041-446E-936F-75E6442EA7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F60C2-C37B-45B3-B900-54DCAEC43A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BOOLEAN algebra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Built-in type: BOOL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2 values: TRUE, FA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Logical : AND, OR,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Comparison : &lt;, &gt;, =, &lt;=, &gt;=, &lt;&gt;, #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967-B2AD-4846-80A5-6A8CA0FC49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DE694-2B03-4A62-970A-B57E6F1622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BOOLEAN algebra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, b : INTEG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c, d : BOOLEA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 := -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 := 3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c := a &gt; b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d := NOT c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BFA-7CA7-4B47-9CEA-73DE384A6E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664E1-2F53-4720-9E7F-33AA8A1A3D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Precedence rule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Define which operator is evaluated fir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Multiplication, division, sum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13 DIV 4 = 3 = TR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Is this correc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What is the value the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Use brackets to ensure the order of evalution =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((13 DIV 4) = 3) = TRU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980-F58B-457C-9AFA-A088FD9389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87254-5812-4EAF-9364-660B0EDFF4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Character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uilt-in type: CH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lues: all the entries of the ASCII t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haracter literals have to be surrounded by single quotes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z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How can we represent text… la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6E1-1815-460E-9F0C-EFF5E112C0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A4270-2787-4FCF-B59E-E1AC631740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3 hours of total immersion into the programming language Modula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e start from the ve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Johan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Johan@info.vub.ac.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4K2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ACD-8090-4A7D-99C8-FDA069FA43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99031-8703-4AF1-B66C-1DCBDEAAB264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Constan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Keyword CON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Usage identical to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Assignment is impossi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pi = 3.14159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ode = 9342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886200"/>
            <a:ext cx="175284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4648320"/>
            <a:ext cx="1447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66D-2549-4575-86A0-567295C340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FC27B-A1CD-4029-BF4C-336C29E27A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Constan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hat is the type of the constan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Can I use constant together with variables and literal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Pi = 3.14159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, r : RE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r := 5.0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= 2.0 * Pi * 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E1D-636A-4E85-89FB-15BB535581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81ADB-90CC-4072-87FA-8A2BE875B5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Enumeration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irst flexible type: defined by yo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xplicit definition of the possible values of a variable during the decla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 ( value1, value2, …, valueN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iable x can only have the values listed between bracke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D90-96F5-4F45-B14B-0605A27BC2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F3994-B686-41F4-A9DE-E3EAF8B189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Enumeration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continent : ( europe, asia, africa, antartica, america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continent := antartic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Danger: values of enumeration can not be used as name for other constants or vari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C2F-E26F-4D63-B40A-17BC9F55CC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641FF-E2CD-415E-B8D3-44E931DFCB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Subrange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quivalent to interval in mathematics x </a:t>
            </a:r>
            <a:r>
              <a:rPr b="1" lang="fr-BE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[0, 10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Again defined by you during the decla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x : [0 .. 10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c : [’a’ .. ‘d’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Not for real valued intervals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809880"/>
            <a:ext cx="1752840" cy="1143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457200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BE4-F420-4891-B886-2BEF92853C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1A482-FDC0-4BCE-9866-1A671E34D6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Subrang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a, b, c : [2..15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a := 2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b := 8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c := a * b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B3D-1273-40EB-8214-742BDFF12B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38795-611C-46E4-B0BD-67D21755A4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Structured typ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4284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st types are built-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HAR, REAL, BOOLEAN, CARDINAL, INTE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elf defined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num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ub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Until now simple types i.e. one variable = one value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F55-784E-4D2C-A3DE-75F06303F6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40C69-202B-42C5-BC88-26566B03C5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Structured typ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tore more than one value per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CORD: possible to combine different types in one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ARRAY: represent several values of the same type in one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D99-933F-4DD7-8E47-1696418DE1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15126-DD96-4FF8-B362-164E4780F0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Record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lc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name: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ield1 : type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ieldN : typ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568-0B2B-4335-A60C-43A5F0624B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AA9F2-BE46-4FB7-B609-9572F9CF13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Record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at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day : [1..3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onth : [1..1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year : [1900..30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876-84BE-4156-8972-C6FFCCDBA7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A1FFE-2D3C-479C-A2E8-8A9096DF08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Modula 2 : why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y not Java, C, C++, C# 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ooks like 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Very 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afe (easy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Has all the modern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ll programming languages are equa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39A-5845-4A48-880F-44A67751F1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32B3C-32DB-44E6-97C0-EB9E04750E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Record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ince a record contains several values we use the field name to access th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1" lang="fr-BE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field_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ate.day := 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ate.month :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ate.year := 200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38480"/>
            <a:ext cx="1523880" cy="990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438280" y="388584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7A5-2FE9-4B16-B47C-3105243777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A100F-26D7-4674-B40E-FFEBEDA4CC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Record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oint1, point2 :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, y 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oint1.x := 5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oint1.y := 2.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oint2 := point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562720"/>
            <a:ext cx="35816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4800600"/>
            <a:ext cx="2381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ssibl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48640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217-B50C-480E-9779-1E96137ACD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71E98-EFD2-40BA-8BF4-C69BA7DA89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name : ARRA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index_type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typ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rray contains one or more values depending on the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index_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 : ARRAY [1..10] OF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B6B-E917-4357-973B-84FC2F4282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AC581-AED2-4958-936F-0560C3CD25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s with RECORDs with need more work to take one value out of an array =&gt;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fr-BE" sz="5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1" lang="fr-BE" sz="54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[8] := 4.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[2] := x[8] + 1.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E15-A1C3-4D81-B99E-D0530B6A13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D08E7-FE37-44C3-BAFF-393C1A114F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ice : ARRAY (junior, normal, maxi) OF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ice[normal] :=  2.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ice[maxi] := 3.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500-031F-4136-A298-F194531337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2988E-4F48-4EED-AEFB-862987CCEF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aste : ARRAY (bread, rice) OF (bad, normal, goo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lass : ARRAY(john, alan) OF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ge : [0..2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eight 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aste[bread] := g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aste[rice] := g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lass[john].age := 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AD7-68FE-44A5-B5BF-7CBEEF406B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9E156-155F-42F7-86E5-4902A77C3F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spect the index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VAR x : ARRAY [3..10] OF BOOLEA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x[1] := TRU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rrays can not be copied in 1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VAR x, y : ARRAY [3..10] OF BOOLEA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x := y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429000"/>
            <a:ext cx="243864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666880" y="3428640"/>
            <a:ext cx="236232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666880" y="57150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563868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6E7-4E28-4156-9B3F-B961A1BB81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BAA6C-9786-464B-AA82-CA2705ACBA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String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aracter can be represented using the built-in CHAR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One character at a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re is no seperate type in Modula 2 for strings of charact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ext : ARRAY [1..30] OF CH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C71-87AE-41B3-975C-17229BAA0B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FAAFC-2D64-4364-8136-68F6C8D560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Writing on scree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riting on the computer screen can be done using the follow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tring : WrStr(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INTEGER: WrInt(x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AL: WrReal(x, 7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ARDINAL: WrCard(x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BOOLEAN: WrBool(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HAR: WrChar(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A8C-3AFE-47BF-BC2C-81C78B2F29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6C211-DE5A-4293-9817-582B8B8A5D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N-dimensional 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dula 2 arrays can have more than one index =&gt; more than one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 : ARRAY [1..5]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RRAY [1..3] OF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[5][2] := 5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C31-E5D4-4FF4-9AD3-C08D3A6DB0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D4188-BE21-47A3-8EDE-763C7B02DF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gramming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ay to control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Write down the program (edi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Translate using special program (compil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xecution by the compu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mpiler is c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Translates in machine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ports mistak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823-4B66-4309-B589-1B1EA72029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670F0-7787-4D3A-9A18-C98B92C6D8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N-dimensional 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claration short hand for n-dim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x : ARRAY type1 OF ARRAY type2 OF ARRAY type3 OF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x : ARRAY type1,type2,type3 OF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dexing short hand for n-dim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x[3][3][4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x[3,3,4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25E-AA18-49CB-AF24-36F143ACC9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E9250-3C8A-4F9E-A241-B00F140BED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TYP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dula 2 comes with built-i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You can also define new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Mp3 =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ame : ARRAY [1..40]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HA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ength : [1..3600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572000"/>
            <a:ext cx="1904760" cy="1143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666880" y="43430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773-E20E-4108-B557-56BBBAD584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E59A7-D6BD-4DDF-8F6A-200A7732AD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TYP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Mp3 = REC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name : ARRAY [1..40] OF CHA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ength : [1..360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ng : Mp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ng.name := "4 seasons – winter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0C2-5C88-4736-A3EC-3E7FE6B037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FD4F8-189F-4F2A-B680-A451932920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Control instruction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Normal program execu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Top dow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Line by l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tatements that influence the execution of the pr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3 group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Branch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E15-A0E7-4EBA-BFDC-5772BE858E4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2F615-EC6B-4E03-8ED8-23B663BE37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IF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19160" y="17524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oose an alternative based on result of the boolean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boolean_express1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LIF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boolean_express2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7400" y="3809880"/>
            <a:ext cx="380880" cy="1981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4648320"/>
            <a:ext cx="1724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p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B93-0179-4579-B61C-075536E6F62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BBC32-745D-4DB0-9A65-0AFD050804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IF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FROM IO IMPORT WrStr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x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x := 3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F (x &lt; 5) TH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WrStr(" x is smaller than 5"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97C-3266-4B67-85B2-0D485371EA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89A58-5430-4975-A9DB-566CAF7790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IF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ROM IO IMPORT WrSt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= 3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F (x &lt; 5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 x is smaller than 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 x is &gt;= 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D19-32A9-41B5-811A-25B2A3C09EE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A6639-4C90-4E6C-B226-432715E2CD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IF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ROM IO IMPORT WrSt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= 3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F (x &lt; 5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 x is smaller than 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LIF (x &gt; 5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 x is bigger than 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x equals 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917-766A-40CB-9007-9029514ECA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99111-7634-4B0A-A4EA-609DF5E7AD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CAS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oose one alternative using a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, no tes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abel1, label2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abel3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ments…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464832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4876920"/>
            <a:ext cx="1724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p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653-2345-4CF3-9F8E-8EFC467DDA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E4993-B2A8-49A5-BC25-B0DB36B65A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CAS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1916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enu : (junior, normal, maxi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price : RE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enu := juni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CASE menu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junior : price := 1.25; 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normal : price := 2.25; 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axi : price := 3.00; 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price := -99.999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116-D3A0-4F48-B537-1C093E45BF6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40092-7FB3-4ACD-8211-2CF246029E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Modula 2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Has keywords: words from th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lways in CAPITAL lett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O, FOR, IF, WHILE, END, THEN, UNTIL, LOOP, ELSE, RECORD, ARRAY, OF, TYPE, CONST, IMPORT, FROM, SET, VAR, WITH, CASE, MODULE, REAL, INTEG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48E-60ED-4671-B44A-A675EF5494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E5665-7D7A-4DD1-90B4-5F6BA72190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FOR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oop a fixed number of times using a counter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counter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is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FBD-024D-4C2A-ADBB-B19B86C2C5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49CD9-739D-466B-9566-5FD322DBB4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FOR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counter will be changed automatically by the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f B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is omitted a default step of 1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tart &lt; stop if step is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OR counter := 10 TO 1 BY –1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720-E485-4D18-BCBF-BEAD2938F1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C825B-0015-44CD-A930-88A3A0D1E6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FOR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FOR i := 1 TO 20 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sum + i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C7A-9AC5-4D6E-B239-5533DCB716D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41BDF-1D41-4871-9FD1-DD2C48341C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WHIL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oop as long as the condition return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ILE boolean_expres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4DA-7F66-41B8-ACA8-AA4F283E8DD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27095-6DB1-4DE9-94BC-CA1A1CF0AF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WHIL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6705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 := 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WHILE (i &lt;= 20) 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sum + i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NC(i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54B-B4BA-4A30-92F2-3C61D302C5A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92EA7-8753-4F84-8E4B-4D59569427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REPEAT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oop until condition become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UNTIL boolean_expr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lways at least 1 loop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495680"/>
            <a:ext cx="2286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009920" y="4191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077320" y="3809880"/>
            <a:ext cx="152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61D-902A-4B4C-B55D-6550B41E07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CE7FF-9E15-4551-B35F-62026D6C2F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REPEAT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  := 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NC(sum, i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NC(i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UNTIL (i &gt; 20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154-2FA4-4002-A863-B1519A479B52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23752-FE8F-4213-856D-6A2E0893AE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LOOP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most basic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o cou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o stop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Use EXIT to escape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5B4-F60B-4B5F-A871-BC7FA67D545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5962C-9E71-4FAA-8D4C-D89EB78AD7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LOOP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72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sum 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sum := 0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 := 1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NC(sum, i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NC(i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F (i &gt;20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XI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0D7-D86E-4AA3-8AC8-AFB04923971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1E79B-75BF-45AF-993C-201709AE2C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requently used statement can be seperated and put into a procedure =&gt; code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n Modula 2 a procedure a is little program on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ifference with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Has a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ossibly some input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ossibly some output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98B-C5FD-44A7-AF51-995D41975F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74F3F-CBB4-48B1-8357-2314A9B28F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gram struct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gram is called a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DULE 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FROM …. IMPORT …</a:t>
            </a:r>
            <a:r>
              <a:rPr b="1" lang="fr-BE" sz="4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ONST   pi = 3.1459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TYPE      euro = RE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 (* comment 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 name</a:t>
            </a:r>
            <a:r>
              <a:rPr b="1" lang="fr-BE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C5A-6DC2-4F84-9AB6-D1F0486062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55FF0-ED9C-49C3-BC3E-2BF767ED63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2 asp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efinition: which computation are being performed, which inputs and outpu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rocedure call: correct use of the procedure in the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3DA-427B-4C08-B0AA-2B48DEE7AF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F937A-F12B-4743-8CF5-ADCC59A814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umber of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Type of each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oes the procedure return a val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ype of the value retur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B62-8DB6-482D-88EC-6E28CF9AB3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7D09A-030C-4633-9A67-C111265E08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2 types of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rocedures that compute a value and return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unc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rocedures that have a side effect (write to disk, reset a value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9EA-D45F-4CAF-82C9-66D5890CB64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627C2-B3F5-4833-8247-8E87743C38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05740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OCEDURE name (arg1 : TYPE1; arg2 : TYPE2; 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(* Declarations just like for a MODUL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ONST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TYP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R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(* The code comes her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ND name</a:t>
            </a:r>
            <a:r>
              <a:rPr b="1" lang="fr-BE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7C3-9DC0-4179-B7A3-30C83C89E4D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00A44-71BC-44D3-AFD8-EAA5578BA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40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OCEDURE name (arg1 : TYPE1; arg2 : TYPE2; …) : TYPE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(* Declarations just like for a MODUL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ONST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TYP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R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(* The code comes her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ND name</a:t>
            </a:r>
            <a:r>
              <a:rPr b="1" lang="fr-BE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11B-D7A2-447E-A147-A3A9187E137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6893D-4D3A-4627-90C5-A0A5F7E6A3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Keyword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Jump out of the proced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turn a value and jump out of the proced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C89-9BDF-4C5D-B0D4-0F3129F58B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F0E36-38AF-47EE-BA68-45D12E2599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PROCEDURE add ( a , b :CARDINAL)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RETURN a+b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add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add( 4, 2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14A-A469-4532-8AD1-3A4F876B32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B2D8F-922A-4BAB-A72C-06336FDA6A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14600" y="16765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ROM IO IMPORT WrSt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PROCEDURE odd( x : REAL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F (x &lt; 4.5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x is not &lt; 4.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od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odd(3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odd(5.5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608-AF1B-4986-A7AE-B38D8EC02A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064A9-164C-4AF6-984C-59D9065658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SCOPING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Procedure are little programs on their ow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Own declarations : types, constants, variables and even other proced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Which variables, constants and procedure can one use inside proced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Scoping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0C0-3815-43D6-912A-12BDA959F23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B2285-7511-4D4D-BCD2-8327FD345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SCOPING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Global vs. Local delc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Global ~ defined in the main part of the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ocal ~ defined in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op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Hiding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AFA-4984-4DA2-8BB2-B6D7AA9BED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1350E-C30A-49CB-A777-CBEFE8B091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600" spc="-1" strike="noStrike">
                <a:solidFill>
                  <a:srgbClr val="000000"/>
                </a:solidFill>
                <a:latin typeface="Arial Narrow"/>
              </a:rPr>
              <a:t>Syntax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Keywords completely in CAPITAL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paces do no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ite lines do no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ignal the end of a command with semi colon  </a:t>
            </a:r>
            <a:r>
              <a:rPr b="1" lang="fr-BE" sz="4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 of program with a period </a:t>
            </a:r>
            <a:r>
              <a:rPr b="1" lang="fr-B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6E4-DF5F-4689-9068-A7460A4C65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EDD96-A84F-48E2-9CC1-48E5270729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SCOPING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v : 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c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PROCEDURE 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z : 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(* v, c, z, p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END 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PROCEDURE q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v = 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(* v, c, p, q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END q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1600200"/>
            <a:ext cx="472464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971800"/>
            <a:ext cx="3886200" cy="1371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4343400"/>
            <a:ext cx="3886200" cy="12952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50C-6783-424F-A4DD-62A0BF9DEEC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BAC5D-C8D3-4DDF-B1E1-50EC1336E1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VAL/VAR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PROCEDURE reset(c : REAL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c := 0.0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END zer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r : RE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r := 99.99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reset(r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CE6-EED6-4A3C-BC28-57C48B4DA8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63AE9-BD9B-4964-AE51-864C144918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VAL/VAR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previous program does not work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arameter passing mechan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Makes </a:t>
            </a:r>
            <a:r>
              <a:rPr b="0" lang="fr-BE" sz="2600" spc="-1" strike="noStrike" u="sng">
                <a:solidFill>
                  <a:srgbClr val="000000"/>
                </a:solidFill>
                <a:uFillTx/>
                <a:latin typeface="Arial"/>
              </a:rPr>
              <a:t>copy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of the arguments (value parameter V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xecute the procedure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 parameters are not copi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A16-35C0-4201-A59F-6DCE87182A5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B8FD1-396A-4EF1-97E5-0342EC60D4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VAL/VAR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PROCEDURE zero (VAR c : REAL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 := 0.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zer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x : RE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reset(x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Works as was expecte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C1E-B820-4FA8-9D93-C6117ED9B58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751EE-9480-4E06-9CD1-D0C70CC2CB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VAL/VAR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VAR parameters are not copied but a reference to the original variable is passed inst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VAR parameter required variables during the procedure call,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EEA-8B8D-4DE9-AD0C-646FFAA571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E7F1D-D2C1-4B53-A642-2AA440A328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assing arrays as parameters is not easy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CEDURE p(a : ARRAY [1..10] OF REA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o make it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eclare a new type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Use type in decl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YPE Arr = ARRAY [1..10] OF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CEDURE p(a :Ar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514600"/>
            <a:ext cx="723924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990720" y="2514600"/>
            <a:ext cx="73152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BC9-F692-4FD5-897F-FE00C3E1A6E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D0D83-1DFC-4207-99CB-65B942D718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Not conveni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ot flexible in terms of the size arrays pa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olution : open array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F00-8B78-438F-82AA-965635883E2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7CCAA-59EE-4B7D-8926-17A7EF89A3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o need to declare a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Flexible in terms of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RRAY OF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CEDURE p(a: ARRAY OF REA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cedure p can accept arrays of any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11A-29CC-404C-B0D4-F4565C1BD6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5E7C0-1B3B-449A-B9B0-F3AB3BE92D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ll arrays start at index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HIGH returns the index of the last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193-9A84-4E13-9546-3E6CBF8A183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4C730-669D-45F8-AE0F-DB8576DBD0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CEDURE sum(a : ARRAY OF REAL)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t 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t := 0.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R i := 0 TO HIGH(a)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t := tot +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TURN to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D s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A5C-984A-4BD3-A5CC-ED63DA5141C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12EB7-9DAA-4E37-B101-1C02463470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nvenient way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tore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Manipulate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losely related to the variable concept used in mathema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736-6F29-455C-9507-EF3AD70DEA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DE40A-25F7-484F-B503-3B96F167EA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rstAr : ARRAY [30..35] OF CHA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ondAr : ARRAY [1..10] OF CHA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DURE myWrStr( str : ARRAY OF CHA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i := 0 TO HIGH(str)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Char(str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myWrSt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197-17A1-46F9-8DB1-A2DB9594AFC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BAF51-B90A-43DE-A553-B2E50A6922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RECURSION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f(x) = g(f(x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acto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ac(n) := n * fac(n-1);  (n&gt;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ac(n) := 1;                   (n &lt;=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PROCEDURE fac(n : CARDINAL)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F (n &lt;= 1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RETURN n * fac(n-1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fac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228600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69E-207B-47F3-8162-E04B6529874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2B625-51C4-489C-831E-0FC31D2967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POINTER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Pointers are variables containing memory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a : POINTER TO INTEGE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a contains the address of a memory block which contains an INTEGER val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1E7-0526-4D5E-B7CE-E579E14D9D4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57893-0D83-42F0-A91C-C4C71F67D2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OINTER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resses of memory locations are not inter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value stored at the memory location is =&gt; de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a : POINTER TO INTEGE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^ := -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BFA-AA18-4E62-A293-B85222FF21B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E2F6C-D9AA-45AF-9D21-F8C2200CAB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ers are use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ynamic memory al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But pointers do not do the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pecial Modula2 procedures to work with mem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 from the SYSTEM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used to ask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OSE to release the memory you g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743-202D-4C59-84D1-F3A5D036A06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A7804-8FA8-46B4-9759-7A29341B9A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: DEMO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mem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YSTEM IMPORT NEW, DISPO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O IMPORT WrStr, WrL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_ptr : POINTER TO 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 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Str("Start"); WrL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 We reserve some memory for 1 integer 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(i_pt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_ptr^ := 9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= i_ptr^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 We tell the computer we will not use this memory anymore 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E(i_pt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Str("Stop"); WrL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mem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129-8AA9-4EC2-AC3C-A906851165E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66260-1BF2-483A-8E5D-B8B169509E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memory allocation is the main reason for using poin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structures are used to do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RECURSIVE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5E1-03EF-4F67-8B2B-9F67A19CD94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C0573-2ACE-49A3-A2B5-D3C3BEB524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nkPtr = POINTER TO LinkRc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nkRc = RECO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: LinkP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dePtr = POINTER TO NodeRc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deRc = RECO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, right : NodeP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2362320"/>
            <a:ext cx="6858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00800" y="2362320"/>
            <a:ext cx="6858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715000" y="2514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2362320"/>
            <a:ext cx="6858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10280" y="25905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25400" y="3048120"/>
            <a:ext cx="76104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45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6104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24480" y="3809880"/>
            <a:ext cx="60984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15200" y="5105520"/>
            <a:ext cx="609480" cy="76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5029200"/>
            <a:ext cx="6094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791320" y="45720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816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35812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181120" y="5791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5791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96080" y="5867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162920" y="5867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D9F-1233-499D-8FA2-38A022A4264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0286C-D75E-4B5A-80FB-E081FE0F54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tructures can be contected to each o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by allowing us to build big structures where each element contains dat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way we can use as much memory as we need! And this without knowing in advance how much memory we would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65C-A66D-402F-A6A8-F1C6EFA64BC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08237-8242-45EC-A904-01A849B600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: memory alloca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thus ask memory explicitly using NEW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mputer may run out of memory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know that when NEW returns NIL as value for our poi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366-2ADF-4C06-A157-5D2B0F67C56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4D317-6EF0-4AA6-80FE-7B5C3A50BD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Need to be declar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Change the value (assignme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= 451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495680"/>
            <a:ext cx="1904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36576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: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124080"/>
            <a:ext cx="2286000" cy="1447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190760" y="3048120"/>
            <a:ext cx="2514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286000"/>
            <a:ext cx="152388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718-80B9-4E0C-B6DA-2CA38BE81C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08B4E-FFC5-4301-838C-91215E4C1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: memory allocation (2)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save memory we have to recycle the memory we do not use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to deallocate the memory using DIS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to be careful and avoid using memory we deallocated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196-F149-4045-BDE6-780448794C9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42BA5-955B-48FE-A5CD-A923B25336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MODULE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B99-ACEC-4E17-BC8A-293A171B1E6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A7113-0A5A-495B-BE5D-71CAA65152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aomei li</cp:lastModifiedBy>
  <dcterms:modified xsi:type="dcterms:W3CDTF">2002-10-15T06:11:31Z</dcterms:modified>
  <cp:revision>72</cp:revision>
  <dc:subject/>
  <dc:title>PowerPoint Presentation</dc:title>
</cp:coreProperties>
</file>