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539-6C30-4DB9-BC89-5DEF9961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FBD-81DE-461B-90FC-E9996D41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924-0EAD-4E8F-AD6C-09F18BBC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9CB-4EBF-4A39-9976-306F2B92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8CE-85EB-45BE-9851-4565BCC6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D9C-C977-4D77-89CA-83F77E52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F44-0AAD-43E0-9F2E-C18C4059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C06-DBA2-4EDB-9EAF-E5944BE3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DBD-D0D9-40CC-880F-C17F336F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620-6563-4FF5-A5D4-C0099AE4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02B-4B62-4711-9A32-D27877F3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D38-6B16-4193-97FE-71BCDE6C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9800"/>
            <a:ext cx="289584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 31-01-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CE7E-7402-403A-BABF-0D38DFDAB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Tower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82240" y="1062000"/>
            <a:ext cx="50788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Sensors and Actu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 Mechanical level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 Pressure level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 Visual level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 Controlled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Locations f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1 Flow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2 Controlled on/off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3 Controlled variable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6 Location for outlet control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(for final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7 Manual v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(for configuration and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419880" y="3848040"/>
            <a:ext cx="406440" cy="171360"/>
            <a:chOff x="6419880" y="3848040"/>
            <a:chExt cx="406440" cy="171360"/>
          </a:xfrm>
        </p:grpSpPr>
        <p:sp>
          <p:nvSpPr>
            <p:cNvPr id="44" name=""/>
            <p:cNvSpPr/>
            <p:nvPr/>
          </p:nvSpPr>
          <p:spPr>
            <a:xfrm>
              <a:off x="6419880" y="3848040"/>
              <a:ext cx="406440" cy="17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6492960" y="3898800"/>
              <a:ext cx="288720" cy="73080"/>
              <a:chOff x="6492960" y="3898800"/>
              <a:chExt cx="288720" cy="73080"/>
            </a:xfrm>
          </p:grpSpPr>
          <p:sp>
            <p:nvSpPr>
              <p:cNvPr id="46" name=""/>
              <p:cNvSpPr/>
              <p:nvPr/>
            </p:nvSpPr>
            <p:spPr>
              <a:xfrm>
                <a:off x="6492960" y="3898800"/>
                <a:ext cx="144000" cy="7308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36960" y="3898800"/>
                <a:ext cx="144720" cy="7308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8348760" y="4272120"/>
            <a:ext cx="304200" cy="490320"/>
            <a:chOff x="8348760" y="4272120"/>
            <a:chExt cx="304200" cy="490320"/>
          </a:xfrm>
        </p:grpSpPr>
        <p:grpSp>
          <p:nvGrpSpPr>
            <p:cNvPr id="49" name=""/>
            <p:cNvGrpSpPr/>
            <p:nvPr/>
          </p:nvGrpSpPr>
          <p:grpSpPr>
            <a:xfrm>
              <a:off x="8356320" y="4506840"/>
              <a:ext cx="260640" cy="255600"/>
              <a:chOff x="8356320" y="4506840"/>
              <a:chExt cx="260640" cy="255600"/>
            </a:xfrm>
          </p:grpSpPr>
          <p:sp>
            <p:nvSpPr>
              <p:cNvPr id="50" name=""/>
              <p:cNvSpPr/>
              <p:nvPr/>
            </p:nvSpPr>
            <p:spPr>
              <a:xfrm rot="16200000">
                <a:off x="8424000" y="4569480"/>
                <a:ext cx="25560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 rot="16200000">
                <a:off x="8293320" y="4569480"/>
                <a:ext cx="255600" cy="1299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8348760" y="42721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874280" y="3954600"/>
            <a:ext cx="429120" cy="462600"/>
            <a:chOff x="7874280" y="3954600"/>
            <a:chExt cx="429120" cy="462600"/>
          </a:xfrm>
        </p:grpSpPr>
        <p:grpSp>
          <p:nvGrpSpPr>
            <p:cNvPr id="54" name=""/>
            <p:cNvGrpSpPr/>
            <p:nvPr/>
          </p:nvGrpSpPr>
          <p:grpSpPr>
            <a:xfrm>
              <a:off x="7940160" y="4161960"/>
              <a:ext cx="260640" cy="255240"/>
              <a:chOff x="7940160" y="4161960"/>
              <a:chExt cx="260640" cy="255240"/>
            </a:xfrm>
          </p:grpSpPr>
          <p:sp>
            <p:nvSpPr>
              <p:cNvPr id="55" name=""/>
              <p:cNvSpPr/>
              <p:nvPr/>
            </p:nvSpPr>
            <p:spPr>
              <a:xfrm rot="16200000">
                <a:off x="8007840" y="4224240"/>
                <a:ext cx="2552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6200000">
                <a:off x="7877520" y="4224240"/>
                <a:ext cx="255240" cy="1299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7874280" y="395460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911520" y="1168560"/>
            <a:ext cx="2746080" cy="5133960"/>
            <a:chOff x="911520" y="1168560"/>
            <a:chExt cx="2746080" cy="5133960"/>
          </a:xfrm>
        </p:grpSpPr>
        <p:sp>
          <p:nvSpPr>
            <p:cNvPr id="59" name=""/>
            <p:cNvSpPr/>
            <p:nvPr/>
          </p:nvSpPr>
          <p:spPr>
            <a:xfrm>
              <a:off x="1212840" y="1363680"/>
              <a:ext cx="533520" cy="295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9600" y="432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82840" y="4498920"/>
              <a:ext cx="67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2008080" y="4701960"/>
              <a:ext cx="304920" cy="304920"/>
              <a:chOff x="2008080" y="4701960"/>
              <a:chExt cx="30492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2008080" y="4854600"/>
                <a:ext cx="30492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008080" y="4701600"/>
                <a:ext cx="30492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1212840" y="5705640"/>
              <a:ext cx="2444760" cy="596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327320" y="4701960"/>
              <a:ext cx="304560" cy="304920"/>
              <a:chOff x="1327320" y="4701960"/>
              <a:chExt cx="304560" cy="304920"/>
            </a:xfrm>
          </p:grpSpPr>
          <p:sp>
            <p:nvSpPr>
              <p:cNvPr id="67" name=""/>
              <p:cNvSpPr/>
              <p:nvPr/>
            </p:nvSpPr>
            <p:spPr>
              <a:xfrm>
                <a:off x="1327320" y="485460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1327320" y="470160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482840" y="5388120"/>
              <a:ext cx="0" cy="58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60720" y="43084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60720" y="50068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79600" y="50068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 rot="5400000">
              <a:off x="2324520" y="3863880"/>
              <a:ext cx="30456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60720" y="5388120"/>
              <a:ext cx="0" cy="58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033280" y="5315040"/>
              <a:ext cx="254160" cy="145800"/>
              <a:chOff x="2033280" y="5315040"/>
              <a:chExt cx="254160" cy="145800"/>
            </a:xfrm>
          </p:grpSpPr>
          <p:sp>
            <p:nvSpPr>
              <p:cNvPr id="76" name=""/>
              <p:cNvSpPr/>
              <p:nvPr/>
            </p:nvSpPr>
            <p:spPr>
              <a:xfrm>
                <a:off x="2033640" y="5315040"/>
                <a:ext cx="253800" cy="1458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2033280" y="5315040"/>
                <a:ext cx="253800" cy="1458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160720" y="3940200"/>
              <a:ext cx="241200" cy="380880"/>
              <a:chOff x="2160720" y="3940200"/>
              <a:chExt cx="241200" cy="380880"/>
            </a:xfrm>
          </p:grpSpPr>
          <p:sp>
            <p:nvSpPr>
              <p:cNvPr id="79" name=""/>
              <p:cNvSpPr/>
              <p:nvPr/>
            </p:nvSpPr>
            <p:spPr>
              <a:xfrm>
                <a:off x="2160720" y="39402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171880" y="3940200"/>
                <a:ext cx="23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2795760" y="3940200"/>
              <a:ext cx="0" cy="202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554200" y="3940200"/>
              <a:ext cx="23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738520" y="5784840"/>
              <a:ext cx="561600" cy="433440"/>
              <a:chOff x="2738520" y="5784840"/>
              <a:chExt cx="561600" cy="433440"/>
            </a:xfrm>
          </p:grpSpPr>
          <p:sp>
            <p:nvSpPr>
              <p:cNvPr id="84" name=""/>
              <p:cNvSpPr/>
              <p:nvPr/>
            </p:nvSpPr>
            <p:spPr>
              <a:xfrm>
                <a:off x="2830680" y="5784840"/>
                <a:ext cx="469440" cy="433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73960" y="5914800"/>
                <a:ext cx="182880" cy="173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38520" y="5976000"/>
                <a:ext cx="165600" cy="181080"/>
              </a:xfrm>
              <a:custGeom>
                <a:avLst/>
                <a:gdLst/>
                <a:ahLst/>
                <a:rect l="l" t="t" r="r" b="b"/>
                <a:pathLst>
                  <a:path w="140" h="163">
                    <a:moveTo>
                      <a:pt x="0" y="7"/>
                    </a:moveTo>
                    <a:lnTo>
                      <a:pt x="140" y="163"/>
                    </a:lnTo>
                    <a:lnTo>
                      <a:pt x="7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219320" y="5981760"/>
              <a:ext cx="2438280" cy="318960"/>
            </a:xfrm>
            <a:prstGeom prst="rect">
              <a:avLst/>
            </a:prstGeom>
            <a:solidFill>
              <a:srgbClr val="3399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04920" y="2759040"/>
              <a:ext cx="536400" cy="1566720"/>
            </a:xfrm>
            <a:prstGeom prst="rect">
              <a:avLst/>
            </a:pr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4920" y="1249200"/>
              <a:ext cx="203040" cy="203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3920" y="1351080"/>
              <a:ext cx="0" cy="1422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35240" y="2657520"/>
              <a:ext cx="1443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5440" y="4276800"/>
              <a:ext cx="1447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28400" y="2629080"/>
              <a:ext cx="790920" cy="363240"/>
              <a:chOff x="2228400" y="2629080"/>
              <a:chExt cx="790920" cy="363240"/>
            </a:xfrm>
          </p:grpSpPr>
          <p:sp>
            <p:nvSpPr>
              <p:cNvPr id="94" name=""/>
              <p:cNvSpPr/>
              <p:nvPr/>
            </p:nvSpPr>
            <p:spPr>
              <a:xfrm>
                <a:off x="2627280" y="2629080"/>
                <a:ext cx="392040" cy="3632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2234880" y="2803680"/>
                <a:ext cx="392400" cy="144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2228400" y="2636640"/>
                <a:ext cx="392040" cy="144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911520" y="1168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6228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59280" y="264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1400" y="534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033280" y="4143240"/>
              <a:ext cx="577440" cy="368280"/>
              <a:chOff x="2033280" y="4143240"/>
              <a:chExt cx="577440" cy="3682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2033280" y="4248000"/>
                <a:ext cx="254160" cy="146160"/>
                <a:chOff x="2033280" y="4248000"/>
                <a:chExt cx="254160" cy="1461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033640" y="4248000"/>
                  <a:ext cx="253800" cy="146160"/>
                </a:xfrm>
                <a:prstGeom prst="line">
                  <a:avLst/>
                </a:prstGeom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2033280" y="4248000"/>
                  <a:ext cx="253800" cy="146160"/>
                </a:xfrm>
                <a:prstGeom prst="line">
                  <a:avLst/>
                </a:prstGeom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2303640" y="4143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297520" y="5194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043280" y="5315040"/>
              <a:ext cx="563040" cy="368280"/>
              <a:chOff x="1043280" y="5315040"/>
              <a:chExt cx="563040" cy="36828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1352160" y="5416560"/>
                <a:ext cx="254160" cy="145800"/>
                <a:chOff x="1352160" y="5416560"/>
                <a:chExt cx="254160" cy="1458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352520" y="5416560"/>
                  <a:ext cx="253800" cy="14580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1352160" y="5416560"/>
                  <a:ext cx="253800" cy="14580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1043280" y="5315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036800" y="468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83000" y="468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347480" y="5032440"/>
              <a:ext cx="577440" cy="368280"/>
              <a:chOff x="1347480" y="5032440"/>
              <a:chExt cx="577440" cy="3682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347480" y="5136840"/>
                <a:ext cx="254160" cy="145800"/>
                <a:chOff x="1347480" y="5136840"/>
                <a:chExt cx="254160" cy="145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347840" y="5136840"/>
                  <a:ext cx="253800" cy="145800"/>
                </a:xfrm>
                <a:prstGeom prst="line">
                  <a:avLst/>
                </a:prstGeom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1347480" y="5136840"/>
                  <a:ext cx="253800" cy="145800"/>
                </a:xfrm>
                <a:prstGeom prst="line">
                  <a:avLst/>
                </a:prstGeom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1617840" y="5032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Bus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Interface between PC and EIA485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Personal Computer Interfac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Serial EIA232 interface at 19200 b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Data format : 8 bits/char, no parity, one stop 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EIA485 bidirectional bu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Talk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: from master to slave, Red bus led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Listen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: from slave to master, Green bus led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Bus reset sequence : 0AH,0DH,0DH,0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Slave command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: 0AH, 0DH, Command byte, Data by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Slave answer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: 0DH, Slave ID byte, Answer by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Displa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Left display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: Command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ight display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: Data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Bus Master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362240"/>
          <a:ext cx="8229600" cy="4754520"/>
        </p:xfrm>
        <a:graphic>
          <a:graphicData uri="http://schemas.openxmlformats.org/drawingml/2006/table">
            <a:tbl>
              <a:tblPr/>
              <a:tblGrid>
                <a:gridCol w="774720"/>
                <a:gridCol w="3327480"/>
                <a:gridCol w="673200"/>
                <a:gridCol w="2082600"/>
                <a:gridCol w="1371600"/>
              </a:tblGrid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Ca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_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ter Initialization, step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_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Sync_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ter Initialization, ste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_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Sync_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ter Initialization, ste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_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Sync_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master Initia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_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(Sync_M and Sync_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Synchro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_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Receiving Comm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Sync_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_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Receiving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by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transmi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tane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 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_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Bus Slave</a:t>
            </a:r>
            <a:br>
              <a:rPr sz="40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Comm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501120" y="2036880"/>
            <a:ext cx="6863400" cy="3109680"/>
            <a:chOff x="501120" y="2036880"/>
            <a:chExt cx="6863400" cy="3109680"/>
          </a:xfrm>
        </p:grpSpPr>
        <p:sp>
          <p:nvSpPr>
            <p:cNvPr id="539" name=""/>
            <p:cNvSpPr/>
            <p:nvPr/>
          </p:nvSpPr>
          <p:spPr>
            <a:xfrm>
              <a:off x="1030320" y="2036880"/>
              <a:ext cx="5830920" cy="3109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30320" y="2036880"/>
              <a:ext cx="5830920" cy="3109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05000" y="2692440"/>
              <a:ext cx="187200" cy="177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05000" y="2692440"/>
              <a:ext cx="187200" cy="1778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41360" y="2735280"/>
              <a:ext cx="98640" cy="93600"/>
            </a:xfrm>
            <a:custGeom>
              <a:avLst/>
              <a:gdLst/>
              <a:ahLst/>
              <a:rect l="l" t="t" r="r" b="b"/>
              <a:pathLst>
                <a:path w="63" h="60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9" y="57"/>
                  </a:lnTo>
                  <a:lnTo>
                    <a:pt x="24" y="60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4" y="57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8" y="46"/>
                  </a:lnTo>
                  <a:lnTo>
                    <a:pt x="61" y="42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3" y="23"/>
                  </a:lnTo>
                  <a:lnTo>
                    <a:pt x="61" y="18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41360" y="2735280"/>
              <a:ext cx="98640" cy="93600"/>
            </a:xfrm>
            <a:custGeom>
              <a:avLst/>
              <a:gdLst/>
              <a:ahLst/>
              <a:rect l="l" t="t" r="r" b="b"/>
              <a:pathLst>
                <a:path w="63" h="60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9" y="57"/>
                  </a:lnTo>
                  <a:lnTo>
                    <a:pt x="24" y="60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4" y="57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8" y="46"/>
                  </a:lnTo>
                  <a:lnTo>
                    <a:pt x="61" y="42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3" y="23"/>
                  </a:lnTo>
                  <a:lnTo>
                    <a:pt x="61" y="18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05000" y="2870280"/>
              <a:ext cx="187200" cy="180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05000" y="2870280"/>
              <a:ext cx="187200" cy="1807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41360" y="2914560"/>
              <a:ext cx="98640" cy="9216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31" y="0"/>
                  </a:moveTo>
                  <a:lnTo>
                    <a:pt x="24" y="0"/>
                  </a:lnTo>
                  <a:lnTo>
                    <a:pt x="19" y="2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5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1" y="59"/>
                  </a:lnTo>
                  <a:lnTo>
                    <a:pt x="38" y="59"/>
                  </a:lnTo>
                  <a:lnTo>
                    <a:pt x="44" y="58"/>
                  </a:lnTo>
                  <a:lnTo>
                    <a:pt x="49" y="55"/>
                  </a:lnTo>
                  <a:lnTo>
                    <a:pt x="54" y="52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63" y="24"/>
                  </a:lnTo>
                  <a:lnTo>
                    <a:pt x="61" y="17"/>
                  </a:lnTo>
                  <a:lnTo>
                    <a:pt x="58" y="13"/>
                  </a:lnTo>
                  <a:lnTo>
                    <a:pt x="54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41360" y="2914560"/>
              <a:ext cx="98640" cy="9216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31" y="0"/>
                  </a:moveTo>
                  <a:lnTo>
                    <a:pt x="24" y="0"/>
                  </a:lnTo>
                  <a:lnTo>
                    <a:pt x="19" y="2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5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1" y="59"/>
                  </a:lnTo>
                  <a:lnTo>
                    <a:pt x="38" y="59"/>
                  </a:lnTo>
                  <a:lnTo>
                    <a:pt x="44" y="58"/>
                  </a:lnTo>
                  <a:lnTo>
                    <a:pt x="49" y="55"/>
                  </a:lnTo>
                  <a:lnTo>
                    <a:pt x="54" y="52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63" y="24"/>
                  </a:lnTo>
                  <a:lnTo>
                    <a:pt x="61" y="17"/>
                  </a:lnTo>
                  <a:lnTo>
                    <a:pt x="58" y="13"/>
                  </a:lnTo>
                  <a:lnTo>
                    <a:pt x="54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05000" y="3051000"/>
              <a:ext cx="187200" cy="1796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05000" y="3051000"/>
              <a:ext cx="187200" cy="1796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1360" y="3092400"/>
              <a:ext cx="98640" cy="954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8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41360" y="3092400"/>
              <a:ext cx="98640" cy="954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8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05000" y="3232080"/>
              <a:ext cx="187200" cy="177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05000" y="3232080"/>
              <a:ext cx="187200" cy="1778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41360" y="3273480"/>
              <a:ext cx="98640" cy="9504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9" y="57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7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8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41360" y="3273480"/>
              <a:ext cx="98640" cy="9504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9" y="57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7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8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05000" y="3409920"/>
              <a:ext cx="187200" cy="181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05000" y="3409920"/>
              <a:ext cx="187200" cy="181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41360" y="3454560"/>
              <a:ext cx="98640" cy="936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63" y="24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41360" y="3454560"/>
              <a:ext cx="98640" cy="936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63" y="24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05000" y="3770280"/>
              <a:ext cx="187200" cy="181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05000" y="3770280"/>
              <a:ext cx="187200" cy="181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41360" y="3811680"/>
              <a:ext cx="9864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5" y="48"/>
                  </a:lnTo>
                  <a:lnTo>
                    <a:pt x="10" y="53"/>
                  </a:lnTo>
                  <a:lnTo>
                    <a:pt x="15" y="58"/>
                  </a:lnTo>
                  <a:lnTo>
                    <a:pt x="19" y="59"/>
                  </a:lnTo>
                  <a:lnTo>
                    <a:pt x="24" y="62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44" y="59"/>
                  </a:lnTo>
                  <a:lnTo>
                    <a:pt x="49" y="58"/>
                  </a:lnTo>
                  <a:lnTo>
                    <a:pt x="54" y="53"/>
                  </a:lnTo>
                  <a:lnTo>
                    <a:pt x="58" y="48"/>
                  </a:lnTo>
                  <a:lnTo>
                    <a:pt x="61" y="43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8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41360" y="3811680"/>
              <a:ext cx="9864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5" y="48"/>
                  </a:lnTo>
                  <a:lnTo>
                    <a:pt x="10" y="53"/>
                  </a:lnTo>
                  <a:lnTo>
                    <a:pt x="15" y="58"/>
                  </a:lnTo>
                  <a:lnTo>
                    <a:pt x="19" y="59"/>
                  </a:lnTo>
                  <a:lnTo>
                    <a:pt x="24" y="62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44" y="59"/>
                  </a:lnTo>
                  <a:lnTo>
                    <a:pt x="49" y="58"/>
                  </a:lnTo>
                  <a:lnTo>
                    <a:pt x="54" y="53"/>
                  </a:lnTo>
                  <a:lnTo>
                    <a:pt x="58" y="48"/>
                  </a:lnTo>
                  <a:lnTo>
                    <a:pt x="61" y="43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8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05000" y="3951360"/>
              <a:ext cx="187200" cy="181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05000" y="3951360"/>
              <a:ext cx="187200" cy="181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41360" y="3992400"/>
              <a:ext cx="98640" cy="986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10" y="53"/>
                  </a:lnTo>
                  <a:lnTo>
                    <a:pt x="15" y="58"/>
                  </a:lnTo>
                  <a:lnTo>
                    <a:pt x="19" y="60"/>
                  </a:lnTo>
                  <a:lnTo>
                    <a:pt x="24" y="63"/>
                  </a:lnTo>
                  <a:lnTo>
                    <a:pt x="31" y="63"/>
                  </a:lnTo>
                  <a:lnTo>
                    <a:pt x="38" y="63"/>
                  </a:lnTo>
                  <a:lnTo>
                    <a:pt x="44" y="60"/>
                  </a:lnTo>
                  <a:lnTo>
                    <a:pt x="49" y="58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4"/>
                  </a:lnTo>
                  <a:lnTo>
                    <a:pt x="63" y="38"/>
                  </a:lnTo>
                  <a:lnTo>
                    <a:pt x="63" y="32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41360" y="3992400"/>
              <a:ext cx="98640" cy="986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10" y="53"/>
                  </a:lnTo>
                  <a:lnTo>
                    <a:pt x="15" y="58"/>
                  </a:lnTo>
                  <a:lnTo>
                    <a:pt x="19" y="60"/>
                  </a:lnTo>
                  <a:lnTo>
                    <a:pt x="24" y="63"/>
                  </a:lnTo>
                  <a:lnTo>
                    <a:pt x="31" y="63"/>
                  </a:lnTo>
                  <a:lnTo>
                    <a:pt x="38" y="63"/>
                  </a:lnTo>
                  <a:lnTo>
                    <a:pt x="44" y="60"/>
                  </a:lnTo>
                  <a:lnTo>
                    <a:pt x="49" y="58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4"/>
                  </a:lnTo>
                  <a:lnTo>
                    <a:pt x="63" y="38"/>
                  </a:lnTo>
                  <a:lnTo>
                    <a:pt x="63" y="32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05000" y="4132440"/>
              <a:ext cx="187200" cy="180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05000" y="4132440"/>
              <a:ext cx="187200" cy="1807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41360" y="4173480"/>
              <a:ext cx="98640" cy="954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41360" y="4173480"/>
              <a:ext cx="98640" cy="954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05000" y="4313160"/>
              <a:ext cx="187200" cy="177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05000" y="4313160"/>
              <a:ext cx="187200" cy="1778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41360" y="4352760"/>
              <a:ext cx="98640" cy="954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4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10" y="54"/>
                  </a:lnTo>
                  <a:lnTo>
                    <a:pt x="15" y="57"/>
                  </a:lnTo>
                  <a:lnTo>
                    <a:pt x="19" y="60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60"/>
                  </a:lnTo>
                  <a:lnTo>
                    <a:pt x="49" y="57"/>
                  </a:lnTo>
                  <a:lnTo>
                    <a:pt x="54" y="54"/>
                  </a:lnTo>
                  <a:lnTo>
                    <a:pt x="58" y="49"/>
                  </a:lnTo>
                  <a:lnTo>
                    <a:pt x="61" y="44"/>
                  </a:lnTo>
                  <a:lnTo>
                    <a:pt x="63" y="38"/>
                  </a:lnTo>
                  <a:lnTo>
                    <a:pt x="63" y="32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49" y="5"/>
                  </a:lnTo>
                  <a:lnTo>
                    <a:pt x="44" y="4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41360" y="4352760"/>
              <a:ext cx="98640" cy="954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4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10" y="54"/>
                  </a:lnTo>
                  <a:lnTo>
                    <a:pt x="15" y="57"/>
                  </a:lnTo>
                  <a:lnTo>
                    <a:pt x="19" y="60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60"/>
                  </a:lnTo>
                  <a:lnTo>
                    <a:pt x="49" y="57"/>
                  </a:lnTo>
                  <a:lnTo>
                    <a:pt x="54" y="54"/>
                  </a:lnTo>
                  <a:lnTo>
                    <a:pt x="58" y="49"/>
                  </a:lnTo>
                  <a:lnTo>
                    <a:pt x="61" y="44"/>
                  </a:lnTo>
                  <a:lnTo>
                    <a:pt x="63" y="38"/>
                  </a:lnTo>
                  <a:lnTo>
                    <a:pt x="63" y="32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49" y="5"/>
                  </a:lnTo>
                  <a:lnTo>
                    <a:pt x="44" y="4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05000" y="3592440"/>
              <a:ext cx="187200" cy="177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05000" y="3592440"/>
              <a:ext cx="187200" cy="1778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41360" y="3635280"/>
              <a:ext cx="98640" cy="936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41360" y="3635280"/>
              <a:ext cx="98640" cy="9360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1" y="0"/>
                  </a:moveTo>
                  <a:lnTo>
                    <a:pt x="24" y="0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4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59480" y="3009960"/>
              <a:ext cx="185760" cy="181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59480" y="3009960"/>
              <a:ext cx="185760" cy="181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94400" y="3054240"/>
              <a:ext cx="100080" cy="921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1" y="0"/>
                  </a:moveTo>
                  <a:lnTo>
                    <a:pt x="25" y="0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10" y="50"/>
                  </a:lnTo>
                  <a:lnTo>
                    <a:pt x="15" y="55"/>
                  </a:lnTo>
                  <a:lnTo>
                    <a:pt x="20" y="56"/>
                  </a:lnTo>
                  <a:lnTo>
                    <a:pt x="25" y="59"/>
                  </a:lnTo>
                  <a:lnTo>
                    <a:pt x="31" y="59"/>
                  </a:lnTo>
                  <a:lnTo>
                    <a:pt x="38" y="59"/>
                  </a:lnTo>
                  <a:lnTo>
                    <a:pt x="44" y="56"/>
                  </a:lnTo>
                  <a:lnTo>
                    <a:pt x="49" y="55"/>
                  </a:lnTo>
                  <a:lnTo>
                    <a:pt x="54" y="50"/>
                  </a:lnTo>
                  <a:lnTo>
                    <a:pt x="59" y="45"/>
                  </a:lnTo>
                  <a:lnTo>
                    <a:pt x="61" y="41"/>
                  </a:lnTo>
                  <a:lnTo>
                    <a:pt x="64" y="36"/>
                  </a:lnTo>
                  <a:lnTo>
                    <a:pt x="64" y="30"/>
                  </a:lnTo>
                  <a:lnTo>
                    <a:pt x="64" y="24"/>
                  </a:lnTo>
                  <a:lnTo>
                    <a:pt x="61" y="17"/>
                  </a:lnTo>
                  <a:lnTo>
                    <a:pt x="59" y="13"/>
                  </a:lnTo>
                  <a:lnTo>
                    <a:pt x="54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94400" y="3054240"/>
              <a:ext cx="100080" cy="921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1" y="0"/>
                  </a:moveTo>
                  <a:lnTo>
                    <a:pt x="25" y="0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10" y="50"/>
                  </a:lnTo>
                  <a:lnTo>
                    <a:pt x="15" y="55"/>
                  </a:lnTo>
                  <a:lnTo>
                    <a:pt x="20" y="56"/>
                  </a:lnTo>
                  <a:lnTo>
                    <a:pt x="25" y="59"/>
                  </a:lnTo>
                  <a:lnTo>
                    <a:pt x="31" y="59"/>
                  </a:lnTo>
                  <a:lnTo>
                    <a:pt x="38" y="59"/>
                  </a:lnTo>
                  <a:lnTo>
                    <a:pt x="44" y="56"/>
                  </a:lnTo>
                  <a:lnTo>
                    <a:pt x="49" y="55"/>
                  </a:lnTo>
                  <a:lnTo>
                    <a:pt x="54" y="50"/>
                  </a:lnTo>
                  <a:lnTo>
                    <a:pt x="59" y="45"/>
                  </a:lnTo>
                  <a:lnTo>
                    <a:pt x="61" y="41"/>
                  </a:lnTo>
                  <a:lnTo>
                    <a:pt x="64" y="36"/>
                  </a:lnTo>
                  <a:lnTo>
                    <a:pt x="64" y="30"/>
                  </a:lnTo>
                  <a:lnTo>
                    <a:pt x="64" y="24"/>
                  </a:lnTo>
                  <a:lnTo>
                    <a:pt x="61" y="17"/>
                  </a:lnTo>
                  <a:lnTo>
                    <a:pt x="59" y="13"/>
                  </a:lnTo>
                  <a:lnTo>
                    <a:pt x="54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59480" y="3191040"/>
              <a:ext cx="185760" cy="1774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59480" y="3191040"/>
              <a:ext cx="185760" cy="1774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94400" y="3232080"/>
              <a:ext cx="100080" cy="921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1" y="0"/>
                  </a:moveTo>
                  <a:lnTo>
                    <a:pt x="25" y="0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5"/>
                  </a:lnTo>
                  <a:lnTo>
                    <a:pt x="20" y="58"/>
                  </a:lnTo>
                  <a:lnTo>
                    <a:pt x="25" y="59"/>
                  </a:lnTo>
                  <a:lnTo>
                    <a:pt x="31" y="59"/>
                  </a:lnTo>
                  <a:lnTo>
                    <a:pt x="38" y="59"/>
                  </a:lnTo>
                  <a:lnTo>
                    <a:pt x="44" y="58"/>
                  </a:lnTo>
                  <a:lnTo>
                    <a:pt x="49" y="55"/>
                  </a:lnTo>
                  <a:lnTo>
                    <a:pt x="54" y="52"/>
                  </a:lnTo>
                  <a:lnTo>
                    <a:pt x="59" y="47"/>
                  </a:lnTo>
                  <a:lnTo>
                    <a:pt x="61" y="42"/>
                  </a:lnTo>
                  <a:lnTo>
                    <a:pt x="64" y="36"/>
                  </a:lnTo>
                  <a:lnTo>
                    <a:pt x="64" y="30"/>
                  </a:lnTo>
                  <a:lnTo>
                    <a:pt x="64" y="24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94400" y="3232080"/>
              <a:ext cx="100080" cy="921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1" y="0"/>
                  </a:moveTo>
                  <a:lnTo>
                    <a:pt x="25" y="0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5"/>
                  </a:lnTo>
                  <a:lnTo>
                    <a:pt x="20" y="58"/>
                  </a:lnTo>
                  <a:lnTo>
                    <a:pt x="25" y="59"/>
                  </a:lnTo>
                  <a:lnTo>
                    <a:pt x="31" y="59"/>
                  </a:lnTo>
                  <a:lnTo>
                    <a:pt x="38" y="59"/>
                  </a:lnTo>
                  <a:lnTo>
                    <a:pt x="44" y="58"/>
                  </a:lnTo>
                  <a:lnTo>
                    <a:pt x="49" y="55"/>
                  </a:lnTo>
                  <a:lnTo>
                    <a:pt x="54" y="52"/>
                  </a:lnTo>
                  <a:lnTo>
                    <a:pt x="59" y="47"/>
                  </a:lnTo>
                  <a:lnTo>
                    <a:pt x="61" y="42"/>
                  </a:lnTo>
                  <a:lnTo>
                    <a:pt x="64" y="36"/>
                  </a:lnTo>
                  <a:lnTo>
                    <a:pt x="64" y="30"/>
                  </a:lnTo>
                  <a:lnTo>
                    <a:pt x="64" y="24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59480" y="3368520"/>
              <a:ext cx="185760" cy="1796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59480" y="3368520"/>
              <a:ext cx="185760" cy="1796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94400" y="3409920"/>
              <a:ext cx="100080" cy="9540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1" y="0"/>
                  </a:moveTo>
                  <a:lnTo>
                    <a:pt x="25" y="0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10" y="53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4" y="53"/>
                  </a:lnTo>
                  <a:lnTo>
                    <a:pt x="59" y="49"/>
                  </a:lnTo>
                  <a:lnTo>
                    <a:pt x="61" y="44"/>
                  </a:lnTo>
                  <a:lnTo>
                    <a:pt x="64" y="38"/>
                  </a:lnTo>
                  <a:lnTo>
                    <a:pt x="64" y="31"/>
                  </a:lnTo>
                  <a:lnTo>
                    <a:pt x="64" y="25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94400" y="3409920"/>
              <a:ext cx="100080" cy="9540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1" y="0"/>
                  </a:moveTo>
                  <a:lnTo>
                    <a:pt x="25" y="0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10" y="53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4" y="53"/>
                  </a:lnTo>
                  <a:lnTo>
                    <a:pt x="59" y="49"/>
                  </a:lnTo>
                  <a:lnTo>
                    <a:pt x="61" y="44"/>
                  </a:lnTo>
                  <a:lnTo>
                    <a:pt x="64" y="38"/>
                  </a:lnTo>
                  <a:lnTo>
                    <a:pt x="64" y="31"/>
                  </a:lnTo>
                  <a:lnTo>
                    <a:pt x="64" y="25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59480" y="3548160"/>
              <a:ext cx="185760" cy="180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59480" y="3548160"/>
              <a:ext cx="185760" cy="1807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94400" y="3592440"/>
              <a:ext cx="100080" cy="9360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31" y="0"/>
                  </a:moveTo>
                  <a:lnTo>
                    <a:pt x="25" y="0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5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4" y="58"/>
                  </a:lnTo>
                  <a:lnTo>
                    <a:pt x="49" y="55"/>
                  </a:lnTo>
                  <a:lnTo>
                    <a:pt x="54" y="52"/>
                  </a:lnTo>
                  <a:lnTo>
                    <a:pt x="59" y="47"/>
                  </a:lnTo>
                  <a:lnTo>
                    <a:pt x="61" y="42"/>
                  </a:lnTo>
                  <a:lnTo>
                    <a:pt x="64" y="36"/>
                  </a:lnTo>
                  <a:lnTo>
                    <a:pt x="64" y="30"/>
                  </a:lnTo>
                  <a:lnTo>
                    <a:pt x="64" y="24"/>
                  </a:lnTo>
                  <a:lnTo>
                    <a:pt x="61" y="17"/>
                  </a:lnTo>
                  <a:lnTo>
                    <a:pt x="59" y="13"/>
                  </a:lnTo>
                  <a:lnTo>
                    <a:pt x="54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94400" y="3592440"/>
              <a:ext cx="100080" cy="9360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31" y="0"/>
                  </a:moveTo>
                  <a:lnTo>
                    <a:pt x="25" y="0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5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4" y="58"/>
                  </a:lnTo>
                  <a:lnTo>
                    <a:pt x="49" y="55"/>
                  </a:lnTo>
                  <a:lnTo>
                    <a:pt x="54" y="52"/>
                  </a:lnTo>
                  <a:lnTo>
                    <a:pt x="59" y="47"/>
                  </a:lnTo>
                  <a:lnTo>
                    <a:pt x="61" y="42"/>
                  </a:lnTo>
                  <a:lnTo>
                    <a:pt x="64" y="36"/>
                  </a:lnTo>
                  <a:lnTo>
                    <a:pt x="64" y="30"/>
                  </a:lnTo>
                  <a:lnTo>
                    <a:pt x="64" y="24"/>
                  </a:lnTo>
                  <a:lnTo>
                    <a:pt x="61" y="17"/>
                  </a:lnTo>
                  <a:lnTo>
                    <a:pt x="59" y="13"/>
                  </a:lnTo>
                  <a:lnTo>
                    <a:pt x="54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59480" y="3728880"/>
              <a:ext cx="185760" cy="1796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59480" y="3728880"/>
              <a:ext cx="185760" cy="1796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94400" y="3770280"/>
              <a:ext cx="100080" cy="9540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1" y="0"/>
                  </a:moveTo>
                  <a:lnTo>
                    <a:pt x="25" y="0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5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9" y="47"/>
                  </a:lnTo>
                  <a:lnTo>
                    <a:pt x="61" y="42"/>
                  </a:lnTo>
                  <a:lnTo>
                    <a:pt x="64" y="38"/>
                  </a:lnTo>
                  <a:lnTo>
                    <a:pt x="64" y="31"/>
                  </a:lnTo>
                  <a:lnTo>
                    <a:pt x="64" y="25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4" y="10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94400" y="3770280"/>
              <a:ext cx="100080" cy="9540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1" y="0"/>
                  </a:moveTo>
                  <a:lnTo>
                    <a:pt x="25" y="0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5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9" y="47"/>
                  </a:lnTo>
                  <a:lnTo>
                    <a:pt x="61" y="42"/>
                  </a:lnTo>
                  <a:lnTo>
                    <a:pt x="64" y="38"/>
                  </a:lnTo>
                  <a:lnTo>
                    <a:pt x="64" y="31"/>
                  </a:lnTo>
                  <a:lnTo>
                    <a:pt x="64" y="25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4" y="10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59480" y="3909960"/>
              <a:ext cx="185760" cy="177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59480" y="3909960"/>
              <a:ext cx="185760" cy="1778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494400" y="3951360"/>
              <a:ext cx="100080" cy="950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1" y="0"/>
                  </a:moveTo>
                  <a:lnTo>
                    <a:pt x="25" y="0"/>
                  </a:lnTo>
                  <a:lnTo>
                    <a:pt x="20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5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9" y="47"/>
                  </a:lnTo>
                  <a:lnTo>
                    <a:pt x="61" y="42"/>
                  </a:lnTo>
                  <a:lnTo>
                    <a:pt x="64" y="37"/>
                  </a:lnTo>
                  <a:lnTo>
                    <a:pt x="64" y="31"/>
                  </a:lnTo>
                  <a:lnTo>
                    <a:pt x="64" y="25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94400" y="3951360"/>
              <a:ext cx="100080" cy="950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1" y="0"/>
                  </a:moveTo>
                  <a:lnTo>
                    <a:pt x="25" y="0"/>
                  </a:lnTo>
                  <a:lnTo>
                    <a:pt x="20" y="3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5" y="61"/>
                  </a:lnTo>
                  <a:lnTo>
                    <a:pt x="31" y="61"/>
                  </a:lnTo>
                  <a:lnTo>
                    <a:pt x="38" y="61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4" y="51"/>
                  </a:lnTo>
                  <a:lnTo>
                    <a:pt x="59" y="47"/>
                  </a:lnTo>
                  <a:lnTo>
                    <a:pt x="61" y="42"/>
                  </a:lnTo>
                  <a:lnTo>
                    <a:pt x="64" y="37"/>
                  </a:lnTo>
                  <a:lnTo>
                    <a:pt x="64" y="31"/>
                  </a:lnTo>
                  <a:lnTo>
                    <a:pt x="64" y="25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27560" y="2484360"/>
              <a:ext cx="108000" cy="11592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4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9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6" y="68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4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4" y="68"/>
                  </a:lnTo>
                  <a:lnTo>
                    <a:pt x="59" y="64"/>
                  </a:lnTo>
                  <a:lnTo>
                    <a:pt x="64" y="58"/>
                  </a:lnTo>
                  <a:lnTo>
                    <a:pt x="66" y="51"/>
                  </a:lnTo>
                  <a:lnTo>
                    <a:pt x="69" y="45"/>
                  </a:lnTo>
                  <a:lnTo>
                    <a:pt x="69" y="37"/>
                  </a:lnTo>
                  <a:lnTo>
                    <a:pt x="69" y="29"/>
                  </a:lnTo>
                  <a:lnTo>
                    <a:pt x="66" y="23"/>
                  </a:lnTo>
                  <a:lnTo>
                    <a:pt x="64" y="17"/>
                  </a:lnTo>
                  <a:lnTo>
                    <a:pt x="59" y="11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27560" y="2484360"/>
              <a:ext cx="108000" cy="11592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4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9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6" y="68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4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4" y="68"/>
                  </a:lnTo>
                  <a:lnTo>
                    <a:pt x="59" y="64"/>
                  </a:lnTo>
                  <a:lnTo>
                    <a:pt x="64" y="58"/>
                  </a:lnTo>
                  <a:lnTo>
                    <a:pt x="66" y="51"/>
                  </a:lnTo>
                  <a:lnTo>
                    <a:pt x="69" y="45"/>
                  </a:lnTo>
                  <a:lnTo>
                    <a:pt x="69" y="37"/>
                  </a:lnTo>
                  <a:lnTo>
                    <a:pt x="69" y="29"/>
                  </a:lnTo>
                  <a:lnTo>
                    <a:pt x="66" y="23"/>
                  </a:lnTo>
                  <a:lnTo>
                    <a:pt x="64" y="17"/>
                  </a:lnTo>
                  <a:lnTo>
                    <a:pt x="59" y="11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27560" y="2682720"/>
              <a:ext cx="108000" cy="11448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34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9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9" y="62"/>
                  </a:lnTo>
                  <a:lnTo>
                    <a:pt x="16" y="67"/>
                  </a:lnTo>
                  <a:lnTo>
                    <a:pt x="21" y="70"/>
                  </a:lnTo>
                  <a:lnTo>
                    <a:pt x="28" y="73"/>
                  </a:lnTo>
                  <a:lnTo>
                    <a:pt x="34" y="73"/>
                  </a:lnTo>
                  <a:lnTo>
                    <a:pt x="41" y="73"/>
                  </a:lnTo>
                  <a:lnTo>
                    <a:pt x="48" y="70"/>
                  </a:lnTo>
                  <a:lnTo>
                    <a:pt x="54" y="67"/>
                  </a:lnTo>
                  <a:lnTo>
                    <a:pt x="59" y="62"/>
                  </a:lnTo>
                  <a:lnTo>
                    <a:pt x="64" y="58"/>
                  </a:lnTo>
                  <a:lnTo>
                    <a:pt x="66" y="51"/>
                  </a:lnTo>
                  <a:lnTo>
                    <a:pt x="69" y="45"/>
                  </a:lnTo>
                  <a:lnTo>
                    <a:pt x="69" y="37"/>
                  </a:lnTo>
                  <a:lnTo>
                    <a:pt x="69" y="29"/>
                  </a:lnTo>
                  <a:lnTo>
                    <a:pt x="66" y="23"/>
                  </a:lnTo>
                  <a:lnTo>
                    <a:pt x="64" y="17"/>
                  </a:lnTo>
                  <a:lnTo>
                    <a:pt x="59" y="11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27560" y="2682720"/>
              <a:ext cx="108000" cy="11448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34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9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9" y="62"/>
                  </a:lnTo>
                  <a:lnTo>
                    <a:pt x="16" y="67"/>
                  </a:lnTo>
                  <a:lnTo>
                    <a:pt x="21" y="70"/>
                  </a:lnTo>
                  <a:lnTo>
                    <a:pt x="28" y="73"/>
                  </a:lnTo>
                  <a:lnTo>
                    <a:pt x="34" y="73"/>
                  </a:lnTo>
                  <a:lnTo>
                    <a:pt x="41" y="73"/>
                  </a:lnTo>
                  <a:lnTo>
                    <a:pt x="48" y="70"/>
                  </a:lnTo>
                  <a:lnTo>
                    <a:pt x="54" y="67"/>
                  </a:lnTo>
                  <a:lnTo>
                    <a:pt x="59" y="62"/>
                  </a:lnTo>
                  <a:lnTo>
                    <a:pt x="64" y="58"/>
                  </a:lnTo>
                  <a:lnTo>
                    <a:pt x="66" y="51"/>
                  </a:lnTo>
                  <a:lnTo>
                    <a:pt x="69" y="45"/>
                  </a:lnTo>
                  <a:lnTo>
                    <a:pt x="69" y="37"/>
                  </a:lnTo>
                  <a:lnTo>
                    <a:pt x="69" y="29"/>
                  </a:lnTo>
                  <a:lnTo>
                    <a:pt x="66" y="23"/>
                  </a:lnTo>
                  <a:lnTo>
                    <a:pt x="64" y="17"/>
                  </a:lnTo>
                  <a:lnTo>
                    <a:pt x="59" y="11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27560" y="2884320"/>
              <a:ext cx="108000" cy="11304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34" y="0"/>
                  </a:moveTo>
                  <a:lnTo>
                    <a:pt x="28" y="0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9" y="62"/>
                  </a:lnTo>
                  <a:lnTo>
                    <a:pt x="16" y="67"/>
                  </a:lnTo>
                  <a:lnTo>
                    <a:pt x="21" y="70"/>
                  </a:lnTo>
                  <a:lnTo>
                    <a:pt x="28" y="73"/>
                  </a:lnTo>
                  <a:lnTo>
                    <a:pt x="34" y="73"/>
                  </a:lnTo>
                  <a:lnTo>
                    <a:pt x="41" y="73"/>
                  </a:lnTo>
                  <a:lnTo>
                    <a:pt x="48" y="70"/>
                  </a:lnTo>
                  <a:lnTo>
                    <a:pt x="54" y="67"/>
                  </a:lnTo>
                  <a:lnTo>
                    <a:pt x="59" y="62"/>
                  </a:lnTo>
                  <a:lnTo>
                    <a:pt x="64" y="58"/>
                  </a:lnTo>
                  <a:lnTo>
                    <a:pt x="66" y="51"/>
                  </a:lnTo>
                  <a:lnTo>
                    <a:pt x="69" y="44"/>
                  </a:lnTo>
                  <a:lnTo>
                    <a:pt x="69" y="36"/>
                  </a:lnTo>
                  <a:lnTo>
                    <a:pt x="69" y="28"/>
                  </a:lnTo>
                  <a:lnTo>
                    <a:pt x="66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27560" y="2884320"/>
              <a:ext cx="108000" cy="11304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34" y="0"/>
                  </a:moveTo>
                  <a:lnTo>
                    <a:pt x="28" y="0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9" y="62"/>
                  </a:lnTo>
                  <a:lnTo>
                    <a:pt x="16" y="67"/>
                  </a:lnTo>
                  <a:lnTo>
                    <a:pt x="21" y="70"/>
                  </a:lnTo>
                  <a:lnTo>
                    <a:pt x="28" y="73"/>
                  </a:lnTo>
                  <a:lnTo>
                    <a:pt x="34" y="73"/>
                  </a:lnTo>
                  <a:lnTo>
                    <a:pt x="41" y="73"/>
                  </a:lnTo>
                  <a:lnTo>
                    <a:pt x="48" y="70"/>
                  </a:lnTo>
                  <a:lnTo>
                    <a:pt x="54" y="67"/>
                  </a:lnTo>
                  <a:lnTo>
                    <a:pt x="59" y="62"/>
                  </a:lnTo>
                  <a:lnTo>
                    <a:pt x="64" y="58"/>
                  </a:lnTo>
                  <a:lnTo>
                    <a:pt x="66" y="51"/>
                  </a:lnTo>
                  <a:lnTo>
                    <a:pt x="69" y="44"/>
                  </a:lnTo>
                  <a:lnTo>
                    <a:pt x="69" y="36"/>
                  </a:lnTo>
                  <a:lnTo>
                    <a:pt x="69" y="28"/>
                  </a:lnTo>
                  <a:lnTo>
                    <a:pt x="66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1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27560" y="3081240"/>
              <a:ext cx="108000" cy="11592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4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9" y="11"/>
                  </a:lnTo>
                  <a:lnTo>
                    <a:pt x="6" y="17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6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4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4" y="69"/>
                  </a:lnTo>
                  <a:lnTo>
                    <a:pt x="59" y="64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9" y="46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6" y="24"/>
                  </a:lnTo>
                  <a:lnTo>
                    <a:pt x="64" y="17"/>
                  </a:lnTo>
                  <a:lnTo>
                    <a:pt x="59" y="11"/>
                  </a:lnTo>
                  <a:lnTo>
                    <a:pt x="54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27560" y="3081240"/>
              <a:ext cx="108000" cy="11592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4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9" y="11"/>
                  </a:lnTo>
                  <a:lnTo>
                    <a:pt x="6" y="17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6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4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4" y="69"/>
                  </a:lnTo>
                  <a:lnTo>
                    <a:pt x="59" y="64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9" y="46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6" y="24"/>
                  </a:lnTo>
                  <a:lnTo>
                    <a:pt x="64" y="17"/>
                  </a:lnTo>
                  <a:lnTo>
                    <a:pt x="59" y="11"/>
                  </a:lnTo>
                  <a:lnTo>
                    <a:pt x="54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27560" y="3279600"/>
              <a:ext cx="108000" cy="11772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4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9" y="11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6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4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4" y="69"/>
                  </a:lnTo>
                  <a:lnTo>
                    <a:pt x="59" y="64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9" y="46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6" y="24"/>
                  </a:lnTo>
                  <a:lnTo>
                    <a:pt x="64" y="18"/>
                  </a:lnTo>
                  <a:lnTo>
                    <a:pt x="59" y="11"/>
                  </a:lnTo>
                  <a:lnTo>
                    <a:pt x="54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27560" y="3279600"/>
              <a:ext cx="108000" cy="11772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4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9" y="11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6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4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4" y="69"/>
                  </a:lnTo>
                  <a:lnTo>
                    <a:pt x="59" y="64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9" y="46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6" y="24"/>
                  </a:lnTo>
                  <a:lnTo>
                    <a:pt x="64" y="18"/>
                  </a:lnTo>
                  <a:lnTo>
                    <a:pt x="59" y="11"/>
                  </a:lnTo>
                  <a:lnTo>
                    <a:pt x="54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27560" y="3479760"/>
              <a:ext cx="108000" cy="1159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4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9" y="11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3"/>
                  </a:lnTo>
                  <a:lnTo>
                    <a:pt x="16" y="68"/>
                  </a:lnTo>
                  <a:lnTo>
                    <a:pt x="21" y="71"/>
                  </a:lnTo>
                  <a:lnTo>
                    <a:pt x="28" y="74"/>
                  </a:lnTo>
                  <a:lnTo>
                    <a:pt x="34" y="74"/>
                  </a:lnTo>
                  <a:lnTo>
                    <a:pt x="41" y="74"/>
                  </a:lnTo>
                  <a:lnTo>
                    <a:pt x="48" y="71"/>
                  </a:lnTo>
                  <a:lnTo>
                    <a:pt x="54" y="68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9" y="46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6" y="24"/>
                  </a:lnTo>
                  <a:lnTo>
                    <a:pt x="64" y="18"/>
                  </a:lnTo>
                  <a:lnTo>
                    <a:pt x="59" y="11"/>
                  </a:lnTo>
                  <a:lnTo>
                    <a:pt x="54" y="7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27560" y="3479760"/>
              <a:ext cx="108000" cy="1159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4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9" y="11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3"/>
                  </a:lnTo>
                  <a:lnTo>
                    <a:pt x="16" y="68"/>
                  </a:lnTo>
                  <a:lnTo>
                    <a:pt x="21" y="71"/>
                  </a:lnTo>
                  <a:lnTo>
                    <a:pt x="28" y="74"/>
                  </a:lnTo>
                  <a:lnTo>
                    <a:pt x="34" y="74"/>
                  </a:lnTo>
                  <a:lnTo>
                    <a:pt x="41" y="74"/>
                  </a:lnTo>
                  <a:lnTo>
                    <a:pt x="48" y="71"/>
                  </a:lnTo>
                  <a:lnTo>
                    <a:pt x="54" y="68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9" y="46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6" y="24"/>
                  </a:lnTo>
                  <a:lnTo>
                    <a:pt x="64" y="18"/>
                  </a:lnTo>
                  <a:lnTo>
                    <a:pt x="59" y="11"/>
                  </a:lnTo>
                  <a:lnTo>
                    <a:pt x="54" y="7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27560" y="3679920"/>
              <a:ext cx="108000" cy="1159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4" y="0"/>
                  </a:moveTo>
                  <a:lnTo>
                    <a:pt x="28" y="0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9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3"/>
                  </a:lnTo>
                  <a:lnTo>
                    <a:pt x="16" y="68"/>
                  </a:lnTo>
                  <a:lnTo>
                    <a:pt x="21" y="71"/>
                  </a:lnTo>
                  <a:lnTo>
                    <a:pt x="28" y="74"/>
                  </a:lnTo>
                  <a:lnTo>
                    <a:pt x="34" y="74"/>
                  </a:lnTo>
                  <a:lnTo>
                    <a:pt x="41" y="74"/>
                  </a:lnTo>
                  <a:lnTo>
                    <a:pt x="48" y="71"/>
                  </a:lnTo>
                  <a:lnTo>
                    <a:pt x="54" y="68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9" y="46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6" y="22"/>
                  </a:lnTo>
                  <a:lnTo>
                    <a:pt x="64" y="16"/>
                  </a:lnTo>
                  <a:lnTo>
                    <a:pt x="59" y="11"/>
                  </a:lnTo>
                  <a:lnTo>
                    <a:pt x="54" y="7"/>
                  </a:lnTo>
                  <a:lnTo>
                    <a:pt x="48" y="4"/>
                  </a:lnTo>
                  <a:lnTo>
                    <a:pt x="4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27560" y="3679920"/>
              <a:ext cx="108000" cy="1159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4" y="0"/>
                  </a:moveTo>
                  <a:lnTo>
                    <a:pt x="28" y="0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9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3"/>
                  </a:lnTo>
                  <a:lnTo>
                    <a:pt x="16" y="68"/>
                  </a:lnTo>
                  <a:lnTo>
                    <a:pt x="21" y="71"/>
                  </a:lnTo>
                  <a:lnTo>
                    <a:pt x="28" y="74"/>
                  </a:lnTo>
                  <a:lnTo>
                    <a:pt x="34" y="74"/>
                  </a:lnTo>
                  <a:lnTo>
                    <a:pt x="41" y="74"/>
                  </a:lnTo>
                  <a:lnTo>
                    <a:pt x="48" y="71"/>
                  </a:lnTo>
                  <a:lnTo>
                    <a:pt x="54" y="68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9" y="46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6" y="22"/>
                  </a:lnTo>
                  <a:lnTo>
                    <a:pt x="64" y="16"/>
                  </a:lnTo>
                  <a:lnTo>
                    <a:pt x="59" y="11"/>
                  </a:lnTo>
                  <a:lnTo>
                    <a:pt x="54" y="7"/>
                  </a:lnTo>
                  <a:lnTo>
                    <a:pt x="48" y="4"/>
                  </a:lnTo>
                  <a:lnTo>
                    <a:pt x="41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27560" y="3878280"/>
              <a:ext cx="108000" cy="1173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4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9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6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4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4" y="69"/>
                  </a:lnTo>
                  <a:lnTo>
                    <a:pt x="59" y="64"/>
                  </a:lnTo>
                  <a:lnTo>
                    <a:pt x="64" y="58"/>
                  </a:lnTo>
                  <a:lnTo>
                    <a:pt x="66" y="51"/>
                  </a:lnTo>
                  <a:lnTo>
                    <a:pt x="69" y="45"/>
                  </a:lnTo>
                  <a:lnTo>
                    <a:pt x="69" y="37"/>
                  </a:lnTo>
                  <a:lnTo>
                    <a:pt x="69" y="30"/>
                  </a:lnTo>
                  <a:lnTo>
                    <a:pt x="66" y="23"/>
                  </a:lnTo>
                  <a:lnTo>
                    <a:pt x="64" y="17"/>
                  </a:lnTo>
                  <a:lnTo>
                    <a:pt x="59" y="11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27560" y="3878280"/>
              <a:ext cx="108000" cy="1173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4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9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6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4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4" y="69"/>
                  </a:lnTo>
                  <a:lnTo>
                    <a:pt x="59" y="64"/>
                  </a:lnTo>
                  <a:lnTo>
                    <a:pt x="64" y="58"/>
                  </a:lnTo>
                  <a:lnTo>
                    <a:pt x="66" y="51"/>
                  </a:lnTo>
                  <a:lnTo>
                    <a:pt x="69" y="45"/>
                  </a:lnTo>
                  <a:lnTo>
                    <a:pt x="69" y="37"/>
                  </a:lnTo>
                  <a:lnTo>
                    <a:pt x="69" y="30"/>
                  </a:lnTo>
                  <a:lnTo>
                    <a:pt x="66" y="23"/>
                  </a:lnTo>
                  <a:lnTo>
                    <a:pt x="64" y="17"/>
                  </a:lnTo>
                  <a:lnTo>
                    <a:pt x="59" y="11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67120" y="248436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35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5" y="68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3" y="68"/>
                  </a:lnTo>
                  <a:lnTo>
                    <a:pt x="58" y="64"/>
                  </a:lnTo>
                  <a:lnTo>
                    <a:pt x="63" y="58"/>
                  </a:lnTo>
                  <a:lnTo>
                    <a:pt x="64" y="51"/>
                  </a:lnTo>
                  <a:lnTo>
                    <a:pt x="68" y="45"/>
                  </a:lnTo>
                  <a:lnTo>
                    <a:pt x="68" y="37"/>
                  </a:lnTo>
                  <a:lnTo>
                    <a:pt x="68" y="29"/>
                  </a:lnTo>
                  <a:lnTo>
                    <a:pt x="64" y="23"/>
                  </a:lnTo>
                  <a:lnTo>
                    <a:pt x="63" y="17"/>
                  </a:lnTo>
                  <a:lnTo>
                    <a:pt x="58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67120" y="248436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35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5" y="68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3" y="68"/>
                  </a:lnTo>
                  <a:lnTo>
                    <a:pt x="58" y="64"/>
                  </a:lnTo>
                  <a:lnTo>
                    <a:pt x="63" y="58"/>
                  </a:lnTo>
                  <a:lnTo>
                    <a:pt x="64" y="51"/>
                  </a:lnTo>
                  <a:lnTo>
                    <a:pt x="68" y="45"/>
                  </a:lnTo>
                  <a:lnTo>
                    <a:pt x="68" y="37"/>
                  </a:lnTo>
                  <a:lnTo>
                    <a:pt x="68" y="29"/>
                  </a:lnTo>
                  <a:lnTo>
                    <a:pt x="64" y="23"/>
                  </a:lnTo>
                  <a:lnTo>
                    <a:pt x="63" y="17"/>
                  </a:lnTo>
                  <a:lnTo>
                    <a:pt x="58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67120" y="2682720"/>
              <a:ext cx="108000" cy="11448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35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10" y="62"/>
                  </a:lnTo>
                  <a:lnTo>
                    <a:pt x="15" y="67"/>
                  </a:lnTo>
                  <a:lnTo>
                    <a:pt x="21" y="70"/>
                  </a:lnTo>
                  <a:lnTo>
                    <a:pt x="28" y="73"/>
                  </a:lnTo>
                  <a:lnTo>
                    <a:pt x="35" y="73"/>
                  </a:lnTo>
                  <a:lnTo>
                    <a:pt x="41" y="73"/>
                  </a:lnTo>
                  <a:lnTo>
                    <a:pt x="48" y="70"/>
                  </a:lnTo>
                  <a:lnTo>
                    <a:pt x="53" y="67"/>
                  </a:lnTo>
                  <a:lnTo>
                    <a:pt x="58" y="62"/>
                  </a:lnTo>
                  <a:lnTo>
                    <a:pt x="63" y="58"/>
                  </a:lnTo>
                  <a:lnTo>
                    <a:pt x="64" y="51"/>
                  </a:lnTo>
                  <a:lnTo>
                    <a:pt x="68" y="45"/>
                  </a:lnTo>
                  <a:lnTo>
                    <a:pt x="68" y="37"/>
                  </a:lnTo>
                  <a:lnTo>
                    <a:pt x="68" y="29"/>
                  </a:lnTo>
                  <a:lnTo>
                    <a:pt x="64" y="23"/>
                  </a:lnTo>
                  <a:lnTo>
                    <a:pt x="63" y="17"/>
                  </a:lnTo>
                  <a:lnTo>
                    <a:pt x="58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67120" y="2682720"/>
              <a:ext cx="108000" cy="11448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35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10" y="62"/>
                  </a:lnTo>
                  <a:lnTo>
                    <a:pt x="15" y="67"/>
                  </a:lnTo>
                  <a:lnTo>
                    <a:pt x="21" y="70"/>
                  </a:lnTo>
                  <a:lnTo>
                    <a:pt x="28" y="73"/>
                  </a:lnTo>
                  <a:lnTo>
                    <a:pt x="35" y="73"/>
                  </a:lnTo>
                  <a:lnTo>
                    <a:pt x="41" y="73"/>
                  </a:lnTo>
                  <a:lnTo>
                    <a:pt x="48" y="70"/>
                  </a:lnTo>
                  <a:lnTo>
                    <a:pt x="53" y="67"/>
                  </a:lnTo>
                  <a:lnTo>
                    <a:pt x="58" y="62"/>
                  </a:lnTo>
                  <a:lnTo>
                    <a:pt x="63" y="58"/>
                  </a:lnTo>
                  <a:lnTo>
                    <a:pt x="64" y="51"/>
                  </a:lnTo>
                  <a:lnTo>
                    <a:pt x="68" y="45"/>
                  </a:lnTo>
                  <a:lnTo>
                    <a:pt x="68" y="37"/>
                  </a:lnTo>
                  <a:lnTo>
                    <a:pt x="68" y="29"/>
                  </a:lnTo>
                  <a:lnTo>
                    <a:pt x="64" y="23"/>
                  </a:lnTo>
                  <a:lnTo>
                    <a:pt x="63" y="17"/>
                  </a:lnTo>
                  <a:lnTo>
                    <a:pt x="58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67120" y="2884320"/>
              <a:ext cx="108000" cy="1130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35" y="0"/>
                  </a:moveTo>
                  <a:lnTo>
                    <a:pt x="28" y="0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10" y="62"/>
                  </a:lnTo>
                  <a:lnTo>
                    <a:pt x="15" y="67"/>
                  </a:lnTo>
                  <a:lnTo>
                    <a:pt x="21" y="70"/>
                  </a:lnTo>
                  <a:lnTo>
                    <a:pt x="28" y="73"/>
                  </a:lnTo>
                  <a:lnTo>
                    <a:pt x="35" y="73"/>
                  </a:lnTo>
                  <a:lnTo>
                    <a:pt x="41" y="73"/>
                  </a:lnTo>
                  <a:lnTo>
                    <a:pt x="48" y="70"/>
                  </a:lnTo>
                  <a:lnTo>
                    <a:pt x="53" y="67"/>
                  </a:lnTo>
                  <a:lnTo>
                    <a:pt x="58" y="62"/>
                  </a:lnTo>
                  <a:lnTo>
                    <a:pt x="63" y="58"/>
                  </a:lnTo>
                  <a:lnTo>
                    <a:pt x="64" y="51"/>
                  </a:lnTo>
                  <a:lnTo>
                    <a:pt x="68" y="44"/>
                  </a:lnTo>
                  <a:lnTo>
                    <a:pt x="68" y="36"/>
                  </a:lnTo>
                  <a:lnTo>
                    <a:pt x="68" y="28"/>
                  </a:lnTo>
                  <a:lnTo>
                    <a:pt x="64" y="22"/>
                  </a:lnTo>
                  <a:lnTo>
                    <a:pt x="63" y="15"/>
                  </a:lnTo>
                  <a:lnTo>
                    <a:pt x="58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67120" y="2884320"/>
              <a:ext cx="108000" cy="1130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35" y="0"/>
                  </a:moveTo>
                  <a:lnTo>
                    <a:pt x="28" y="0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10" y="62"/>
                  </a:lnTo>
                  <a:lnTo>
                    <a:pt x="15" y="67"/>
                  </a:lnTo>
                  <a:lnTo>
                    <a:pt x="21" y="70"/>
                  </a:lnTo>
                  <a:lnTo>
                    <a:pt x="28" y="73"/>
                  </a:lnTo>
                  <a:lnTo>
                    <a:pt x="35" y="73"/>
                  </a:lnTo>
                  <a:lnTo>
                    <a:pt x="41" y="73"/>
                  </a:lnTo>
                  <a:lnTo>
                    <a:pt x="48" y="70"/>
                  </a:lnTo>
                  <a:lnTo>
                    <a:pt x="53" y="67"/>
                  </a:lnTo>
                  <a:lnTo>
                    <a:pt x="58" y="62"/>
                  </a:lnTo>
                  <a:lnTo>
                    <a:pt x="63" y="58"/>
                  </a:lnTo>
                  <a:lnTo>
                    <a:pt x="64" y="51"/>
                  </a:lnTo>
                  <a:lnTo>
                    <a:pt x="68" y="44"/>
                  </a:lnTo>
                  <a:lnTo>
                    <a:pt x="68" y="36"/>
                  </a:lnTo>
                  <a:lnTo>
                    <a:pt x="68" y="28"/>
                  </a:lnTo>
                  <a:lnTo>
                    <a:pt x="64" y="22"/>
                  </a:lnTo>
                  <a:lnTo>
                    <a:pt x="63" y="15"/>
                  </a:lnTo>
                  <a:lnTo>
                    <a:pt x="58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1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67120" y="308124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35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7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5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3" y="69"/>
                  </a:lnTo>
                  <a:lnTo>
                    <a:pt x="58" y="64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4" y="24"/>
                  </a:lnTo>
                  <a:lnTo>
                    <a:pt x="63" y="17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67120" y="308124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35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7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5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3" y="69"/>
                  </a:lnTo>
                  <a:lnTo>
                    <a:pt x="58" y="64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4" y="24"/>
                  </a:lnTo>
                  <a:lnTo>
                    <a:pt x="63" y="17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767120" y="327960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35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5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3" y="69"/>
                  </a:lnTo>
                  <a:lnTo>
                    <a:pt x="58" y="64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4" y="24"/>
                  </a:lnTo>
                  <a:lnTo>
                    <a:pt x="63" y="18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67120" y="327960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35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5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3" y="69"/>
                  </a:lnTo>
                  <a:lnTo>
                    <a:pt x="58" y="64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4" y="24"/>
                  </a:lnTo>
                  <a:lnTo>
                    <a:pt x="63" y="18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67120" y="347976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35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4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0" y="63"/>
                  </a:lnTo>
                  <a:lnTo>
                    <a:pt x="15" y="68"/>
                  </a:lnTo>
                  <a:lnTo>
                    <a:pt x="21" y="71"/>
                  </a:lnTo>
                  <a:lnTo>
                    <a:pt x="28" y="74"/>
                  </a:lnTo>
                  <a:lnTo>
                    <a:pt x="35" y="74"/>
                  </a:lnTo>
                  <a:lnTo>
                    <a:pt x="41" y="74"/>
                  </a:lnTo>
                  <a:lnTo>
                    <a:pt x="48" y="71"/>
                  </a:lnTo>
                  <a:lnTo>
                    <a:pt x="53" y="68"/>
                  </a:lnTo>
                  <a:lnTo>
                    <a:pt x="58" y="63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4" y="24"/>
                  </a:lnTo>
                  <a:lnTo>
                    <a:pt x="63" y="18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67120" y="347976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35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1" y="4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0" y="63"/>
                  </a:lnTo>
                  <a:lnTo>
                    <a:pt x="15" y="68"/>
                  </a:lnTo>
                  <a:lnTo>
                    <a:pt x="21" y="71"/>
                  </a:lnTo>
                  <a:lnTo>
                    <a:pt x="28" y="74"/>
                  </a:lnTo>
                  <a:lnTo>
                    <a:pt x="35" y="74"/>
                  </a:lnTo>
                  <a:lnTo>
                    <a:pt x="41" y="74"/>
                  </a:lnTo>
                  <a:lnTo>
                    <a:pt x="48" y="71"/>
                  </a:lnTo>
                  <a:lnTo>
                    <a:pt x="53" y="68"/>
                  </a:lnTo>
                  <a:lnTo>
                    <a:pt x="58" y="63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4" y="24"/>
                  </a:lnTo>
                  <a:lnTo>
                    <a:pt x="63" y="18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67120" y="367992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35" y="0"/>
                  </a:moveTo>
                  <a:lnTo>
                    <a:pt x="28" y="0"/>
                  </a:lnTo>
                  <a:lnTo>
                    <a:pt x="21" y="4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0" y="63"/>
                  </a:lnTo>
                  <a:lnTo>
                    <a:pt x="15" y="68"/>
                  </a:lnTo>
                  <a:lnTo>
                    <a:pt x="21" y="71"/>
                  </a:lnTo>
                  <a:lnTo>
                    <a:pt x="28" y="74"/>
                  </a:lnTo>
                  <a:lnTo>
                    <a:pt x="35" y="74"/>
                  </a:lnTo>
                  <a:lnTo>
                    <a:pt x="41" y="74"/>
                  </a:lnTo>
                  <a:lnTo>
                    <a:pt x="48" y="71"/>
                  </a:lnTo>
                  <a:lnTo>
                    <a:pt x="53" y="68"/>
                  </a:lnTo>
                  <a:lnTo>
                    <a:pt x="58" y="63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4" y="22"/>
                  </a:lnTo>
                  <a:lnTo>
                    <a:pt x="63" y="16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4"/>
                  </a:lnTo>
                  <a:lnTo>
                    <a:pt x="4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67120" y="367992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35" y="0"/>
                  </a:moveTo>
                  <a:lnTo>
                    <a:pt x="28" y="0"/>
                  </a:lnTo>
                  <a:lnTo>
                    <a:pt x="21" y="4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0" y="63"/>
                  </a:lnTo>
                  <a:lnTo>
                    <a:pt x="15" y="68"/>
                  </a:lnTo>
                  <a:lnTo>
                    <a:pt x="21" y="71"/>
                  </a:lnTo>
                  <a:lnTo>
                    <a:pt x="28" y="74"/>
                  </a:lnTo>
                  <a:lnTo>
                    <a:pt x="35" y="74"/>
                  </a:lnTo>
                  <a:lnTo>
                    <a:pt x="41" y="74"/>
                  </a:lnTo>
                  <a:lnTo>
                    <a:pt x="48" y="71"/>
                  </a:lnTo>
                  <a:lnTo>
                    <a:pt x="53" y="68"/>
                  </a:lnTo>
                  <a:lnTo>
                    <a:pt x="58" y="63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4" y="22"/>
                  </a:lnTo>
                  <a:lnTo>
                    <a:pt x="63" y="16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4"/>
                  </a:lnTo>
                  <a:lnTo>
                    <a:pt x="41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67120" y="3878280"/>
              <a:ext cx="108000" cy="1173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35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5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3" y="69"/>
                  </a:lnTo>
                  <a:lnTo>
                    <a:pt x="58" y="64"/>
                  </a:lnTo>
                  <a:lnTo>
                    <a:pt x="63" y="58"/>
                  </a:lnTo>
                  <a:lnTo>
                    <a:pt x="64" y="51"/>
                  </a:lnTo>
                  <a:lnTo>
                    <a:pt x="68" y="45"/>
                  </a:lnTo>
                  <a:lnTo>
                    <a:pt x="68" y="37"/>
                  </a:lnTo>
                  <a:lnTo>
                    <a:pt x="68" y="30"/>
                  </a:lnTo>
                  <a:lnTo>
                    <a:pt x="64" y="23"/>
                  </a:lnTo>
                  <a:lnTo>
                    <a:pt x="63" y="17"/>
                  </a:lnTo>
                  <a:lnTo>
                    <a:pt x="58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7120" y="3878280"/>
              <a:ext cx="108000" cy="1173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35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5" y="69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1" y="75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41" y="75"/>
                  </a:lnTo>
                  <a:lnTo>
                    <a:pt x="48" y="72"/>
                  </a:lnTo>
                  <a:lnTo>
                    <a:pt x="53" y="69"/>
                  </a:lnTo>
                  <a:lnTo>
                    <a:pt x="58" y="64"/>
                  </a:lnTo>
                  <a:lnTo>
                    <a:pt x="63" y="58"/>
                  </a:lnTo>
                  <a:lnTo>
                    <a:pt x="64" y="51"/>
                  </a:lnTo>
                  <a:lnTo>
                    <a:pt x="68" y="45"/>
                  </a:lnTo>
                  <a:lnTo>
                    <a:pt x="68" y="37"/>
                  </a:lnTo>
                  <a:lnTo>
                    <a:pt x="68" y="30"/>
                  </a:lnTo>
                  <a:lnTo>
                    <a:pt x="64" y="23"/>
                  </a:lnTo>
                  <a:lnTo>
                    <a:pt x="63" y="17"/>
                  </a:lnTo>
                  <a:lnTo>
                    <a:pt x="58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81760" y="2832120"/>
              <a:ext cx="453960" cy="760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81760" y="2832120"/>
              <a:ext cx="453960" cy="760320"/>
            </a:xfrm>
            <a:prstGeom prst="rect">
              <a:avLst/>
            </a:prstGeom>
            <a:noFill/>
            <a:ln w="7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05240" y="3017880"/>
              <a:ext cx="208080" cy="144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70320" y="3225960"/>
              <a:ext cx="209880" cy="288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170320" y="3012840"/>
              <a:ext cx="36720" cy="21276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132520" y="3236400"/>
              <a:ext cx="37800" cy="21276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37200" y="3433680"/>
              <a:ext cx="208080" cy="324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364000" y="3000240"/>
              <a:ext cx="38160" cy="21456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326200" y="3222360"/>
              <a:ext cx="37800" cy="21420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10080" y="34020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0"/>
                  </a:moveTo>
                  <a:lnTo>
                    <a:pt x="12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4" y="25"/>
                  </a:lnTo>
                  <a:lnTo>
                    <a:pt x="25" y="24"/>
                  </a:lnTo>
                  <a:lnTo>
                    <a:pt x="27" y="22"/>
                  </a:lnTo>
                  <a:lnTo>
                    <a:pt x="29" y="19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10080" y="34020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0"/>
                  </a:moveTo>
                  <a:lnTo>
                    <a:pt x="12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4" y="25"/>
                  </a:lnTo>
                  <a:lnTo>
                    <a:pt x="25" y="24"/>
                  </a:lnTo>
                  <a:lnTo>
                    <a:pt x="27" y="22"/>
                  </a:lnTo>
                  <a:lnTo>
                    <a:pt x="29" y="19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4" y="0"/>
                  </a:lnTo>
                </a:path>
              </a:pathLst>
            </a:custGeom>
            <a:solidFill>
              <a:srgbClr val="33cc33"/>
            </a:solidFill>
            <a:ln w="792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07000" y="2832120"/>
              <a:ext cx="452520" cy="760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607000" y="2832120"/>
              <a:ext cx="452520" cy="760320"/>
            </a:xfrm>
            <a:prstGeom prst="rect">
              <a:avLst/>
            </a:prstGeom>
            <a:noFill/>
            <a:ln w="7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29400" y="3017880"/>
              <a:ext cx="207720" cy="144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94480" y="3225960"/>
              <a:ext cx="209520" cy="288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694480" y="3012840"/>
              <a:ext cx="36360" cy="21276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654520" y="3236400"/>
              <a:ext cx="39960" cy="21276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62440" y="3433680"/>
              <a:ext cx="206640" cy="324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888160" y="3000240"/>
              <a:ext cx="39600" cy="21456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853240" y="3222360"/>
              <a:ext cx="34920" cy="214200"/>
            </a:xfrm>
            <a:prstGeom prst="line">
              <a:avLst/>
            </a:prstGeom>
            <a:ln w="349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35680" y="340200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5" y="0"/>
                  </a:moveTo>
                  <a:lnTo>
                    <a:pt x="11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10" y="29"/>
                  </a:lnTo>
                  <a:lnTo>
                    <a:pt x="11" y="30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20" y="29"/>
                  </a:lnTo>
                  <a:lnTo>
                    <a:pt x="21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1" y="4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35680" y="340200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5" y="0"/>
                  </a:moveTo>
                  <a:lnTo>
                    <a:pt x="11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10" y="29"/>
                  </a:lnTo>
                  <a:lnTo>
                    <a:pt x="11" y="30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20" y="29"/>
                  </a:lnTo>
                  <a:lnTo>
                    <a:pt x="21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6" y="10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1" y="4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5" y="0"/>
                  </a:lnTo>
                </a:path>
              </a:pathLst>
            </a:custGeom>
            <a:solidFill>
              <a:srgbClr val="33cc33"/>
            </a:solidFill>
            <a:ln w="792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62200" y="4273560"/>
              <a:ext cx="382680" cy="6145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2200" y="4273560"/>
              <a:ext cx="382680" cy="614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86120" y="4748040"/>
              <a:ext cx="7776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86120" y="4748040"/>
              <a:ext cx="77760" cy="795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643200" y="4616280"/>
              <a:ext cx="777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43200" y="4616280"/>
              <a:ext cx="77760" cy="763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86120" y="4483080"/>
              <a:ext cx="7776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86120" y="4483080"/>
              <a:ext cx="77760" cy="777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43200" y="4351320"/>
              <a:ext cx="77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43200" y="4351320"/>
              <a:ext cx="77760" cy="74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6937200" y="2973240"/>
              <a:ext cx="427320" cy="1133280"/>
              <a:chOff x="6937200" y="2973240"/>
              <a:chExt cx="427320" cy="1133280"/>
            </a:xfrm>
          </p:grpSpPr>
          <p:sp>
            <p:nvSpPr>
              <p:cNvPr id="670" name=""/>
              <p:cNvSpPr/>
              <p:nvPr/>
            </p:nvSpPr>
            <p:spPr>
              <a:xfrm>
                <a:off x="6938280" y="3914640"/>
                <a:ext cx="3254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938280" y="3725640"/>
                <a:ext cx="322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5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939000" y="3368520"/>
                <a:ext cx="342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938640" y="354312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937200" y="316044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 12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37920" y="2973240"/>
                <a:ext cx="42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12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501120" y="2671920"/>
              <a:ext cx="477720" cy="1832400"/>
              <a:chOff x="501120" y="2671920"/>
              <a:chExt cx="477720" cy="1832400"/>
            </a:xfrm>
          </p:grpSpPr>
          <p:sp>
            <p:nvSpPr>
              <p:cNvPr id="677" name=""/>
              <p:cNvSpPr/>
              <p:nvPr/>
            </p:nvSpPr>
            <p:spPr>
              <a:xfrm>
                <a:off x="620640" y="3573360"/>
                <a:ext cx="35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20640" y="3394080"/>
                <a:ext cx="35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20640" y="3033720"/>
                <a:ext cx="35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0640" y="3213000"/>
                <a:ext cx="35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01120" y="2851200"/>
                <a:ext cx="47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 12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6200" y="2671920"/>
                <a:ext cx="42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12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51960" y="4290840"/>
                <a:ext cx="325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54840" y="4113000"/>
                <a:ext cx="322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5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20640" y="3754440"/>
                <a:ext cx="35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19920" y="3933720"/>
                <a:ext cx="35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C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4026600" y="4307040"/>
              <a:ext cx="31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04640" y="469908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07880" y="4435560"/>
              <a:ext cx="42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 =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82800" y="2487600"/>
              <a:ext cx="295200" cy="141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82800" y="2487600"/>
              <a:ext cx="295200" cy="1413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6200000">
              <a:off x="2777760" y="301464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P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67040" y="2463840"/>
              <a:ext cx="1080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67040" y="2463840"/>
              <a:ext cx="108000" cy="115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51520" y="2116080"/>
              <a:ext cx="1660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lave module V 2.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94400" y="398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48440" y="398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13200" y="403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13200" y="41720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79760" y="402588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79760" y="445464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61600" y="4014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62320" y="430704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Bus Slave</a:t>
            </a:r>
            <a:br>
              <a:rPr sz="40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Comm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Slave Commands : (0AH), 0DH, Command byte, Data By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mand byt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Four msb : Slave ID :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1 to 14 each ID unique on one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15 =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Four lsb : Command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0 = softwar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1 to 15 : device specific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Most devices recognize only one command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ata byt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Any value between 0 and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Meaning is device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Bus Slave</a:t>
            </a:r>
            <a:br>
              <a:rPr sz="40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Comm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Slave Answers : 0DH, Slave ID byte, Answer By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lave ID byt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Four msb : 0000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Reserved for future develop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Four lsb : Slav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Number between 1 and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swer byt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Any value between 0 and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Meaning is device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Broadcast messages are never ans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Bus Slave</a:t>
            </a:r>
            <a:br>
              <a:rPr sz="40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Comm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d LED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eft Display: last Command byte accepted by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ght Display : last Data byte accepted by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Green Decimal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Meaning is device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Usually related to the answer byte send by the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General Purpose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0" y="985680"/>
            <a:ext cx="9144000" cy="58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0-5 V analog signal between RA0(+) and RA2(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-off optical command on R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-off 24 V DC command on R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0 : software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1 : copy data bits 1 and 4 onto RA ports 1 and 4 and measur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 : measure analog input without affecting digita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ounded value of 8 most significant bits from AD conver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cimal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lue of AD input in % of 5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vice I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irst interface = 1; second interfac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AD/DA Interface</a:t>
            </a:r>
            <a:br>
              <a:rPr sz="4400"/>
            </a:b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(not yet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0" y="115092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0-5 V analog signal with differential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0-5 V buffered analog output, with 1s integ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0 : software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1 : set analog output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ounded value of 8 most significant bits from AD conver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cimal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lue of AD output in % of 5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vice I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irst interface = 4; second interface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ump Contr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43080" y="1266840"/>
            <a:ext cx="8286120" cy="5113080"/>
            <a:chOff x="343080" y="1266840"/>
            <a:chExt cx="8286120" cy="5113080"/>
          </a:xfrm>
        </p:grpSpPr>
        <p:sp>
          <p:nvSpPr>
            <p:cNvPr id="716" name=""/>
            <p:cNvSpPr/>
            <p:nvPr/>
          </p:nvSpPr>
          <p:spPr>
            <a:xfrm>
              <a:off x="352080" y="1266840"/>
              <a:ext cx="8277120" cy="5113080"/>
            </a:xfrm>
            <a:prstGeom prst="rect">
              <a:avLst/>
            </a:pr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365040" y="1629720"/>
              <a:ext cx="8237160" cy="1025280"/>
              <a:chOff x="365040" y="1629720"/>
              <a:chExt cx="8237160" cy="1025280"/>
            </a:xfrm>
          </p:grpSpPr>
          <p:sp>
            <p:nvSpPr>
              <p:cNvPr id="718" name=""/>
              <p:cNvSpPr/>
              <p:nvPr/>
            </p:nvSpPr>
            <p:spPr>
              <a:xfrm>
                <a:off x="2272680" y="2634840"/>
                <a:ext cx="48960" cy="1980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82040" y="206856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531360" y="2000520"/>
                <a:ext cx="615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593280" y="1929600"/>
                <a:ext cx="4860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42240" y="1865520"/>
                <a:ext cx="615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704160" y="1801080"/>
                <a:ext cx="4752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752040" y="1750680"/>
                <a:ext cx="6156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813960" y="1705680"/>
                <a:ext cx="597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874080" y="1674360"/>
                <a:ext cx="489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923400" y="1649520"/>
                <a:ext cx="615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985320" y="1629720"/>
                <a:ext cx="489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034640" y="1630080"/>
                <a:ext cx="5976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094760" y="1630080"/>
                <a:ext cx="4896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144080" y="1630080"/>
                <a:ext cx="615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206000" y="1649880"/>
                <a:ext cx="489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55320" y="167436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317240" y="1706040"/>
                <a:ext cx="5832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375920" y="1750680"/>
                <a:ext cx="4860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424880" y="1801080"/>
                <a:ext cx="615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86800" y="1865520"/>
                <a:ext cx="489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36120" y="192996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98040" y="2000520"/>
                <a:ext cx="489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647360" y="2068920"/>
                <a:ext cx="6156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709280" y="2145600"/>
                <a:ext cx="471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756800" y="221616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818720" y="2286360"/>
                <a:ext cx="60120" cy="70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879200" y="2357280"/>
                <a:ext cx="50400" cy="61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29960" y="2419200"/>
                <a:ext cx="59760" cy="64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990080" y="2484360"/>
                <a:ext cx="47520" cy="50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037960" y="2534400"/>
                <a:ext cx="615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099880" y="2578680"/>
                <a:ext cx="4860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148840" y="2610720"/>
                <a:ext cx="615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210760" y="2634840"/>
                <a:ext cx="615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272680" y="2655000"/>
                <a:ext cx="48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322000" y="2655000"/>
                <a:ext cx="615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2383920" y="2634480"/>
                <a:ext cx="471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2431440" y="2610360"/>
                <a:ext cx="6012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2491920" y="2578680"/>
                <a:ext cx="4860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2540880" y="2534040"/>
                <a:ext cx="615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2602800" y="2484000"/>
                <a:ext cx="48960" cy="50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2652120" y="2419200"/>
                <a:ext cx="60120" cy="64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2712600" y="2357280"/>
                <a:ext cx="61560" cy="61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2774520" y="2286360"/>
                <a:ext cx="48600" cy="70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2823480" y="221580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2885400" y="2138760"/>
                <a:ext cx="4896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2934720" y="2068560"/>
                <a:ext cx="6012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2995200" y="2000520"/>
                <a:ext cx="471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3042720" y="192960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3104640" y="1865520"/>
                <a:ext cx="489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3153960" y="1801080"/>
                <a:ext cx="615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3215880" y="1750680"/>
                <a:ext cx="6156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3277800" y="1705680"/>
                <a:ext cx="4860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3326760" y="1674360"/>
                <a:ext cx="6012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3387240" y="1649520"/>
                <a:ext cx="489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436560" y="1629720"/>
                <a:ext cx="615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498480" y="1630080"/>
                <a:ext cx="4860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47440" y="1630080"/>
                <a:ext cx="6012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07920" y="1630080"/>
                <a:ext cx="597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68040" y="1649880"/>
                <a:ext cx="489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17360" y="167436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779280" y="1706040"/>
                <a:ext cx="489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828600" y="1750680"/>
                <a:ext cx="6300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891960" y="1801080"/>
                <a:ext cx="489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941280" y="1865520"/>
                <a:ext cx="615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003200" y="192996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052520" y="2000520"/>
                <a:ext cx="597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112640" y="2068920"/>
                <a:ext cx="6012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173120" y="2145600"/>
                <a:ext cx="4860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222080" y="221616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84000" y="2286360"/>
                <a:ext cx="48960" cy="70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333320" y="2357280"/>
                <a:ext cx="60120" cy="61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393800" y="2419200"/>
                <a:ext cx="48600" cy="64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442760" y="2484360"/>
                <a:ext cx="61560" cy="50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504680" y="2534400"/>
                <a:ext cx="615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566600" y="2578680"/>
                <a:ext cx="489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615920" y="2610720"/>
                <a:ext cx="6012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676400" y="2634840"/>
                <a:ext cx="471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723920" y="2655000"/>
                <a:ext cx="615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785840" y="2655000"/>
                <a:ext cx="48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4835160" y="2634480"/>
                <a:ext cx="6120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4896720" y="2610360"/>
                <a:ext cx="489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4946040" y="257868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5007960" y="2534040"/>
                <a:ext cx="6012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5068440" y="2484000"/>
                <a:ext cx="48600" cy="50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117400" y="2419200"/>
                <a:ext cx="60120" cy="64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177880" y="2357280"/>
                <a:ext cx="50400" cy="61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228640" y="2286360"/>
                <a:ext cx="60120" cy="70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5289120" y="2215800"/>
                <a:ext cx="4860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338080" y="2138760"/>
                <a:ext cx="6012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5398560" y="206856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47880" y="2000520"/>
                <a:ext cx="615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5509800" y="192960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5571720" y="1865520"/>
                <a:ext cx="4860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5620680" y="1801080"/>
                <a:ext cx="615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5682600" y="1750680"/>
                <a:ext cx="4752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730480" y="1705680"/>
                <a:ext cx="597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5790600" y="1674360"/>
                <a:ext cx="489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5839920" y="1649520"/>
                <a:ext cx="615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5901840" y="1629720"/>
                <a:ext cx="615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963760" y="1630080"/>
                <a:ext cx="4716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011280" y="1630080"/>
                <a:ext cx="6156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073200" y="1630080"/>
                <a:ext cx="489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122520" y="1649880"/>
                <a:ext cx="615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84440" y="1674360"/>
                <a:ext cx="4860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33400" y="1706040"/>
                <a:ext cx="6012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93880" y="1750680"/>
                <a:ext cx="4716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41400" y="1801080"/>
                <a:ext cx="615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03320" y="1865520"/>
                <a:ext cx="615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65240" y="192996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514560" y="2000520"/>
                <a:ext cx="615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576480" y="2068920"/>
                <a:ext cx="4896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25800" y="2145600"/>
                <a:ext cx="597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685920" y="221616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735240" y="2286360"/>
                <a:ext cx="61560" cy="70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797160" y="2357280"/>
                <a:ext cx="48960" cy="61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846480" y="2419200"/>
                <a:ext cx="59760" cy="64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911280" y="2486160"/>
                <a:ext cx="60120" cy="50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68520" y="2534400"/>
                <a:ext cx="471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16040" y="257868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77960" y="2610720"/>
                <a:ext cx="489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127280" y="2634840"/>
                <a:ext cx="615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189200" y="2655000"/>
                <a:ext cx="48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238520" y="2655000"/>
                <a:ext cx="615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7300440" y="2634480"/>
                <a:ext cx="5832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7359120" y="2610360"/>
                <a:ext cx="489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7408440" y="257868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7470360" y="2534040"/>
                <a:ext cx="4860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7519320" y="2484000"/>
                <a:ext cx="61560" cy="50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7581240" y="2419200"/>
                <a:ext cx="48960" cy="64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7630560" y="2357280"/>
                <a:ext cx="60120" cy="61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7697160" y="228240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7740000" y="221580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7801920" y="2138760"/>
                <a:ext cx="6012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7862400" y="206856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7911720" y="2000520"/>
                <a:ext cx="597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971840" y="192960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8021160" y="1865520"/>
                <a:ext cx="615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8083080" y="1801080"/>
                <a:ext cx="48960" cy="64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8132400" y="1750680"/>
                <a:ext cx="6120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8193960" y="1705680"/>
                <a:ext cx="489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243280" y="167436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8305200" y="1649520"/>
                <a:ext cx="6012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8365680" y="1629720"/>
                <a:ext cx="4860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14640" y="1630080"/>
                <a:ext cx="6012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5040" y="2145600"/>
                <a:ext cx="8237160" cy="0"/>
              </a:xfrm>
              <a:prstGeom prst="line">
                <a:avLst/>
              </a:prstGeom>
              <a:ln w="2844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595080" y="2755080"/>
              <a:ext cx="1077480" cy="2944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280" y="2755080"/>
              <a:ext cx="571320" cy="255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519520" y="2755080"/>
              <a:ext cx="1090440" cy="2624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65400" y="2755080"/>
              <a:ext cx="1102680" cy="266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88760" y="2086560"/>
              <a:ext cx="1440" cy="345852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60520" y="2081520"/>
              <a:ext cx="1440" cy="347832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615000" y="2064600"/>
              <a:ext cx="1080" cy="349704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85880" y="3342600"/>
              <a:ext cx="62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74920" y="3342600"/>
              <a:ext cx="62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21120" y="3342600"/>
              <a:ext cx="62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20920" y="3344040"/>
              <a:ext cx="1233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251480" y="3340800"/>
              <a:ext cx="1233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11400" y="3344040"/>
              <a:ext cx="123336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1180800" y="3659040"/>
              <a:ext cx="7387560" cy="435600"/>
              <a:chOff x="1180800" y="3659040"/>
              <a:chExt cx="7387560" cy="435600"/>
            </a:xfrm>
          </p:grpSpPr>
          <p:sp>
            <p:nvSpPr>
              <p:cNvPr id="877" name=""/>
              <p:cNvSpPr/>
              <p:nvPr/>
            </p:nvSpPr>
            <p:spPr>
              <a:xfrm>
                <a:off x="2328480" y="3659040"/>
                <a:ext cx="72720" cy="42984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260840" y="3659040"/>
                <a:ext cx="72720" cy="42984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057360" y="3659040"/>
                <a:ext cx="72720" cy="42984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809600" y="3659040"/>
                <a:ext cx="72720" cy="42984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561840" y="3664800"/>
                <a:ext cx="72720" cy="42984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180800" y="3659040"/>
                <a:ext cx="72720" cy="42984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495640" y="3659040"/>
                <a:ext cx="72720" cy="42984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343080" y="4714920"/>
              <a:ext cx="8237160" cy="1038240"/>
              <a:chOff x="343080" y="4714920"/>
              <a:chExt cx="8237160" cy="1038240"/>
            </a:xfrm>
          </p:grpSpPr>
          <p:sp>
            <p:nvSpPr>
              <p:cNvPr id="885" name=""/>
              <p:cNvSpPr/>
              <p:nvPr/>
            </p:nvSpPr>
            <p:spPr>
              <a:xfrm>
                <a:off x="1184040" y="4734720"/>
                <a:ext cx="489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233360" y="475920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295280" y="4791240"/>
                <a:ext cx="5832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353960" y="4835520"/>
                <a:ext cx="4896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03280" y="4886280"/>
                <a:ext cx="61560" cy="64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65200" y="4950720"/>
                <a:ext cx="48600" cy="64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514160" y="501516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576080" y="5085720"/>
                <a:ext cx="489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625400" y="5154120"/>
                <a:ext cx="6156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300040" y="5740920"/>
                <a:ext cx="615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361960" y="5720400"/>
                <a:ext cx="471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2409480" y="5696280"/>
                <a:ext cx="6012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469960" y="5664600"/>
                <a:ext cx="489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519280" y="5619960"/>
                <a:ext cx="615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2581200" y="5569560"/>
                <a:ext cx="4860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630160" y="5504400"/>
                <a:ext cx="60120" cy="64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2690640" y="5442840"/>
                <a:ext cx="61560" cy="61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2752560" y="5371920"/>
                <a:ext cx="48960" cy="70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2801880" y="530100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2863800" y="5224320"/>
                <a:ext cx="4860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525480" y="4714920"/>
                <a:ext cx="6012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585960" y="4714920"/>
                <a:ext cx="6012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46440" y="4734720"/>
                <a:ext cx="4860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95400" y="475920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57320" y="4791240"/>
                <a:ext cx="489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806640" y="4835520"/>
                <a:ext cx="6300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70000" y="4886280"/>
                <a:ext cx="48960" cy="64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19320" y="4950720"/>
                <a:ext cx="61560" cy="64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81240" y="501516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30560" y="5085720"/>
                <a:ext cx="597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090680" y="5154120"/>
                <a:ext cx="6012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4813200" y="5720400"/>
                <a:ext cx="615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4875120" y="5696280"/>
                <a:ext cx="4860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4924080" y="566460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4986000" y="5619960"/>
                <a:ext cx="6012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5046480" y="5569560"/>
                <a:ext cx="4896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5095800" y="5504400"/>
                <a:ext cx="59760" cy="64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5155920" y="5442840"/>
                <a:ext cx="50400" cy="61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5206680" y="5371920"/>
                <a:ext cx="60120" cy="70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5267160" y="5301000"/>
                <a:ext cx="489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5316480" y="5224320"/>
                <a:ext cx="5976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051240" y="4714920"/>
                <a:ext cx="4896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100560" y="4734720"/>
                <a:ext cx="615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162480" y="4759200"/>
                <a:ext cx="489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211800" y="4791240"/>
                <a:ext cx="597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271920" y="4835520"/>
                <a:ext cx="4752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319800" y="4886280"/>
                <a:ext cx="61560" cy="64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381720" y="4950720"/>
                <a:ext cx="61560" cy="64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443640" y="5015160"/>
                <a:ext cx="4860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492600" y="5085720"/>
                <a:ext cx="61560" cy="68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554520" y="5154120"/>
                <a:ext cx="4896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7278480" y="5720400"/>
                <a:ext cx="58320" cy="1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7337160" y="5696280"/>
                <a:ext cx="48960" cy="24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7386480" y="5664600"/>
                <a:ext cx="61560" cy="31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7448400" y="5619960"/>
                <a:ext cx="48960" cy="44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7497720" y="5569560"/>
                <a:ext cx="61560" cy="50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7559640" y="5504400"/>
                <a:ext cx="48600" cy="64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7608600" y="5442840"/>
                <a:ext cx="60120" cy="61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7675560" y="5367600"/>
                <a:ext cx="48600" cy="70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7718400" y="5301000"/>
                <a:ext cx="61560" cy="70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7780320" y="5224320"/>
                <a:ext cx="59760" cy="76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43080" y="5231160"/>
                <a:ext cx="8237160" cy="0"/>
              </a:xfrm>
              <a:prstGeom prst="line">
                <a:avLst/>
              </a:prstGeom>
              <a:ln w="2844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177920" y="4734720"/>
                <a:ext cx="0" cy="497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325600" y="5243040"/>
                <a:ext cx="0" cy="497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685880" y="5232960"/>
                <a:ext cx="6393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919240" y="5232960"/>
                <a:ext cx="6393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544560" y="4740840"/>
                <a:ext cx="0" cy="497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133520" y="5232960"/>
                <a:ext cx="6775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811400" y="5243040"/>
                <a:ext cx="0" cy="497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352840" y="5226840"/>
                <a:ext cx="696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049800" y="4734720"/>
                <a:ext cx="0" cy="497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86200" y="5226840"/>
                <a:ext cx="6681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254720" y="5231160"/>
                <a:ext cx="0" cy="522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824600" y="5232960"/>
                <a:ext cx="6681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2298600" y="3209400"/>
              <a:ext cx="1080" cy="2757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00600" y="3180960"/>
              <a:ext cx="1080" cy="2757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51480" y="3180960"/>
              <a:ext cx="1440" cy="2757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64280" y="296208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</a:rPr>
                <a:t>10 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028120" y="296208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</a:rPr>
                <a:t>10 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504560" y="296208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</a:rPr>
                <a:t>10 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890360" y="29350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66800" y="29350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830640" y="29350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530520" y="3209400"/>
              <a:ext cx="1080" cy="2757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32160" y="3209400"/>
              <a:ext cx="1440" cy="2757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470800" y="3209400"/>
              <a:ext cx="1080" cy="2757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168200" y="3194640"/>
              <a:ext cx="1080" cy="2757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ump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0" y="1150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ptical 50 Hz signal from pump power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ptical 100 Hz triac firing pulses with adjustable delay after the 50 Hz referenc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0 : software reset, switches off the p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3 : sets adjustable delay in the r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ge  0-176 (=B0H) steps of 51</a:t>
            </a:r>
            <a:r>
              <a:rPr b="1" lang="el-GR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. The smallest delay results in maximal pump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Echo of the command data by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cimal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lue of firing delay in multiples of 100 </a:t>
            </a:r>
            <a:r>
              <a:rPr b="1" lang="el-GR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vice I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irst interface = 2, no additional interfaces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200" y="1055520"/>
            <a:ext cx="890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Commercial aquarium pumps are used.  It is possible to adjust somewhat the pump power by using a simple dimmer such as those used for 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As these pumps have important internal leakage, a one-way valve has been inserted to avoid reversal of the waterflow when the pump is stopped or runs at low powe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3320" y="3381480"/>
            <a:ext cx="7991640" cy="2946240"/>
            <a:chOff x="733320" y="3381480"/>
            <a:chExt cx="7991640" cy="2946240"/>
          </a:xfrm>
        </p:grpSpPr>
        <p:sp>
          <p:nvSpPr>
            <p:cNvPr id="122" name=""/>
            <p:cNvSpPr/>
            <p:nvPr/>
          </p:nvSpPr>
          <p:spPr>
            <a:xfrm>
              <a:off x="743040" y="5402160"/>
              <a:ext cx="3511440" cy="925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400" y="5830920"/>
              <a:ext cx="3502080" cy="493560"/>
            </a:xfrm>
            <a:prstGeom prst="rect">
              <a:avLst/>
            </a:prstGeom>
            <a:solidFill>
              <a:srgbClr val="3399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1440" y="3592440"/>
              <a:ext cx="0" cy="221796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056040" y="5513400"/>
              <a:ext cx="807480" cy="671400"/>
              <a:chOff x="3056040" y="5513400"/>
              <a:chExt cx="807480" cy="67140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3056040" y="5513400"/>
                <a:ext cx="674640" cy="67140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62320" y="5714640"/>
                <a:ext cx="263520" cy="26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625200" y="5810040"/>
                <a:ext cx="237960" cy="279000"/>
              </a:xfrm>
              <a:custGeom>
                <a:avLst/>
                <a:gdLst/>
                <a:ahLst/>
                <a:rect l="l" t="t" r="r" b="b"/>
                <a:pathLst>
                  <a:path w="140" h="163">
                    <a:moveTo>
                      <a:pt x="0" y="7"/>
                    </a:moveTo>
                    <a:lnTo>
                      <a:pt x="140" y="163"/>
                    </a:lnTo>
                    <a:lnTo>
                      <a:pt x="7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 flipV="1" rot="5400000">
              <a:off x="3116520" y="3508200"/>
              <a:ext cx="473040" cy="219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463560" y="3618000"/>
              <a:ext cx="3301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33640" y="3618000"/>
              <a:ext cx="3319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9960" y="4686480"/>
              <a:ext cx="2730600" cy="16380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90840" y="5689440"/>
              <a:ext cx="2044800" cy="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03440" y="6006960"/>
              <a:ext cx="5318280" cy="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428800" y="5540400"/>
              <a:ext cx="482760" cy="291960"/>
              <a:chOff x="5428800" y="5540400"/>
              <a:chExt cx="482760" cy="291960"/>
            </a:xfrm>
          </p:grpSpPr>
          <p:sp>
            <p:nvSpPr>
              <p:cNvPr id="136" name=""/>
              <p:cNvSpPr/>
              <p:nvPr/>
            </p:nvSpPr>
            <p:spPr>
              <a:xfrm rot="5400000">
                <a:off x="5403600" y="5565600"/>
                <a:ext cx="291960" cy="241560"/>
              </a:xfrm>
              <a:prstGeom prst="triangle">
                <a:avLst>
                  <a:gd name="adj" fmla="val 50000"/>
                </a:avLst>
              </a:prstGeom>
              <a:solidFill>
                <a:srgbClr val="cc66ff"/>
              </a:solidFill>
              <a:ln w="28440">
                <a:solidFill>
                  <a:srgbClr val="cc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 rot="5400000">
                <a:off x="5644800" y="5565240"/>
                <a:ext cx="291960" cy="241200"/>
              </a:xfrm>
              <a:prstGeom prst="triangle">
                <a:avLst>
                  <a:gd name="adj" fmla="val 50000"/>
                </a:avLst>
              </a:prstGeom>
              <a:solidFill>
                <a:srgbClr val="cc66ff"/>
              </a:solidFill>
              <a:ln w="28440">
                <a:solidFill>
                  <a:srgbClr val="cc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5918040" y="5689440"/>
              <a:ext cx="2806920" cy="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42680" y="56754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Arial"/>
                </a:rPr>
                <a:t>22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664240" y="3619080"/>
              <a:ext cx="0" cy="2057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64240" y="3619440"/>
              <a:ext cx="3057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83560" y="4114440"/>
              <a:ext cx="0" cy="90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83560" y="4114800"/>
              <a:ext cx="1838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 rot="5400000">
              <a:off x="6629400" y="5045040"/>
              <a:ext cx="473040" cy="21888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5720" y="4940280"/>
              <a:ext cx="0" cy="46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85080" y="5143680"/>
              <a:ext cx="216000" cy="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01080" y="5143680"/>
              <a:ext cx="0" cy="54576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502320" y="5143680"/>
              <a:ext cx="177840" cy="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2320" y="5143680"/>
              <a:ext cx="0" cy="43164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02320" y="5778360"/>
              <a:ext cx="0" cy="22860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21440" y="47480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93640" y="368136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Optical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3320" y="3465360"/>
              <a:ext cx="313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Arial"/>
                </a:rPr>
                <a:t>Two diffe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Arial"/>
                </a:rPr>
                <a:t>Pumps are proposed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99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Arial"/>
                </a:rPr>
                <a:t>Low power pu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99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Arial"/>
                </a:rPr>
                <a:t>Medium power pu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Arial"/>
                </a:rPr>
                <a:t>Both use the same control circui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1120" y="487512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Arial"/>
                </a:rPr>
                <a:t>Opt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Arial"/>
                </a:rPr>
                <a:t>TRI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roportional Valv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0" y="1150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lve control current, 4-20 mA. Valve is closed at 4 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0 : software reset, closes the va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 : sets valve current in steps of 0.1mA, 0 = 0 mA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urrent through valve before command was received, expressed in multiples of 0.1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cimal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urrent in 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vice I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irst interface = 2; second interface = 10 (=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low Meter </a:t>
            </a:r>
            <a:br>
              <a:rPr sz="4400"/>
            </a:b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(Version 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0" y="12398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ulses from Dataflow compact flow 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0 : software re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 : request reading of the pulse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ime interval between successive pulse, in units of 0.4096 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55 means underflow (out of time ran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cimal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ime interval, expressed in % of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vice I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irst interface = 4; second interface = 12 (=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low Meter </a:t>
            </a:r>
            <a:br>
              <a:rPr sz="4400"/>
            </a:b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(Version 2.0, not yet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226880"/>
            <a:ext cx="81788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ulses from Dataflow compact flow 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0 : software re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 : data byte = 0:enable pulse duration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ata byte = 1: enable pulse counting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ode 4.0 : pulse duration, in multiples of 0.4096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ode 4.1 : Number of pulses in 105 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In both modes : FFH means “out of rang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cimal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In both modes : Fraction of full range in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evice I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irst interface = 4; second interface = 12 (=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js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596880" y="1141560"/>
          <a:ext cx="8051760" cy="5216400"/>
        </p:xfrm>
        <a:graphic>
          <a:graphicData uri="http://schemas.openxmlformats.org/drawingml/2006/table">
            <a:tbl>
              <a:tblPr/>
              <a:tblGrid>
                <a:gridCol w="2959200"/>
                <a:gridCol w="1579320"/>
                <a:gridCol w="1756080"/>
                <a:gridCol w="1757160"/>
              </a:tblGrid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ikb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pu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pu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 Slave Mo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* fun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off val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.Level Sen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Transd 10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Transd 10 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Pump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Valve with ct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 meter with ct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C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/DA Slave Module + ana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commun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/ h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omm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596880" y="1141560"/>
          <a:ext cx="8178840" cy="3020760"/>
        </p:xfrm>
        <a:graphic>
          <a:graphicData uri="http://schemas.openxmlformats.org/drawingml/2006/table">
            <a:tbl>
              <a:tblPr/>
              <a:tblGrid>
                <a:gridCol w="2108160"/>
                <a:gridCol w="905040"/>
                <a:gridCol w="868320"/>
                <a:gridCol w="981000"/>
                <a:gridCol w="331632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CM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Pum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Valve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.Valve.Ct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= 28H = 0 %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= C8H = 100 %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mp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= 08H = max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&gt; B0H = min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 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=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4" name=""/>
          <p:cNvSpPr/>
          <p:nvPr/>
        </p:nvSpPr>
        <p:spPr>
          <a:xfrm>
            <a:off x="987480" y="4456080"/>
            <a:ext cx="70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(1)  Commands with ID = 15 (=FFH) are broadcasts. Slaves don’t generate answers to broadcas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(2) Command 0 followed by any data byte resets the interface software and reads the ID switches. No answer is gene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verflow 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419040" y="2523960"/>
            <a:ext cx="10019520" cy="3429000"/>
            <a:chOff x="-419040" y="2523960"/>
            <a:chExt cx="10019520" cy="3429000"/>
          </a:xfrm>
        </p:grpSpPr>
        <p:grpSp>
          <p:nvGrpSpPr>
            <p:cNvPr id="157" name=""/>
            <p:cNvGrpSpPr/>
            <p:nvPr/>
          </p:nvGrpSpPr>
          <p:grpSpPr>
            <a:xfrm>
              <a:off x="-419040" y="2523960"/>
              <a:ext cx="5819040" cy="3429000"/>
              <a:chOff x="-419040" y="2523960"/>
              <a:chExt cx="5819040" cy="3429000"/>
            </a:xfrm>
          </p:grpSpPr>
          <p:sp>
            <p:nvSpPr>
              <p:cNvPr id="158" name=""/>
              <p:cNvSpPr/>
              <p:nvPr/>
            </p:nvSpPr>
            <p:spPr>
              <a:xfrm>
                <a:off x="-419040" y="2523960"/>
                <a:ext cx="2685600" cy="241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714400" y="2523960"/>
                <a:ext cx="2685600" cy="241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1866960" y="3733200"/>
                <a:ext cx="1247760" cy="61884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57200" y="3724200"/>
                <a:ext cx="0" cy="399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47840" y="4124160"/>
                <a:ext cx="4665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714400" y="3714840"/>
                <a:ext cx="0" cy="419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42840" y="5010120"/>
                <a:ext cx="3000240" cy="924120"/>
              </a:xfrm>
              <a:prstGeom prst="rect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52560" y="3438360"/>
                <a:ext cx="0" cy="251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962160" y="3438360"/>
                <a:ext cx="0" cy="251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781440" y="2523960"/>
              <a:ext cx="5819040" cy="3429000"/>
              <a:chOff x="3781440" y="2523960"/>
              <a:chExt cx="5819040" cy="3429000"/>
            </a:xfrm>
          </p:grpSpPr>
          <p:sp>
            <p:nvSpPr>
              <p:cNvPr id="168" name=""/>
              <p:cNvSpPr/>
              <p:nvPr/>
            </p:nvSpPr>
            <p:spPr>
              <a:xfrm>
                <a:off x="3781440" y="2523960"/>
                <a:ext cx="2685600" cy="241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914880" y="2523960"/>
                <a:ext cx="2685600" cy="241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067440" y="3733200"/>
                <a:ext cx="1247760" cy="61884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57680" y="3724200"/>
                <a:ext cx="0" cy="399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43320" y="3914640"/>
                <a:ext cx="3000600" cy="2019600"/>
              </a:xfrm>
              <a:prstGeom prst="rect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53040" y="3438360"/>
                <a:ext cx="0" cy="251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63000" y="3438360"/>
                <a:ext cx="0" cy="251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943600" y="4114800"/>
                <a:ext cx="504720" cy="1828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873160" y="113652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o be installed in 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Mechanical Level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28440" y="1486080"/>
            <a:ext cx="5848560" cy="5000760"/>
            <a:chOff x="1828440" y="1486080"/>
            <a:chExt cx="5848560" cy="5000760"/>
          </a:xfrm>
        </p:grpSpPr>
        <p:sp>
          <p:nvSpPr>
            <p:cNvPr id="179" name=""/>
            <p:cNvSpPr/>
            <p:nvPr/>
          </p:nvSpPr>
          <p:spPr>
            <a:xfrm>
              <a:off x="6167520" y="3141720"/>
              <a:ext cx="1509480" cy="295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45200" y="4537080"/>
              <a:ext cx="1519200" cy="1566720"/>
            </a:xfrm>
            <a:prstGeom prst="rect">
              <a:avLst/>
            </a:pr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91400" y="4308480"/>
              <a:ext cx="258840" cy="461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5320" y="1486080"/>
              <a:ext cx="1333440" cy="13460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247480" y="2158920"/>
              <a:ext cx="4000680" cy="887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5560" y="2349360"/>
              <a:ext cx="127080" cy="137160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22640" y="3035160"/>
              <a:ext cx="304560" cy="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4600" y="3035160"/>
              <a:ext cx="0" cy="26542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8920" y="3733920"/>
              <a:ext cx="0" cy="224784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14600" y="5689440"/>
              <a:ext cx="78732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71880" y="5981760"/>
              <a:ext cx="11300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158920" y="2044800"/>
              <a:ext cx="0" cy="30456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828440" y="2044800"/>
              <a:ext cx="33012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28800" y="2044800"/>
              <a:ext cx="0" cy="42418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8800" y="6273720"/>
              <a:ext cx="1482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13440" y="5487840"/>
              <a:ext cx="68832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0-5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G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+ 5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8480" y="2189160"/>
              <a:ext cx="0" cy="2374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32400" y="4842000"/>
              <a:ext cx="258840" cy="461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72080" y="2163600"/>
              <a:ext cx="0" cy="2705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33800" y="219564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Arial"/>
                </a:rPr>
                <a:t>10K</a:t>
              </a:r>
              <a:r>
                <a:rPr b="1" lang="el-GR" sz="1800" spc="-1" strike="noStrike">
                  <a:solidFill>
                    <a:srgbClr val="9933ff"/>
                  </a:solidFill>
                  <a:latin typeface="Arial"/>
                  <a:ea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Arial"/>
                  <a:ea typeface="Arial"/>
                </a:rPr>
                <a:t>10 tur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ressure Level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7040" y="5776920"/>
            <a:ext cx="14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Solid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pressure trans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65160" y="1028880"/>
            <a:ext cx="7748280" cy="5460840"/>
            <a:chOff x="965160" y="1028880"/>
            <a:chExt cx="7748280" cy="5460840"/>
          </a:xfrm>
        </p:grpSpPr>
        <p:sp>
          <p:nvSpPr>
            <p:cNvPr id="202" name=""/>
            <p:cNvSpPr/>
            <p:nvPr/>
          </p:nvSpPr>
          <p:spPr>
            <a:xfrm>
              <a:off x="2438280" y="1028880"/>
              <a:ext cx="5308560" cy="379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65160" y="1434960"/>
              <a:ext cx="719280" cy="4227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970920" y="3429000"/>
              <a:ext cx="723960" cy="2239920"/>
            </a:xfrm>
            <a:prstGeom prst="rect">
              <a:avLst/>
            </a:pr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472400" y="5599080"/>
              <a:ext cx="195480" cy="206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08840" y="5067360"/>
              <a:ext cx="1447560" cy="142236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82000" y="5689440"/>
              <a:ext cx="84132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6120" y="5981760"/>
              <a:ext cx="45720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2240" y="6273720"/>
              <a:ext cx="45108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25120" y="5475240"/>
              <a:ext cx="68832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0-5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G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+ 5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6273360" y="5257800"/>
              <a:ext cx="1003320" cy="888840"/>
            </a:xfrm>
            <a:prstGeom prst="triangle">
              <a:avLst>
                <a:gd name="adj" fmla="val 50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43160" y="597996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Arial"/>
                </a:rPr>
                <a:t>* 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40280" y="2184480"/>
              <a:ext cx="161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21160" y="1371600"/>
              <a:ext cx="851040" cy="800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33640" y="1879560"/>
              <a:ext cx="1155600" cy="1828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76640" y="2705040"/>
              <a:ext cx="1803600" cy="190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6680" y="2184480"/>
              <a:ext cx="0" cy="52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05240" y="2629080"/>
              <a:ext cx="1219320" cy="8856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05240" y="2882880"/>
              <a:ext cx="1219320" cy="88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99000" y="2654280"/>
              <a:ext cx="0" cy="27936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99000" y="2921040"/>
              <a:ext cx="0" cy="31752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99000" y="3238560"/>
              <a:ext cx="1650960" cy="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2946240"/>
              <a:ext cx="0" cy="107964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56000" y="4025880"/>
              <a:ext cx="2781360" cy="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343400" y="2412720"/>
              <a:ext cx="0" cy="25380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43400" y="2400480"/>
              <a:ext cx="2819520" cy="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650960" y="5651640"/>
              <a:ext cx="4685400" cy="109080"/>
              <a:chOff x="1650960" y="5651640"/>
              <a:chExt cx="4685400" cy="1090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50960" y="5651640"/>
                <a:ext cx="4685400" cy="0"/>
              </a:xfrm>
              <a:prstGeom prst="line">
                <a:avLst/>
              </a:prstGeom>
              <a:ln w="9360">
                <a:solidFill>
                  <a:srgbClr val="cc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50960" y="5760720"/>
                <a:ext cx="4685400" cy="0"/>
              </a:xfrm>
              <a:prstGeom prst="line">
                <a:avLst/>
              </a:prstGeom>
              <a:ln w="9360">
                <a:solidFill>
                  <a:srgbClr val="cc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V="1">
              <a:off x="1473120" y="2387520"/>
              <a:ext cx="1054080" cy="32004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676520" y="4673520"/>
              <a:ext cx="4508280" cy="11304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4739760" y="2082600"/>
              <a:ext cx="216000" cy="2034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rot="16200000">
              <a:off x="6529680" y="2082600"/>
              <a:ext cx="216000" cy="2034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1000" y="528156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Arial"/>
                </a:rPr>
                <a:t>-2 to 10 m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Flow 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70080" y="1295280"/>
            <a:ext cx="5693040" cy="1625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201680" y="1193760"/>
            <a:ext cx="877680" cy="5155920"/>
            <a:chOff x="1201680" y="1193760"/>
            <a:chExt cx="877680" cy="5155920"/>
          </a:xfrm>
        </p:grpSpPr>
        <p:sp>
          <p:nvSpPr>
            <p:cNvPr id="238" name=""/>
            <p:cNvSpPr/>
            <p:nvPr/>
          </p:nvSpPr>
          <p:spPr>
            <a:xfrm>
              <a:off x="1201680" y="2965680"/>
              <a:ext cx="877680" cy="1434240"/>
            </a:xfrm>
            <a:prstGeom prst="rect">
              <a:avLst/>
            </a:prstGeom>
            <a:solidFill>
              <a:srgbClr val="cc66ff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96800" y="1193760"/>
              <a:ext cx="482760" cy="51559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55480" y="3625920"/>
              <a:ext cx="370800" cy="168840"/>
              <a:chOff x="1455480" y="3625920"/>
              <a:chExt cx="370800" cy="168840"/>
            </a:xfrm>
          </p:grpSpPr>
          <p:sp>
            <p:nvSpPr>
              <p:cNvPr id="241" name=""/>
              <p:cNvSpPr/>
              <p:nvPr/>
            </p:nvSpPr>
            <p:spPr>
              <a:xfrm>
                <a:off x="1455480" y="3625920"/>
                <a:ext cx="185040" cy="16884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0520" y="3625920"/>
                <a:ext cx="185760" cy="16884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396800" y="1656360"/>
              <a:ext cx="495360" cy="1005480"/>
            </a:xfrm>
            <a:prstGeom prst="downArrow">
              <a:avLst>
                <a:gd name="adj1" fmla="val 50000"/>
                <a:gd name="adj2" fmla="val 50745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089080" y="3467160"/>
            <a:ext cx="537552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04920" y="3759120"/>
            <a:ext cx="53596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48040" y="4051440"/>
            <a:ext cx="54165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17160" y="3252960"/>
            <a:ext cx="6883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0/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+ 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58040" y="309708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k = 752 pulses /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93960" y="333648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Hal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97280" y="2298600"/>
            <a:ext cx="0" cy="3556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749840" y="2311200"/>
            <a:ext cx="0" cy="3553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702400" y="2286000"/>
            <a:ext cx="0" cy="3556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629400" y="2298600"/>
            <a:ext cx="0" cy="3556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2666880"/>
            <a:ext cx="462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97280" y="2324160"/>
            <a:ext cx="95256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62440" y="2666880"/>
            <a:ext cx="95256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2400" y="2298600"/>
            <a:ext cx="95256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42000" y="2666880"/>
            <a:ext cx="95256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749840" y="1841400"/>
            <a:ext cx="0" cy="787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1841400"/>
            <a:ext cx="0" cy="787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49840" y="2120760"/>
            <a:ext cx="18795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60920" y="1716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80400" y="19321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 = 1/k.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50440" y="134784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stantaneous measuremen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26120" y="45370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n pul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99760" y="4197240"/>
            <a:ext cx="472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grating measuremen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238560" y="4692600"/>
            <a:ext cx="5244840" cy="1526400"/>
            <a:chOff x="3238560" y="4692600"/>
            <a:chExt cx="5244840" cy="1526400"/>
          </a:xfrm>
        </p:grpSpPr>
        <p:sp>
          <p:nvSpPr>
            <p:cNvPr id="268" name=""/>
            <p:cNvSpPr/>
            <p:nvPr/>
          </p:nvSpPr>
          <p:spPr>
            <a:xfrm>
              <a:off x="3238560" y="5554440"/>
              <a:ext cx="524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692160" y="4741560"/>
              <a:ext cx="4336920" cy="799200"/>
              <a:chOff x="3692160" y="4741560"/>
              <a:chExt cx="4336920" cy="79920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3692160" y="4753440"/>
                <a:ext cx="0" cy="787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8000640" y="4741560"/>
                <a:ext cx="0" cy="7869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692160" y="4906440"/>
                <a:ext cx="4336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8071920" y="4692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432960" y="5203080"/>
              <a:ext cx="4854960" cy="355680"/>
              <a:chOff x="3432960" y="5203080"/>
              <a:chExt cx="4854960" cy="3556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3432960" y="5203080"/>
                <a:ext cx="345240" cy="355680"/>
                <a:chOff x="3432960" y="5203080"/>
                <a:chExt cx="345240" cy="355680"/>
              </a:xfrm>
            </p:grpSpPr>
            <p:sp>
              <p:nvSpPr>
                <p:cNvPr id="276" name=""/>
                <p:cNvSpPr/>
                <p:nvPr/>
              </p:nvSpPr>
              <p:spPr>
                <a:xfrm flipV="1">
                  <a:off x="360576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343296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43296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59100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764160" y="5203080"/>
                <a:ext cx="345240" cy="355680"/>
                <a:chOff x="3764160" y="5203080"/>
                <a:chExt cx="345240" cy="355680"/>
              </a:xfrm>
            </p:grpSpPr>
            <p:sp>
              <p:nvSpPr>
                <p:cNvPr id="281" name=""/>
                <p:cNvSpPr/>
                <p:nvPr/>
              </p:nvSpPr>
              <p:spPr>
                <a:xfrm flipV="1">
                  <a:off x="393696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376416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76416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92220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095720" y="5203080"/>
                <a:ext cx="344880" cy="355680"/>
                <a:chOff x="4095720" y="5203080"/>
                <a:chExt cx="344880" cy="355680"/>
              </a:xfrm>
            </p:grpSpPr>
            <p:sp>
              <p:nvSpPr>
                <p:cNvPr id="286" name=""/>
                <p:cNvSpPr/>
                <p:nvPr/>
              </p:nvSpPr>
              <p:spPr>
                <a:xfrm flipV="1">
                  <a:off x="42685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0957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095720" y="5558760"/>
                  <a:ext cx="18684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253760" y="5558760"/>
                  <a:ext cx="18684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426920" y="5203080"/>
                <a:ext cx="345240" cy="355680"/>
                <a:chOff x="4426920" y="5203080"/>
                <a:chExt cx="345240" cy="355680"/>
              </a:xfrm>
            </p:grpSpPr>
            <p:sp>
              <p:nvSpPr>
                <p:cNvPr id="291" name=""/>
                <p:cNvSpPr/>
                <p:nvPr/>
              </p:nvSpPr>
              <p:spPr>
                <a:xfrm flipV="1">
                  <a:off x="45997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44269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42692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8496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801320" y="5203080"/>
                <a:ext cx="345240" cy="355680"/>
                <a:chOff x="4801320" y="5203080"/>
                <a:chExt cx="345240" cy="35568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49741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48013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80132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95936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170760" y="5203080"/>
                <a:ext cx="344880" cy="355680"/>
                <a:chOff x="6170760" y="5203080"/>
                <a:chExt cx="344880" cy="355680"/>
              </a:xfrm>
            </p:grpSpPr>
            <p:sp>
              <p:nvSpPr>
                <p:cNvPr id="301" name=""/>
                <p:cNvSpPr/>
                <p:nvPr/>
              </p:nvSpPr>
              <p:spPr>
                <a:xfrm flipV="1">
                  <a:off x="634356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617076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170760" y="5558760"/>
                  <a:ext cx="18684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328800" y="5558760"/>
                  <a:ext cx="18684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133240" y="5203080"/>
                <a:ext cx="344880" cy="355680"/>
                <a:chOff x="5133240" y="5203080"/>
                <a:chExt cx="344880" cy="355680"/>
              </a:xfrm>
            </p:grpSpPr>
            <p:sp>
              <p:nvSpPr>
                <p:cNvPr id="306" name=""/>
                <p:cNvSpPr/>
                <p:nvPr/>
              </p:nvSpPr>
              <p:spPr>
                <a:xfrm flipV="1">
                  <a:off x="530604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13324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133240" y="5558760"/>
                  <a:ext cx="18684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291280" y="5558760"/>
                  <a:ext cx="18684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464440" y="5203080"/>
                <a:ext cx="345240" cy="355680"/>
                <a:chOff x="5464440" y="5203080"/>
                <a:chExt cx="345240" cy="35568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563724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546444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46444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62248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810400" y="5203080"/>
                <a:ext cx="345240" cy="355680"/>
                <a:chOff x="5810400" y="5203080"/>
                <a:chExt cx="345240" cy="355680"/>
              </a:xfrm>
            </p:grpSpPr>
            <p:sp>
              <p:nvSpPr>
                <p:cNvPr id="316" name=""/>
                <p:cNvSpPr/>
                <p:nvPr/>
              </p:nvSpPr>
              <p:spPr>
                <a:xfrm flipV="1">
                  <a:off x="598320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81040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81040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96844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516000" y="5203080"/>
                <a:ext cx="345240" cy="355680"/>
                <a:chOff x="6516000" y="5203080"/>
                <a:chExt cx="345240" cy="355680"/>
              </a:xfrm>
            </p:grpSpPr>
            <p:sp>
              <p:nvSpPr>
                <p:cNvPr id="321" name=""/>
                <p:cNvSpPr/>
                <p:nvPr/>
              </p:nvSpPr>
              <p:spPr>
                <a:xfrm flipV="1">
                  <a:off x="668880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651600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51600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7404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7596720" y="5203080"/>
                <a:ext cx="345240" cy="355680"/>
                <a:chOff x="7596720" y="5203080"/>
                <a:chExt cx="345240" cy="35568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77695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75967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59672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75476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891120" y="5203080"/>
                <a:ext cx="344880" cy="355680"/>
                <a:chOff x="6891120" y="5203080"/>
                <a:chExt cx="344880" cy="355680"/>
              </a:xfrm>
            </p:grpSpPr>
            <p:sp>
              <p:nvSpPr>
                <p:cNvPr id="331" name=""/>
                <p:cNvSpPr/>
                <p:nvPr/>
              </p:nvSpPr>
              <p:spPr>
                <a:xfrm flipV="1">
                  <a:off x="70639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68911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891120" y="5558760"/>
                  <a:ext cx="18684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049160" y="5558760"/>
                  <a:ext cx="18684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236720" y="5203080"/>
                <a:ext cx="345240" cy="355680"/>
                <a:chOff x="7236720" y="5203080"/>
                <a:chExt cx="345240" cy="355680"/>
              </a:xfrm>
            </p:grpSpPr>
            <p:sp>
              <p:nvSpPr>
                <p:cNvPr id="336" name=""/>
                <p:cNvSpPr/>
                <p:nvPr/>
              </p:nvSpPr>
              <p:spPr>
                <a:xfrm flipV="1">
                  <a:off x="74095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23672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23672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39476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942680" y="5203080"/>
                <a:ext cx="345240" cy="355680"/>
                <a:chOff x="7942680" y="5203080"/>
                <a:chExt cx="345240" cy="355680"/>
              </a:xfrm>
            </p:grpSpPr>
            <p:sp>
              <p:nvSpPr>
                <p:cNvPr id="341" name=""/>
                <p:cNvSpPr/>
                <p:nvPr/>
              </p:nvSpPr>
              <p:spPr>
                <a:xfrm flipV="1">
                  <a:off x="811548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7942680" y="5203080"/>
                  <a:ext cx="0" cy="355320"/>
                </a:xfrm>
                <a:prstGeom prst="line">
                  <a:avLst/>
                </a:prstGeom>
                <a:ln w="7632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94268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100720" y="5558760"/>
                  <a:ext cx="187200" cy="0"/>
                </a:xfrm>
                <a:prstGeom prst="line">
                  <a:avLst/>
                </a:prstGeom>
                <a:ln w="3816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5048280" y="5759280"/>
              <a:ext cx="156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Q = n/k.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057480" y="4221000"/>
            <a:ext cx="5692680" cy="2159280"/>
          </a:xfrm>
          <a:prstGeom prst="roundRect">
            <a:avLst>
              <a:gd name="adj" fmla="val 16667"/>
            </a:avLst>
          </a:prstGeom>
          <a:solidFill>
            <a:srgbClr val="ffff0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peilmeting met Webc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33560" y="3745080"/>
            <a:ext cx="503280" cy="98280"/>
          </a:xfrm>
          <a:prstGeom prst="rect">
            <a:avLst/>
          </a:prstGeom>
          <a:solidFill>
            <a:srgbClr val="fabb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33560" y="2521080"/>
            <a:ext cx="503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59400" y="5600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73200" y="3745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021200" y="3817800"/>
            <a:ext cx="863280" cy="1798560"/>
            <a:chOff x="4021200" y="3817800"/>
            <a:chExt cx="863280" cy="1798560"/>
          </a:xfrm>
        </p:grpSpPr>
        <p:sp>
          <p:nvSpPr>
            <p:cNvPr id="353" name=""/>
            <p:cNvSpPr/>
            <p:nvPr/>
          </p:nvSpPr>
          <p:spPr>
            <a:xfrm rot="16200000">
              <a:off x="4034880" y="3929760"/>
              <a:ext cx="188280" cy="215640"/>
            </a:xfrm>
            <a:custGeom>
              <a:avLst/>
              <a:gdLst>
                <a:gd name="textAreaLeft" fmla="*/ 41400 w 188280"/>
                <a:gd name="textAreaRight" fmla="*/ 146880 w 188280"/>
                <a:gd name="textAreaTop" fmla="*/ 47160 h 215640"/>
                <a:gd name="textAreaBottom" fmla="*/ 16848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021200" y="4194720"/>
              <a:ext cx="863280" cy="1421640"/>
              <a:chOff x="4021200" y="4194720"/>
              <a:chExt cx="863280" cy="142164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4021200" y="4194720"/>
                <a:ext cx="359280" cy="142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25200" y="4194720"/>
                <a:ext cx="359280" cy="142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52120" y="4194720"/>
                <a:ext cx="0" cy="142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201920" y="3817800"/>
              <a:ext cx="502200" cy="43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2436840" y="2521080"/>
            <a:ext cx="1584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436840" y="4033440"/>
            <a:ext cx="158436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694560" y="3395520"/>
            <a:ext cx="1009440" cy="792000"/>
            <a:chOff x="6694560" y="3395520"/>
            <a:chExt cx="1009440" cy="792000"/>
          </a:xfrm>
        </p:grpSpPr>
        <p:sp>
          <p:nvSpPr>
            <p:cNvPr id="362" name=""/>
            <p:cNvSpPr/>
            <p:nvPr/>
          </p:nvSpPr>
          <p:spPr>
            <a:xfrm>
              <a:off x="6694560" y="3395520"/>
              <a:ext cx="100944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67640" y="3466800"/>
              <a:ext cx="86364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07280" y="4187880"/>
            <a:ext cx="1584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57920" y="439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018200" y="3467160"/>
            <a:ext cx="362160" cy="628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593520" y="3019320"/>
            <a:ext cx="26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c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esolutie 640x480 pix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58" idx="6"/>
            <a:endCxn id="364" idx="1"/>
          </p:cNvCxnSpPr>
          <p:nvPr/>
        </p:nvCxnSpPr>
        <p:spPr>
          <a:xfrm>
            <a:off x="4703760" y="4038480"/>
            <a:ext cx="1704240" cy="402480"/>
          </a:xfrm>
          <a:prstGeom prst="curvedConnector5">
            <a:avLst>
              <a:gd name="adj1" fmla="val 49947"/>
              <a:gd name="adj2" fmla="val 49955"/>
              <a:gd name="adj3" fmla="val 4994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9" name=""/>
          <p:cNvSpPr/>
          <p:nvPr/>
        </p:nvSpPr>
        <p:spPr>
          <a:xfrm flipV="1">
            <a:off x="1357200" y="25210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50840" y="2089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5960" y="373212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veau (n c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33560" y="3841920"/>
            <a:ext cx="503280" cy="170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92480" y="5041800"/>
            <a:ext cx="43164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peilmeting met Webc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408640" y="191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7960" y="4986360"/>
            <a:ext cx="39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etectie van de overgang tussen lucht en water: discrete gradient magnitude van de pixelwaarde in de y richting (binnen het detectievens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408640" y="2133360"/>
            <a:ext cx="2663280" cy="432000"/>
            <a:chOff x="5408640" y="2133360"/>
            <a:chExt cx="2663280" cy="432000"/>
          </a:xfrm>
        </p:grpSpPr>
        <p:sp>
          <p:nvSpPr>
            <p:cNvPr id="378" name=""/>
            <p:cNvSpPr/>
            <p:nvPr/>
          </p:nvSpPr>
          <p:spPr>
            <a:xfrm flipH="1">
              <a:off x="6739920" y="2565360"/>
              <a:ext cx="13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739920" y="213336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408640" y="2133720"/>
              <a:ext cx="133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057320" y="2171880"/>
            <a:ext cx="2590920" cy="17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109960" y="2171880"/>
            <a:ext cx="431640" cy="1774800"/>
            <a:chOff x="2109960" y="2171880"/>
            <a:chExt cx="431640" cy="1774800"/>
          </a:xfrm>
        </p:grpSpPr>
        <p:sp>
          <p:nvSpPr>
            <p:cNvPr id="383" name=""/>
            <p:cNvSpPr/>
            <p:nvPr/>
          </p:nvSpPr>
          <p:spPr>
            <a:xfrm>
              <a:off x="2109960" y="2890080"/>
              <a:ext cx="431640" cy="1056600"/>
            </a:xfrm>
            <a:prstGeom prst="rect">
              <a:avLst/>
            </a:prstGeom>
            <a:solidFill>
              <a:srgbClr val="fabb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09960" y="2171880"/>
              <a:ext cx="431640" cy="71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84160" y="217188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209520" y="2861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80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7880" y="1262160"/>
            <a:ext cx="40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gitaal Beeld afkomstig van de webc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09960" y="41274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2240" y="420048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ievenster (manueel instelba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63800" y="217008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38680" y="21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4619880" y="194256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xelwaa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01000" y="2143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92640" y="270972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265720" y="2732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857000" y="27590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072280" y="2494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88560" y="172404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cht/g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70720" y="272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408640" y="306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65640" y="384804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911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57000" y="39117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408880" y="389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50000" y="320040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66560" y="320364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olute waar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 de grad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452920" y="35622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87920" y="3254400"/>
            <a:ext cx="9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pix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080040" y="5181480"/>
            <a:ext cx="1584360" cy="792000"/>
            <a:chOff x="6080040" y="5181480"/>
            <a:chExt cx="1584360" cy="792000"/>
          </a:xfrm>
        </p:grpSpPr>
        <p:sp>
          <p:nvSpPr>
            <p:cNvPr id="410" name=""/>
            <p:cNvSpPr/>
            <p:nvPr/>
          </p:nvSpPr>
          <p:spPr>
            <a:xfrm>
              <a:off x="6080040" y="5181480"/>
              <a:ext cx="158436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78040" y="5418000"/>
              <a:ext cx="12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=p*x/4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165280" y="4253040"/>
            <a:ext cx="357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wordt bepaald door te zoe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ar het maximum van de gradi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itu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09960" y="39117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1600" y="39117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trol System Building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15960" y="1371600"/>
            <a:ext cx="7734240" cy="5010120"/>
            <a:chOff x="615960" y="1371600"/>
            <a:chExt cx="7734240" cy="5010120"/>
          </a:xfrm>
        </p:grpSpPr>
        <p:sp>
          <p:nvSpPr>
            <p:cNvPr id="417" name=""/>
            <p:cNvSpPr/>
            <p:nvPr/>
          </p:nvSpPr>
          <p:spPr>
            <a:xfrm>
              <a:off x="1349280" y="5940360"/>
              <a:ext cx="6546960" cy="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615960" y="1973160"/>
              <a:ext cx="1281240" cy="894960"/>
              <a:chOff x="615960" y="1973160"/>
              <a:chExt cx="1281240" cy="89496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907560" y="1973160"/>
                <a:ext cx="989640" cy="810360"/>
                <a:chOff x="907560" y="1973160"/>
                <a:chExt cx="989640" cy="81036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907560" y="1973160"/>
                  <a:ext cx="989640" cy="810360"/>
                  <a:chOff x="907560" y="1973160"/>
                  <a:chExt cx="989640" cy="810360"/>
                </a:xfrm>
              </p:grpSpPr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907560" y="2430000"/>
                    <a:ext cx="989640" cy="353520"/>
                    <a:chOff x="907560" y="2430000"/>
                    <a:chExt cx="989640" cy="3535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907560" y="2430000"/>
                      <a:ext cx="567000" cy="35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6" h="703">
                          <a:moveTo>
                            <a:pt x="1125" y="215"/>
                          </a:moveTo>
                          <a:lnTo>
                            <a:pt x="1125" y="702"/>
                          </a:lnTo>
                          <a:lnTo>
                            <a:pt x="0" y="343"/>
                          </a:lnTo>
                          <a:lnTo>
                            <a:pt x="0" y="0"/>
                          </a:lnTo>
                          <a:lnTo>
                            <a:pt x="1125" y="215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1474200" y="2514240"/>
                      <a:ext cx="423000" cy="26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0" h="535">
                          <a:moveTo>
                            <a:pt x="0" y="47"/>
                          </a:moveTo>
                          <a:lnTo>
                            <a:pt x="0" y="534"/>
                          </a:lnTo>
                          <a:lnTo>
                            <a:pt x="839" y="414"/>
                          </a:lnTo>
                          <a:lnTo>
                            <a:pt x="839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907560" y="2430000"/>
                      <a:ext cx="989640" cy="10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5" h="216">
                          <a:moveTo>
                            <a:pt x="1964" y="168"/>
                          </a:moveTo>
                          <a:lnTo>
                            <a:pt x="1117" y="215"/>
                          </a:lnTo>
                          <a:lnTo>
                            <a:pt x="0" y="0"/>
                          </a:lnTo>
                          <a:lnTo>
                            <a:pt x="822" y="0"/>
                          </a:lnTo>
                          <a:lnTo>
                            <a:pt x="1964" y="16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5" name=""/>
                  <p:cNvSpPr/>
                  <p:nvPr/>
                </p:nvSpPr>
                <p:spPr>
                  <a:xfrm>
                    <a:off x="1215720" y="2400840"/>
                    <a:ext cx="359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202">
                        <a:moveTo>
                          <a:pt x="713" y="114"/>
                        </a:moveTo>
                        <a:lnTo>
                          <a:pt x="713" y="180"/>
                        </a:lnTo>
                        <a:lnTo>
                          <a:pt x="381" y="201"/>
                        </a:lnTo>
                        <a:lnTo>
                          <a:pt x="0" y="129"/>
                        </a:lnTo>
                        <a:lnTo>
                          <a:pt x="0" y="0"/>
                        </a:lnTo>
                        <a:lnTo>
                          <a:pt x="713" y="114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1019520" y="1973160"/>
                    <a:ext cx="801000" cy="506160"/>
                    <a:chOff x="1019520" y="1973160"/>
                    <a:chExt cx="801000" cy="50616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1019520" y="1973160"/>
                      <a:ext cx="459000" cy="49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1" h="983">
                          <a:moveTo>
                            <a:pt x="783" y="982"/>
                          </a:moveTo>
                          <a:lnTo>
                            <a:pt x="910" y="32"/>
                          </a:lnTo>
                          <a:lnTo>
                            <a:pt x="128" y="0"/>
                          </a:lnTo>
                          <a:lnTo>
                            <a:pt x="0" y="846"/>
                          </a:lnTo>
                          <a:lnTo>
                            <a:pt x="783" y="982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1414080" y="1988640"/>
                      <a:ext cx="406440" cy="49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7" h="976">
                          <a:moveTo>
                            <a:pt x="127" y="0"/>
                          </a:moveTo>
                          <a:lnTo>
                            <a:pt x="806" y="217"/>
                          </a:lnTo>
                          <a:lnTo>
                            <a:pt x="710" y="975"/>
                          </a:lnTo>
                          <a:lnTo>
                            <a:pt x="0" y="951"/>
                          </a:lnTo>
                          <a:lnTo>
                            <a:pt x="12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1072080" y="2021760"/>
                      <a:ext cx="329400" cy="37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4" h="740">
                          <a:moveTo>
                            <a:pt x="653" y="33"/>
                          </a:moveTo>
                          <a:lnTo>
                            <a:pt x="560" y="739"/>
                          </a:lnTo>
                          <a:lnTo>
                            <a:pt x="0" y="656"/>
                          </a:lnTo>
                          <a:lnTo>
                            <a:pt x="95" y="0"/>
                          </a:lnTo>
                          <a:lnTo>
                            <a:pt x="653" y="33"/>
                          </a:lnTo>
                        </a:path>
                      </a:pathLst>
                    </a:custGeom>
                    <a:solidFill>
                      <a:srgbClr val="0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945000" y="2467800"/>
                  <a:ext cx="325440" cy="230040"/>
                  <a:chOff x="945000" y="2467800"/>
                  <a:chExt cx="325440" cy="23004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947160" y="2467800"/>
                    <a:ext cx="323280" cy="230040"/>
                  </a:xfrm>
                  <a:custGeom>
                    <a:avLst/>
                    <a:gdLst/>
                    <a:ahLst/>
                    <a:rect l="l" t="t" r="r" b="b"/>
                    <a:pathLst>
                      <a:path w="642" h="458">
                        <a:moveTo>
                          <a:pt x="0" y="0"/>
                        </a:moveTo>
                        <a:lnTo>
                          <a:pt x="641" y="137"/>
                        </a:lnTo>
                        <a:lnTo>
                          <a:pt x="641" y="457"/>
                        </a:lnTo>
                        <a:lnTo>
                          <a:pt x="0" y="25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>
                    <a:off x="967680" y="2514240"/>
                    <a:ext cx="101520" cy="37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1113480" y="2562480"/>
                    <a:ext cx="96480" cy="97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083240" y="2498400"/>
                    <a:ext cx="0" cy="14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1238400" y="25326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950760" y="2529360"/>
                    <a:ext cx="289440" cy="71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945000" y="2500560"/>
                    <a:ext cx="299160" cy="73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615960" y="2473200"/>
                <a:ext cx="772560" cy="394920"/>
                <a:chOff x="615960" y="2473200"/>
                <a:chExt cx="772560" cy="39492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212840" y="2687400"/>
                  <a:ext cx="126000" cy="93600"/>
                  <a:chOff x="1212840" y="2687400"/>
                  <a:chExt cx="126000" cy="936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302120" y="2687400"/>
                    <a:ext cx="367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7">
                        <a:moveTo>
                          <a:pt x="51" y="0"/>
                        </a:moveTo>
                        <a:lnTo>
                          <a:pt x="72" y="174"/>
                        </a:lnTo>
                        <a:lnTo>
                          <a:pt x="21" y="186"/>
                        </a:lnTo>
                        <a:lnTo>
                          <a:pt x="0" y="9"/>
                        </a:lnTo>
                        <a:lnTo>
                          <a:pt x="51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212840" y="2699280"/>
                    <a:ext cx="10044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63">
                        <a:moveTo>
                          <a:pt x="180" y="6"/>
                        </a:moveTo>
                        <a:lnTo>
                          <a:pt x="198" y="162"/>
                        </a:lnTo>
                        <a:lnTo>
                          <a:pt x="0" y="81"/>
                        </a:lnTo>
                        <a:lnTo>
                          <a:pt x="78" y="57"/>
                        </a:lnTo>
                        <a:lnTo>
                          <a:pt x="147" y="93"/>
                        </a:lnTo>
                        <a:lnTo>
                          <a:pt x="126" y="0"/>
                        </a:lnTo>
                        <a:lnTo>
                          <a:pt x="180" y="6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615960" y="2473200"/>
                  <a:ext cx="772560" cy="394920"/>
                  <a:chOff x="615960" y="2473200"/>
                  <a:chExt cx="772560" cy="3949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617760" y="2473200"/>
                    <a:ext cx="75672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695">
                        <a:moveTo>
                          <a:pt x="1501" y="295"/>
                        </a:moveTo>
                        <a:lnTo>
                          <a:pt x="782" y="694"/>
                        </a:lnTo>
                        <a:lnTo>
                          <a:pt x="0" y="303"/>
                        </a:lnTo>
                        <a:lnTo>
                          <a:pt x="599" y="0"/>
                        </a:lnTo>
                        <a:lnTo>
                          <a:pt x="1501" y="295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009440" y="2619360"/>
                    <a:ext cx="37908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3" h="492">
                        <a:moveTo>
                          <a:pt x="725" y="0"/>
                        </a:moveTo>
                        <a:lnTo>
                          <a:pt x="0" y="407"/>
                        </a:lnTo>
                        <a:lnTo>
                          <a:pt x="21" y="491"/>
                        </a:lnTo>
                        <a:lnTo>
                          <a:pt x="752" y="77"/>
                        </a:lnTo>
                        <a:lnTo>
                          <a:pt x="725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15960" y="2625480"/>
                    <a:ext cx="40428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803" h="483">
                        <a:moveTo>
                          <a:pt x="802" y="482"/>
                        </a:moveTo>
                        <a:lnTo>
                          <a:pt x="778" y="392"/>
                        </a:lnTo>
                        <a:lnTo>
                          <a:pt x="0" y="0"/>
                        </a:lnTo>
                        <a:lnTo>
                          <a:pt x="27" y="71"/>
                        </a:lnTo>
                        <a:lnTo>
                          <a:pt x="802" y="482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921960" y="2637360"/>
                    <a:ext cx="29952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5" h="299">
                        <a:moveTo>
                          <a:pt x="594" y="77"/>
                        </a:moveTo>
                        <a:lnTo>
                          <a:pt x="388" y="0"/>
                        </a:lnTo>
                        <a:lnTo>
                          <a:pt x="0" y="208"/>
                        </a:lnTo>
                        <a:lnTo>
                          <a:pt x="196" y="298"/>
                        </a:lnTo>
                        <a:lnTo>
                          <a:pt x="594" y="77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53400" y="2529000"/>
                    <a:ext cx="44424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882" h="404">
                        <a:moveTo>
                          <a:pt x="881" y="196"/>
                        </a:moveTo>
                        <a:lnTo>
                          <a:pt x="497" y="403"/>
                        </a:lnTo>
                        <a:lnTo>
                          <a:pt x="0" y="173"/>
                        </a:lnTo>
                        <a:lnTo>
                          <a:pt x="361" y="0"/>
                        </a:lnTo>
                        <a:lnTo>
                          <a:pt x="881" y="196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43480" y="2484000"/>
                    <a:ext cx="48996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3" h="367">
                        <a:moveTo>
                          <a:pt x="770" y="366"/>
                        </a:moveTo>
                        <a:lnTo>
                          <a:pt x="972" y="265"/>
                        </a:lnTo>
                        <a:lnTo>
                          <a:pt x="158" y="0"/>
                        </a:lnTo>
                        <a:lnTo>
                          <a:pt x="0" y="75"/>
                        </a:lnTo>
                        <a:lnTo>
                          <a:pt x="770" y="366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898560" y="2486160"/>
                    <a:ext cx="434160" cy="15660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875880" y="2497320"/>
                    <a:ext cx="420480" cy="1576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858600" y="2509200"/>
                    <a:ext cx="411480" cy="16200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flipV="1">
                    <a:off x="807840" y="2534400"/>
                    <a:ext cx="403920" cy="1666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flipV="1">
                    <a:off x="777240" y="2551320"/>
                    <a:ext cx="400680" cy="1684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flipV="1">
                    <a:off x="759240" y="2569680"/>
                    <a:ext cx="379440" cy="1666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 flipV="1">
                    <a:off x="732960" y="2584800"/>
                    <a:ext cx="366480" cy="1666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 flipV="1">
                    <a:off x="703080" y="2604600"/>
                    <a:ext cx="357480" cy="1652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986760" y="2667960"/>
                    <a:ext cx="208440" cy="1065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947880" y="2653200"/>
                    <a:ext cx="205200" cy="1018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864720" y="2619000"/>
                    <a:ext cx="199800" cy="950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>
                    <a:off x="820440" y="2600640"/>
                    <a:ext cx="199440" cy="950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779040" y="2584080"/>
                    <a:ext cx="193680" cy="946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H="1">
                    <a:off x="741240" y="2567520"/>
                    <a:ext cx="189720" cy="903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>
                    <a:off x="700920" y="2550960"/>
                    <a:ext cx="190800" cy="8640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>
                    <a:off x="1176480" y="2603880"/>
                    <a:ext cx="104040" cy="421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>
                    <a:off x="1119600" y="2582640"/>
                    <a:ext cx="98640" cy="4320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1061280" y="2564640"/>
                    <a:ext cx="100080" cy="399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>
                    <a:off x="1005120" y="2544840"/>
                    <a:ext cx="100080" cy="385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>
                    <a:off x="952200" y="2525400"/>
                    <a:ext cx="92880" cy="385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890640" y="2504880"/>
                    <a:ext cx="90000" cy="3600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0" name=""/>
            <p:cNvSpPr/>
            <p:nvPr/>
          </p:nvSpPr>
          <p:spPr>
            <a:xfrm>
              <a:off x="900000" y="4184640"/>
              <a:ext cx="898560" cy="1479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9520" y="2762280"/>
              <a:ext cx="0" cy="140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349280" y="5649480"/>
              <a:ext cx="0" cy="29052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6200000">
              <a:off x="528840" y="3369600"/>
              <a:ext cx="13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IA serial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41720" y="4182840"/>
              <a:ext cx="898560" cy="1479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g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591000" y="5647680"/>
              <a:ext cx="0" cy="29052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591000" y="2368440"/>
              <a:ext cx="0" cy="1814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938760" y="2193480"/>
              <a:ext cx="0" cy="1989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6200000">
              <a:off x="2711160" y="3315600"/>
              <a:ext cx="145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Fiber optic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249720" y="2534760"/>
              <a:ext cx="0" cy="165564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6200000">
              <a:off x="2322360" y="2368080"/>
              <a:ext cx="1131840" cy="319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V 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13200" y="2549520"/>
              <a:ext cx="23148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3274920" y="1946160"/>
              <a:ext cx="561600" cy="433440"/>
              <a:chOff x="3274920" y="1946160"/>
              <a:chExt cx="561600" cy="433440"/>
            </a:xfrm>
          </p:grpSpPr>
          <p:sp>
            <p:nvSpPr>
              <p:cNvPr id="483" name=""/>
              <p:cNvSpPr/>
              <p:nvPr/>
            </p:nvSpPr>
            <p:spPr>
              <a:xfrm>
                <a:off x="3367080" y="1946160"/>
                <a:ext cx="469440" cy="433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10360" y="2076120"/>
                <a:ext cx="182880" cy="173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274920" y="2137320"/>
                <a:ext cx="165600" cy="181080"/>
              </a:xfrm>
              <a:custGeom>
                <a:avLst/>
                <a:gdLst/>
                <a:ahLst/>
                <a:rect l="l" t="t" r="r" b="b"/>
                <a:pathLst>
                  <a:path w="140" h="163">
                    <a:moveTo>
                      <a:pt x="0" y="7"/>
                    </a:moveTo>
                    <a:lnTo>
                      <a:pt x="140" y="163"/>
                    </a:lnTo>
                    <a:lnTo>
                      <a:pt x="7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008600" y="2039760"/>
              <a:ext cx="616680" cy="307080"/>
              <a:chOff x="4008600" y="2039760"/>
              <a:chExt cx="616680" cy="30708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4008600" y="2060280"/>
                <a:ext cx="334800" cy="260640"/>
                <a:chOff x="4008600" y="2060280"/>
                <a:chExt cx="334800" cy="2606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008600" y="2190600"/>
                  <a:ext cx="334800" cy="130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4008600" y="2059920"/>
                  <a:ext cx="33480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4196160" y="20397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0/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3925800" y="2200320"/>
              <a:ext cx="2318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95880" y="1649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38640" y="4171680"/>
              <a:ext cx="898560" cy="1479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587920" y="5636880"/>
              <a:ext cx="0" cy="29052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5495760" y="2181240"/>
              <a:ext cx="184320" cy="1990080"/>
              <a:chOff x="5495760" y="2181240"/>
              <a:chExt cx="184320" cy="1990080"/>
            </a:xfrm>
          </p:grpSpPr>
          <p:sp>
            <p:nvSpPr>
              <p:cNvPr id="496" name=""/>
              <p:cNvSpPr/>
              <p:nvPr/>
            </p:nvSpPr>
            <p:spPr>
              <a:xfrm>
                <a:off x="5495760" y="2181240"/>
                <a:ext cx="0" cy="19900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680080" y="2181240"/>
                <a:ext cx="0" cy="19900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rot="16200000">
              <a:off x="4617720" y="3269520"/>
              <a:ext cx="145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Fiber optic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261040" y="1380960"/>
              <a:ext cx="561600" cy="825480"/>
              <a:chOff x="5261040" y="1380960"/>
              <a:chExt cx="561600" cy="82548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5261040" y="1773000"/>
                <a:ext cx="561600" cy="433440"/>
                <a:chOff x="5261040" y="1773000"/>
                <a:chExt cx="561600" cy="4334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353200" y="1773000"/>
                  <a:ext cx="469440" cy="4334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96480" y="1902960"/>
                  <a:ext cx="182880" cy="173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261040" y="1964160"/>
                  <a:ext cx="165600" cy="181080"/>
                </a:xfrm>
                <a:custGeom>
                  <a:avLst/>
                  <a:gdLst/>
                  <a:ahLst/>
                  <a:rect l="l" t="t" r="r" b="b"/>
                  <a:pathLst>
                    <a:path w="140" h="163">
                      <a:moveTo>
                        <a:pt x="0" y="7"/>
                      </a:moveTo>
                      <a:lnTo>
                        <a:pt x="140" y="163"/>
                      </a:lnTo>
                      <a:lnTo>
                        <a:pt x="78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5405400" y="138096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294600" y="4184640"/>
              <a:ext cx="898200" cy="1479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p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743880" y="5649480"/>
              <a:ext cx="0" cy="29052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559200" y="1390680"/>
              <a:ext cx="370080" cy="815400"/>
              <a:chOff x="6559200" y="1390680"/>
              <a:chExt cx="370080" cy="81540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6559200" y="1798200"/>
                <a:ext cx="370080" cy="407880"/>
                <a:chOff x="6559200" y="1798200"/>
                <a:chExt cx="370080" cy="407880"/>
              </a:xfrm>
            </p:grpSpPr>
            <p:sp>
              <p:nvSpPr>
                <p:cNvPr id="509" name=""/>
                <p:cNvSpPr/>
                <p:nvPr/>
              </p:nvSpPr>
              <p:spPr>
                <a:xfrm rot="16200000">
                  <a:off x="6632640" y="1909440"/>
                  <a:ext cx="407880" cy="185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 rot="16200000">
                  <a:off x="6447600" y="1909440"/>
                  <a:ext cx="407880" cy="184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6575400" y="13906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flipV="1">
              <a:off x="6743880" y="1992240"/>
              <a:ext cx="0" cy="21924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51640" y="4184640"/>
              <a:ext cx="898560" cy="1479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900920" y="5649480"/>
              <a:ext cx="0" cy="29052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7640640" y="1903320"/>
              <a:ext cx="522000" cy="302760"/>
              <a:chOff x="7640640" y="1903320"/>
              <a:chExt cx="522000" cy="302760"/>
            </a:xfrm>
          </p:grpSpPr>
          <p:sp>
            <p:nvSpPr>
              <p:cNvPr id="516" name=""/>
              <p:cNvSpPr/>
              <p:nvPr/>
            </p:nvSpPr>
            <p:spPr>
              <a:xfrm>
                <a:off x="7640640" y="1903320"/>
                <a:ext cx="522000" cy="302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7734240" y="1992960"/>
                <a:ext cx="370800" cy="128520"/>
                <a:chOff x="7734240" y="1992960"/>
                <a:chExt cx="370800" cy="1285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7734240" y="1992960"/>
                  <a:ext cx="185040" cy="128520"/>
                </a:xfrm>
                <a:prstGeom prst="ellipse">
                  <a:avLst/>
                </a:prstGeom>
                <a:noFill/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919280" y="1992960"/>
                  <a:ext cx="185760" cy="128520"/>
                </a:xfrm>
                <a:prstGeom prst="ellipse">
                  <a:avLst/>
                </a:prstGeom>
                <a:noFill/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"/>
            <p:cNvSpPr/>
            <p:nvPr/>
          </p:nvSpPr>
          <p:spPr>
            <a:xfrm flipV="1">
              <a:off x="7900920" y="2211120"/>
              <a:ext cx="0" cy="198936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2475360" y="1371600"/>
              <a:ext cx="790560" cy="363240"/>
              <a:chOff x="2475360" y="1371600"/>
              <a:chExt cx="790560" cy="363240"/>
            </a:xfrm>
          </p:grpSpPr>
          <p:sp>
            <p:nvSpPr>
              <p:cNvPr id="522" name=""/>
              <p:cNvSpPr/>
              <p:nvPr/>
            </p:nvSpPr>
            <p:spPr>
              <a:xfrm>
                <a:off x="2475360" y="1371600"/>
                <a:ext cx="392040" cy="3632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67040" y="1546200"/>
                <a:ext cx="392400" cy="14436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2873880" y="1379160"/>
                <a:ext cx="392040" cy="14436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flipV="1">
              <a:off x="1379520" y="1541520"/>
              <a:ext cx="0" cy="4507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364760" y="1542960"/>
              <a:ext cx="11019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50240" y="154296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Arial"/>
                </a:rPr>
                <a:t>U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7960" y="6013440"/>
              <a:ext cx="32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ff"/>
                  </a:solidFill>
                  <a:latin typeface="Arial"/>
                </a:rPr>
                <a:t>EIA 485 instrumentation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6200000">
              <a:off x="2535480" y="346896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Arial"/>
                </a:rPr>
                <a:t>0-5V sig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200000">
              <a:off x="3043800" y="3296520"/>
              <a:ext cx="145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24V DC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6200000">
              <a:off x="5705280" y="3144960"/>
              <a:ext cx="178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4-20mA DC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200000">
              <a:off x="6953760" y="3259080"/>
              <a:ext cx="155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Arial"/>
                </a:rPr>
                <a:t>Pulse frequ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23:05:23Z</dcterms:created>
  <dc:creator>J Tiberghien</dc:creator>
  <dc:description/>
  <dc:language>en-US</dc:language>
  <cp:lastModifiedBy>Win XP</cp:lastModifiedBy>
  <dcterms:modified xsi:type="dcterms:W3CDTF">2008-01-31T13:31:20Z</dcterms:modified>
  <cp:revision>29</cp:revision>
  <dc:subject/>
  <dc:title>Tower configurations</dc:title>
</cp:coreProperties>
</file>