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8D94-8B0E-40D1-A731-E24AB7CA74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0782-3888-418C-9DB5-5979AA32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84C3-A8A5-4408-A248-2944522D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B5E1-3460-4F26-9627-73B6F05228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A1DDD-9505-40AC-A030-B332251D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8A04-38E5-48EB-83FC-7A4BCEBF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8A056-2D0D-4DDD-B904-0C81C397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F66B0-1519-48A5-A64D-8FD02E15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924B-3757-4CDB-A0A2-2A192AB2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ED28-BFD0-4FBE-9380-FA1E742D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DCFC-6A47-4585-8B10-F1CC75C4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47EC-EAF9-44DB-BE9A-98BF6330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65F7-5183-445D-998D-0ABEBD7E8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90720" y="5911920"/>
            <a:ext cx="71625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Informatica en Communicatie Tech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30040" y="185760"/>
            <a:ext cx="3490920" cy="70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ff"/>
                </a:solidFill>
                <a:latin typeface="Times New Roman"/>
              </a:rPr>
              <a:t>Werkcollege</a:t>
            </a:r>
            <a:br>
              <a:rPr sz="5400"/>
            </a:br>
            <a:r>
              <a:rPr b="0" lang="en-US" sz="5400" spc="-1" strike="noStrike">
                <a:solidFill>
                  <a:srgbClr val="3399ff"/>
                </a:solidFill>
                <a:latin typeface="Times New Roman"/>
              </a:rPr>
              <a:t>Elektrotechnie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6520" y="328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Tweede Bachelor Ingenieurswetenschap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2007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Times New Roman"/>
              </a:rPr>
              <a:t>O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Times New Roman"/>
              </a:rPr>
              <a:t>Marnix Goossens – Jacques TIBERGH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1928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loop van het projec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05080" y="1200240"/>
            <a:ext cx="6483240" cy="606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nnismaking met opstelling en si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05080" y="1922400"/>
            <a:ext cx="6483240" cy="606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deling taken in groep + tijd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05080" y="4673520"/>
            <a:ext cx="6483240" cy="606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ontwerp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06520" y="2771640"/>
            <a:ext cx="64753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point (einde dag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406520" y="5435640"/>
            <a:ext cx="643428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point (einde dag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374640" y="3465360"/>
            <a:ext cx="2330640" cy="1017360"/>
            <a:chOff x="3374640" y="3465360"/>
            <a:chExt cx="2330640" cy="1017360"/>
          </a:xfrm>
        </p:grpSpPr>
        <p:grpSp>
          <p:nvGrpSpPr>
            <p:cNvPr id="468" name=""/>
            <p:cNvGrpSpPr/>
            <p:nvPr/>
          </p:nvGrpSpPr>
          <p:grpSpPr>
            <a:xfrm>
              <a:off x="3719880" y="3465360"/>
              <a:ext cx="1985400" cy="1017360"/>
              <a:chOff x="3719880" y="3465360"/>
              <a:chExt cx="1985400" cy="1017360"/>
            </a:xfrm>
          </p:grpSpPr>
          <p:sp>
            <p:nvSpPr>
              <p:cNvPr id="469" name=""/>
              <p:cNvSpPr/>
              <p:nvPr/>
            </p:nvSpPr>
            <p:spPr>
              <a:xfrm>
                <a:off x="3719880" y="3465360"/>
                <a:ext cx="19854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euze Actuator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719880" y="4025520"/>
                <a:ext cx="197748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ctuatoren prober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H="1" flipV="1">
              <a:off x="3374280" y="3543120"/>
              <a:ext cx="350280" cy="804960"/>
            </a:xfrm>
            <a:custGeom>
              <a:avLst/>
              <a:gdLst>
                <a:gd name="textAreaLeft" fmla="*/ 46800 w 350280"/>
                <a:gd name="textAreaRight" fmla="*/ 303480 w 350280"/>
                <a:gd name="textAreaTop" fmla="*/ 140760 h 804960"/>
                <a:gd name="textAreaBottom" fmla="*/ 583560 h 8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787320" y="3456000"/>
            <a:ext cx="2403360" cy="1017360"/>
            <a:chOff x="787320" y="3456000"/>
            <a:chExt cx="2403360" cy="1017360"/>
          </a:xfrm>
        </p:grpSpPr>
        <p:grpSp>
          <p:nvGrpSpPr>
            <p:cNvPr id="473" name=""/>
            <p:cNvGrpSpPr/>
            <p:nvPr/>
          </p:nvGrpSpPr>
          <p:grpSpPr>
            <a:xfrm>
              <a:off x="1146960" y="3456000"/>
              <a:ext cx="2043720" cy="1017360"/>
              <a:chOff x="1146960" y="3456000"/>
              <a:chExt cx="2043720" cy="1017360"/>
            </a:xfrm>
          </p:grpSpPr>
          <p:sp>
            <p:nvSpPr>
              <p:cNvPr id="474" name=""/>
              <p:cNvSpPr/>
              <p:nvPr/>
            </p:nvSpPr>
            <p:spPr>
              <a:xfrm>
                <a:off x="1146960" y="3456000"/>
                <a:ext cx="204372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euze sensor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146960" y="4016160"/>
                <a:ext cx="203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nsoren prober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 flipH="1" flipV="1">
              <a:off x="787320" y="3535200"/>
              <a:ext cx="360720" cy="804960"/>
            </a:xfrm>
            <a:custGeom>
              <a:avLst/>
              <a:gdLst>
                <a:gd name="textAreaLeft" fmla="*/ 48240 w 360720"/>
                <a:gd name="textAreaRight" fmla="*/ 312480 w 360720"/>
                <a:gd name="textAreaTop" fmla="*/ 140760 h 804960"/>
                <a:gd name="textAreaBottom" fmla="*/ 583560 h 8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933880" y="3449520"/>
            <a:ext cx="2330280" cy="1017360"/>
            <a:chOff x="5933880" y="3449520"/>
            <a:chExt cx="2330280" cy="1017360"/>
          </a:xfrm>
        </p:grpSpPr>
        <p:grpSp>
          <p:nvGrpSpPr>
            <p:cNvPr id="478" name=""/>
            <p:cNvGrpSpPr/>
            <p:nvPr/>
          </p:nvGrpSpPr>
          <p:grpSpPr>
            <a:xfrm>
              <a:off x="6279120" y="3449520"/>
              <a:ext cx="1985040" cy="1017360"/>
              <a:chOff x="6279120" y="3449520"/>
              <a:chExt cx="1985040" cy="1017360"/>
            </a:xfrm>
          </p:grpSpPr>
          <p:sp>
            <p:nvSpPr>
              <p:cNvPr id="479" name=""/>
              <p:cNvSpPr/>
              <p:nvPr/>
            </p:nvSpPr>
            <p:spPr>
              <a:xfrm>
                <a:off x="6279120" y="3449520"/>
                <a:ext cx="19850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geling bedenk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279120" y="4009680"/>
                <a:ext cx="197712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geling simuler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flipH="1" flipV="1">
              <a:off x="5933520" y="3527280"/>
              <a:ext cx="350280" cy="804960"/>
            </a:xfrm>
            <a:custGeom>
              <a:avLst/>
              <a:gdLst>
                <a:gd name="textAreaLeft" fmla="*/ 46800 w 350280"/>
                <a:gd name="textAreaRight" fmla="*/ 303480 w 350280"/>
                <a:gd name="textAreaTop" fmla="*/ 140760 h 804960"/>
                <a:gd name="textAreaBottom" fmla="*/ 583560 h 8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17480" y="14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loop van het projec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405080" y="1195560"/>
            <a:ext cx="6483240" cy="610920"/>
            <a:chOff x="1405080" y="1195560"/>
            <a:chExt cx="6483240" cy="610920"/>
          </a:xfrm>
        </p:grpSpPr>
        <p:sp>
          <p:nvSpPr>
            <p:cNvPr id="484" name=""/>
            <p:cNvSpPr/>
            <p:nvPr/>
          </p:nvSpPr>
          <p:spPr>
            <a:xfrm>
              <a:off x="1422360" y="1195560"/>
              <a:ext cx="1730520" cy="6109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01880" y="1195560"/>
              <a:ext cx="1730520" cy="6109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57800" y="1195560"/>
              <a:ext cx="1730520" cy="6109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05080" y="1200240"/>
              <a:ext cx="648324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rwezenlijking Software en/of 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406520" y="1922400"/>
            <a:ext cx="6483240" cy="606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ie en Testen op simulator en 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05080" y="4673520"/>
            <a:ext cx="6483240" cy="606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ie en Presentatie Voorber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06520" y="5435640"/>
            <a:ext cx="644688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point (tijdens zit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406520" y="2932200"/>
            <a:ext cx="6483240" cy="610920"/>
            <a:chOff x="1406520" y="2932200"/>
            <a:chExt cx="6483240" cy="610920"/>
          </a:xfrm>
        </p:grpSpPr>
        <p:sp>
          <p:nvSpPr>
            <p:cNvPr id="492" name=""/>
            <p:cNvSpPr/>
            <p:nvPr/>
          </p:nvSpPr>
          <p:spPr>
            <a:xfrm>
              <a:off x="1423800" y="2932200"/>
              <a:ext cx="1730520" cy="6109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03320" y="2932200"/>
              <a:ext cx="1730520" cy="6109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59240" y="2932200"/>
              <a:ext cx="1730520" cy="6109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06520" y="2936880"/>
              <a:ext cx="648324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rbeteringen  Aanbre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1406520" y="3672000"/>
            <a:ext cx="6483240" cy="606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ie en Testen op simulator en 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893000" y="3091680"/>
            <a:ext cx="506520" cy="939960"/>
          </a:xfrm>
          <a:custGeom>
            <a:avLst/>
            <a:gdLst>
              <a:gd name="textAreaLeft" fmla="*/ 67680 w 506520"/>
              <a:gd name="textAreaRight" fmla="*/ 438840 w 506520"/>
              <a:gd name="textAreaTop" fmla="*/ 164160 h 939960"/>
              <a:gd name="textAreaBottom" fmla="*/ 681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1120" y="39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gele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48840" y="1447920"/>
            <a:ext cx="855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bliotheek met documentatie van de beschikbare componenten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http://parallel.vub.ac.be/education/watertoren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ulent voor globaal ontwerp (Jacques, Marn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ulent voor Java (Jan, Jor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ulent voor camera ( Mary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point = rapportering door volledige 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j consulenten globaal ontwe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sche hulp voor redelij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npassingen beschikb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5996160" y="4159080"/>
            <a:ext cx="28191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570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tie (eerste zi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18760" y="1398240"/>
            <a:ext cx="80694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Kwaliteit creativiteit en “kostprijs” van oplossing (per groep, 1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Schriftelijk handleiding van het systeem  (per groep, 10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Mondelinge presentatie en demo (per groep, 1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Competitie tussen de verschillende groepen (per groep, 1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Werking en productiviteit van de groep (per groep 1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Evaluatiegesprek (individueel, 5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Kennis van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Elke student moet inzicht verworven hebben in alle aspecten die bij dit project aan bod kwa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ke student moet de werking van de groep en de bijdrage van de andere leden evalu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t groepscijfer wordt vermenigvuldigd door de individuele bijdrage om het eindcijfer te bep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98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 competi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777960" y="357984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826160" y="3589200"/>
            <a:ext cx="3752640" cy="25020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rcRect l="3751" t="13752" r="35631" b="53758"/>
          <a:stretch/>
        </p:blipFill>
        <p:spPr>
          <a:xfrm>
            <a:off x="826920" y="1450800"/>
            <a:ext cx="7632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79320" y="46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e (tweede zi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8440" y="1676520"/>
            <a:ext cx="806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De punten behaald voor het groepswerk blijven behou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Indien het schriftelijk verslag onvoldoende was (&lt;10/20) moet de student een nieuw verslag maken. Het gewicht van het groepswerk wordt dan verminderd tot 25% en het nieuwe verslag krijgt een gewicht van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Mondeling examen (individueel, 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Elke student moet inzicht verworven hebben in alle aspecten die bij dit project aan bod kw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9560" y="46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3840" y="1535040"/>
            <a:ext cx="7646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Kennismaken met de kern van het ingenieursberoep: </a:t>
            </a:r>
            <a:r>
              <a:rPr b="1" i="1" lang="nl-BE" sz="2400" spc="-1" strike="noStrike">
                <a:solidFill>
                  <a:srgbClr val="000000"/>
                </a:solidFill>
                <a:latin typeface="Times New Roman"/>
              </a:rPr>
              <a:t>het ontwerpen</a:t>
            </a: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Times New Roman"/>
              </a:rPr>
              <a:t>Leren middelgrote Java programma’s aanpassen</a:t>
            </a: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Ontdekken dat triviale oplossingen vaak ontoereikend zijn en het nut van diepgaandere modellering inzi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Kennismaken met </a:t>
            </a:r>
            <a:r>
              <a:rPr b="1" i="1" lang="nl-BE" sz="2400" spc="-1" strike="noStrike">
                <a:solidFill>
                  <a:srgbClr val="000000"/>
                </a:solidFill>
                <a:latin typeface="Times New Roman"/>
              </a:rPr>
              <a:t>groepswerk</a:t>
            </a: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Mondeling en schriftelijk leren </a:t>
            </a:r>
            <a:r>
              <a:rPr b="1" i="1" lang="nl-BE" sz="2400" spc="-1" strike="noStrike">
                <a:solidFill>
                  <a:srgbClr val="000000"/>
                </a:solidFill>
                <a:latin typeface="Times New Roman"/>
              </a:rPr>
              <a:t>verslag uitbrengen</a:t>
            </a: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De vele mogelijkheden en moeilijkheden van computersturingen ontdek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Vaardigheden verwerven voor het bouwen van elektronische syste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85960" y="4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euw Progra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rkcollege E :  6 dagen l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leren : Inleiding + zelfstudie + 2 halve dagen oef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o : 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egreerd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rgestuurd regelsysteem ont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nnismaken met sensoren en actu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et-triviaal software project verwezenlij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schil tussen theorie en praktijk vast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zante souvenirs opdo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 een beetje handigheid ontwik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epsw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4120" y="1676520"/>
            <a:ext cx="54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18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ma Waterto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40040" y="1166760"/>
            <a:ext cx="6017400" cy="4782960"/>
            <a:chOff x="2840040" y="1166760"/>
            <a:chExt cx="6017400" cy="4782960"/>
          </a:xfrm>
        </p:grpSpPr>
        <p:sp>
          <p:nvSpPr>
            <p:cNvPr id="52" name=""/>
            <p:cNvSpPr/>
            <p:nvPr/>
          </p:nvSpPr>
          <p:spPr>
            <a:xfrm rot="5400000">
              <a:off x="7471440" y="5083200"/>
              <a:ext cx="533520" cy="4914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61600" y="5062320"/>
              <a:ext cx="4212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01520" y="4605120"/>
              <a:ext cx="70200" cy="381240"/>
            </a:xfrm>
            <a:custGeom>
              <a:avLst/>
              <a:gdLst>
                <a:gd name="textAreaLeft" fmla="*/ 3240 w 70200"/>
                <a:gd name="textAreaRight" fmla="*/ 66960 w 70200"/>
                <a:gd name="textAreaTop" fmla="*/ 3240 h 381240"/>
                <a:gd name="textAreaBottom" fmla="*/ 378000 h 381240"/>
              </a:gdLst>
              <a:ahLst/>
              <a:rect l="textAreaLeft" t="textAreaTop" r="textAreaRight" b="textAreaBottom"/>
              <a:pathLst>
                <a:path w="21600" h="116816">
                  <a:moveTo>
                    <a:pt x="3600" y="0"/>
                  </a:moveTo>
                  <a:arcTo wR="3600" hR="3600" stAng="16200000" swAng="-5400000"/>
                  <a:lnTo>
                    <a:pt x="0" y="113216"/>
                  </a:lnTo>
                  <a:arcTo wR="3600" hR="3600" stAng="10800000" swAng="-5400000"/>
                  <a:lnTo>
                    <a:pt x="18000" y="1168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61480" y="4910040"/>
              <a:ext cx="350640" cy="45720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25840" y="4605120"/>
              <a:ext cx="420840" cy="763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06520" y="5410080"/>
              <a:ext cx="27900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947920" y="2395440"/>
              <a:ext cx="924480" cy="2971800"/>
              <a:chOff x="5947920" y="2395440"/>
              <a:chExt cx="924480" cy="2971800"/>
            </a:xfrm>
          </p:grpSpPr>
          <p:sp>
            <p:nvSpPr>
              <p:cNvPr id="59" name=""/>
              <p:cNvSpPr/>
              <p:nvPr/>
            </p:nvSpPr>
            <p:spPr>
              <a:xfrm>
                <a:off x="5947920" y="3462120"/>
                <a:ext cx="924480" cy="19051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47920" y="3309840"/>
                <a:ext cx="924480" cy="152280"/>
              </a:xfrm>
              <a:custGeom>
                <a:avLst/>
                <a:gdLst/>
                <a:ahLst/>
                <a:rect l="l" t="t" r="r" b="b"/>
                <a:pathLst>
                  <a:path w="672" h="96">
                    <a:moveTo>
                      <a:pt x="0" y="96"/>
                    </a:moveTo>
                    <a:cubicBezTo>
                      <a:pt x="32" y="48"/>
                      <a:pt x="64" y="0"/>
                      <a:pt x="96" y="0"/>
                    </a:cubicBezTo>
                    <a:cubicBezTo>
                      <a:pt x="128" y="0"/>
                      <a:pt x="152" y="96"/>
                      <a:pt x="192" y="96"/>
                    </a:cubicBezTo>
                    <a:cubicBezTo>
                      <a:pt x="232" y="96"/>
                      <a:pt x="296" y="0"/>
                      <a:pt x="336" y="0"/>
                    </a:cubicBezTo>
                    <a:cubicBezTo>
                      <a:pt x="376" y="0"/>
                      <a:pt x="400" y="96"/>
                      <a:pt x="432" y="96"/>
                    </a:cubicBezTo>
                    <a:cubicBezTo>
                      <a:pt x="464" y="96"/>
                      <a:pt x="488" y="0"/>
                      <a:pt x="528" y="0"/>
                    </a:cubicBezTo>
                    <a:cubicBezTo>
                      <a:pt x="568" y="0"/>
                      <a:pt x="648" y="80"/>
                      <a:pt x="672" y="96"/>
                    </a:cubicBez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947920" y="2395440"/>
                <a:ext cx="924480" cy="2971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 rot="5400000">
              <a:off x="6030000" y="1806840"/>
              <a:ext cx="533160" cy="4910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59720" y="1328760"/>
              <a:ext cx="70200" cy="380880"/>
            </a:xfrm>
            <a:custGeom>
              <a:avLst/>
              <a:gdLst>
                <a:gd name="textAreaLeft" fmla="*/ 3240 w 70200"/>
                <a:gd name="textAreaRight" fmla="*/ 66960 w 70200"/>
                <a:gd name="textAreaTop" fmla="*/ 3240 h 380880"/>
                <a:gd name="textAreaBottom" fmla="*/ 377640 h 380880"/>
              </a:gdLst>
              <a:ahLst/>
              <a:rect l="textAreaLeft" t="textAreaTop" r="textAreaRight" b="textAreaBottom"/>
              <a:pathLst>
                <a:path w="21600" h="116706">
                  <a:moveTo>
                    <a:pt x="3600" y="0"/>
                  </a:moveTo>
                  <a:arcTo wR="3600" hR="3600" stAng="16200000" swAng="-5400000"/>
                  <a:lnTo>
                    <a:pt x="0" y="113106"/>
                  </a:lnTo>
                  <a:arcTo wR="3600" hR="3600" stAng="10800000" swAng="-5400000"/>
                  <a:lnTo>
                    <a:pt x="18000" y="116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74080" y="2147760"/>
              <a:ext cx="27900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046920" y="2166840"/>
              <a:ext cx="726120" cy="1287360"/>
            </a:xfrm>
            <a:custGeom>
              <a:avLst/>
              <a:gdLst>
                <a:gd name="textAreaLeft" fmla="*/ 207000 w 726120"/>
                <a:gd name="textAreaRight" fmla="*/ 519120 w 726120"/>
                <a:gd name="textAreaTop" fmla="*/ 366840 h 1287360"/>
                <a:gd name="textAreaBottom" fmla="*/ 9205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64" y="21600"/>
                  </a:lnTo>
                  <a:lnTo>
                    <a:pt x="7936" y="2160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487640" y="5409360"/>
              <a:ext cx="726120" cy="407880"/>
            </a:xfrm>
            <a:custGeom>
              <a:avLst/>
              <a:gdLst>
                <a:gd name="textAreaLeft" fmla="*/ 207000 w 726120"/>
                <a:gd name="textAreaRight" fmla="*/ 519120 w 726120"/>
                <a:gd name="textAreaTop" fmla="*/ 116280 h 407880"/>
                <a:gd name="textAreaBottom" fmla="*/ 291600 h 40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64" y="21600"/>
                  </a:lnTo>
                  <a:lnTo>
                    <a:pt x="7936" y="2160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840040" y="5538600"/>
              <a:ext cx="6017400" cy="411120"/>
              <a:chOff x="2840040" y="5538600"/>
              <a:chExt cx="6017400" cy="411120"/>
            </a:xfrm>
          </p:grpSpPr>
          <p:sp>
            <p:nvSpPr>
              <p:cNvPr id="68" name=""/>
              <p:cNvSpPr/>
              <p:nvPr/>
            </p:nvSpPr>
            <p:spPr>
              <a:xfrm>
                <a:off x="3157200" y="5651280"/>
                <a:ext cx="1357200" cy="151920"/>
              </a:xfrm>
              <a:custGeom>
                <a:avLst/>
                <a:gdLst/>
                <a:ahLst/>
                <a:rect l="l" t="t" r="r" b="b"/>
                <a:pathLst>
                  <a:path w="672" h="96">
                    <a:moveTo>
                      <a:pt x="0" y="96"/>
                    </a:moveTo>
                    <a:cubicBezTo>
                      <a:pt x="32" y="48"/>
                      <a:pt x="64" y="0"/>
                      <a:pt x="96" y="0"/>
                    </a:cubicBezTo>
                    <a:cubicBezTo>
                      <a:pt x="128" y="0"/>
                      <a:pt x="152" y="96"/>
                      <a:pt x="192" y="96"/>
                    </a:cubicBezTo>
                    <a:cubicBezTo>
                      <a:pt x="232" y="96"/>
                      <a:pt x="296" y="0"/>
                      <a:pt x="336" y="0"/>
                    </a:cubicBezTo>
                    <a:cubicBezTo>
                      <a:pt x="376" y="0"/>
                      <a:pt x="400" y="96"/>
                      <a:pt x="432" y="96"/>
                    </a:cubicBezTo>
                    <a:cubicBezTo>
                      <a:pt x="464" y="96"/>
                      <a:pt x="488" y="0"/>
                      <a:pt x="528" y="0"/>
                    </a:cubicBezTo>
                    <a:cubicBezTo>
                      <a:pt x="568" y="0"/>
                      <a:pt x="648" y="80"/>
                      <a:pt x="672" y="96"/>
                    </a:cubicBez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514760" y="5655960"/>
                <a:ext cx="1357200" cy="151920"/>
              </a:xfrm>
              <a:custGeom>
                <a:avLst/>
                <a:gdLst/>
                <a:ahLst/>
                <a:rect l="l" t="t" r="r" b="b"/>
                <a:pathLst>
                  <a:path w="672" h="96">
                    <a:moveTo>
                      <a:pt x="0" y="96"/>
                    </a:moveTo>
                    <a:cubicBezTo>
                      <a:pt x="32" y="48"/>
                      <a:pt x="64" y="0"/>
                      <a:pt x="96" y="0"/>
                    </a:cubicBezTo>
                    <a:cubicBezTo>
                      <a:pt x="128" y="0"/>
                      <a:pt x="152" y="96"/>
                      <a:pt x="192" y="96"/>
                    </a:cubicBezTo>
                    <a:cubicBezTo>
                      <a:pt x="232" y="96"/>
                      <a:pt x="296" y="0"/>
                      <a:pt x="336" y="0"/>
                    </a:cubicBezTo>
                    <a:cubicBezTo>
                      <a:pt x="376" y="0"/>
                      <a:pt x="400" y="96"/>
                      <a:pt x="432" y="96"/>
                    </a:cubicBezTo>
                    <a:cubicBezTo>
                      <a:pt x="464" y="96"/>
                      <a:pt x="488" y="0"/>
                      <a:pt x="528" y="0"/>
                    </a:cubicBezTo>
                    <a:cubicBezTo>
                      <a:pt x="568" y="0"/>
                      <a:pt x="648" y="80"/>
                      <a:pt x="672" y="96"/>
                    </a:cubicBez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56120" y="5648040"/>
                <a:ext cx="1357200" cy="151920"/>
              </a:xfrm>
              <a:custGeom>
                <a:avLst/>
                <a:gdLst/>
                <a:ahLst/>
                <a:rect l="l" t="t" r="r" b="b"/>
                <a:pathLst>
                  <a:path w="672" h="96">
                    <a:moveTo>
                      <a:pt x="0" y="96"/>
                    </a:moveTo>
                    <a:cubicBezTo>
                      <a:pt x="32" y="48"/>
                      <a:pt x="64" y="0"/>
                      <a:pt x="96" y="0"/>
                    </a:cubicBezTo>
                    <a:cubicBezTo>
                      <a:pt x="128" y="0"/>
                      <a:pt x="152" y="96"/>
                      <a:pt x="192" y="96"/>
                    </a:cubicBezTo>
                    <a:cubicBezTo>
                      <a:pt x="232" y="96"/>
                      <a:pt x="296" y="0"/>
                      <a:pt x="336" y="0"/>
                    </a:cubicBezTo>
                    <a:cubicBezTo>
                      <a:pt x="376" y="0"/>
                      <a:pt x="400" y="96"/>
                      <a:pt x="432" y="96"/>
                    </a:cubicBezTo>
                    <a:cubicBezTo>
                      <a:pt x="464" y="96"/>
                      <a:pt x="488" y="0"/>
                      <a:pt x="528" y="0"/>
                    </a:cubicBezTo>
                    <a:cubicBezTo>
                      <a:pt x="568" y="0"/>
                      <a:pt x="648" y="80"/>
                      <a:pt x="672" y="96"/>
                    </a:cubicBez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99640" y="5649480"/>
                <a:ext cx="1357200" cy="151920"/>
              </a:xfrm>
              <a:custGeom>
                <a:avLst/>
                <a:gdLst/>
                <a:ahLst/>
                <a:rect l="l" t="t" r="r" b="b"/>
                <a:pathLst>
                  <a:path w="672" h="96">
                    <a:moveTo>
                      <a:pt x="0" y="96"/>
                    </a:moveTo>
                    <a:cubicBezTo>
                      <a:pt x="32" y="48"/>
                      <a:pt x="64" y="0"/>
                      <a:pt x="96" y="0"/>
                    </a:cubicBezTo>
                    <a:cubicBezTo>
                      <a:pt x="128" y="0"/>
                      <a:pt x="152" y="96"/>
                      <a:pt x="192" y="96"/>
                    </a:cubicBezTo>
                    <a:cubicBezTo>
                      <a:pt x="232" y="96"/>
                      <a:pt x="296" y="0"/>
                      <a:pt x="336" y="0"/>
                    </a:cubicBezTo>
                    <a:cubicBezTo>
                      <a:pt x="376" y="0"/>
                      <a:pt x="400" y="96"/>
                      <a:pt x="432" y="96"/>
                    </a:cubicBezTo>
                    <a:cubicBezTo>
                      <a:pt x="464" y="96"/>
                      <a:pt x="488" y="0"/>
                      <a:pt x="528" y="0"/>
                    </a:cubicBezTo>
                    <a:cubicBezTo>
                      <a:pt x="568" y="0"/>
                      <a:pt x="648" y="80"/>
                      <a:pt x="672" y="96"/>
                    </a:cubicBez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23000" y="5797080"/>
                <a:ext cx="5429520" cy="149040"/>
              </a:xfrm>
              <a:custGeom>
                <a:avLst/>
                <a:gdLst>
                  <a:gd name="textAreaLeft" fmla="*/ 560520 w 5429520"/>
                  <a:gd name="textAreaRight" fmla="*/ 4869000 w 5429520"/>
                  <a:gd name="textAreaTop" fmla="*/ 15120 h 149040"/>
                  <a:gd name="textAreaBottom" fmla="*/ 133920 h 14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35" y="21600"/>
                    </a:lnTo>
                    <a:lnTo>
                      <a:pt x="865" y="2160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40040" y="5574960"/>
                <a:ext cx="456480" cy="35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8308440" y="5538600"/>
                <a:ext cx="54900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96520" y="5933520"/>
                <a:ext cx="500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3385800" y="3954240"/>
              <a:ext cx="546120" cy="619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52480" y="4140000"/>
              <a:ext cx="2127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00720" y="4251240"/>
              <a:ext cx="118080" cy="1571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56560" y="2195280"/>
              <a:ext cx="151200" cy="2055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94840" y="1166760"/>
              <a:ext cx="420840" cy="349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8520" y="4227480"/>
              <a:ext cx="192600" cy="258840"/>
            </a:xfrm>
            <a:custGeom>
              <a:avLst/>
              <a:gdLst/>
              <a:ahLst/>
              <a:rect l="l" t="t" r="r" b="b"/>
              <a:pathLst>
                <a:path w="140" h="163">
                  <a:moveTo>
                    <a:pt x="0" y="7"/>
                  </a:moveTo>
                  <a:lnTo>
                    <a:pt x="140" y="163"/>
                  </a:lnTo>
                  <a:lnTo>
                    <a:pt x="7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37240" y="5365800"/>
              <a:ext cx="32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616000" y="3398760"/>
              <a:ext cx="125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22200" y="3398760"/>
              <a:ext cx="0" cy="1967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63840" y="2359080"/>
              <a:ext cx="911880" cy="2301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ff9900"/>
                  </a:solidFill>
                  <a:latin typeface="Times New Roman"/>
                </a:rPr>
                <a:t>?</a:t>
              </a:r>
              <a:endParaRPr b="0" lang="en-US" sz="1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5" idx="1"/>
              <a:endCxn id="76" idx="0"/>
            </p:cNvCxnSpPr>
            <p:nvPr/>
          </p:nvCxnSpPr>
          <p:spPr>
            <a:xfrm flipV="1" rot="10800000">
              <a:off x="3659040" y="3509640"/>
              <a:ext cx="604440" cy="444960"/>
            </a:xfrm>
            <a:prstGeom prst="curved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cxnSp>
          <p:nvCxnSpPr>
            <p:cNvPr id="87" name=""/>
            <p:cNvCxnSpPr>
              <a:stCxn id="84" idx="0"/>
              <a:endCxn id="84" idx="0"/>
            </p:cNvCxnSpPr>
            <p:nvPr/>
          </p:nvCxnSpPr>
          <p:spPr>
            <a:xfrm flipH="1" rot="16200000">
              <a:off x="5721840" y="3398760"/>
              <a:ext cx="2160" cy="18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4" idx="0"/>
              <a:endCxn id="85" idx="3"/>
            </p:cNvCxnSpPr>
            <p:nvPr/>
          </p:nvCxnSpPr>
          <p:spPr>
            <a:xfrm rot="5400000">
              <a:off x="5392800" y="3180600"/>
              <a:ext cx="111960" cy="546480"/>
            </a:xfrm>
            <a:prstGeom prst="curvedConnector5">
              <a:avLst>
                <a:gd name="adj1" fmla="val -205483"/>
                <a:gd name="adj2" fmla="val 25049"/>
                <a:gd name="adj3" fmla="val -205483"/>
              </a:avLst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267720" y="1726920"/>
              <a:ext cx="438840" cy="47016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45640" y="1701720"/>
              <a:ext cx="22428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33040" y="1785960"/>
              <a:ext cx="230724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19320" y="1633320"/>
              <a:ext cx="351000" cy="45720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85" idx="0"/>
              <a:endCxn id="80" idx="1"/>
            </p:cNvCxnSpPr>
            <p:nvPr/>
          </p:nvCxnSpPr>
          <p:spPr>
            <a:xfrm flipH="1" flipV="1" rot="5400000">
              <a:off x="4698000" y="1362960"/>
              <a:ext cx="1018440" cy="974160"/>
            </a:xfrm>
            <a:prstGeom prst="curved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4440" y="144792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504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 opg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9840" y="1495080"/>
            <a:ext cx="847728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chikbaa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en watertoren met hydraulische kring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en elektrische pomp + elektrische regelkr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erlei sensoren (waterpeil, druk, debi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en klassieke PC met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s tussen sensoren, actuatoren en se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poort van PC (ook mogelijkheid tot zelfbouw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simulator van watertoren en elementaire reg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wenst : Regelsysteem dat waterpeil zo goed mogelijk een opgelegd, variabel niveau doet aanhouden, welke ook de variaties van het watergebruik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25920" y="1131840"/>
            <a:ext cx="533160" cy="29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92680" y="408924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95560" y="4267080"/>
            <a:ext cx="677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21160" y="462276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1160" y="446976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25920" y="5473800"/>
            <a:ext cx="244476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40040" y="462276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740040" y="446976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95560" y="5156280"/>
            <a:ext cx="0" cy="58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3440" y="407664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3440" y="477504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92680" y="477504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 rot="5400000">
            <a:off x="4737600" y="3632040"/>
            <a:ext cx="3045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46720" y="4016520"/>
            <a:ext cx="253800" cy="145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46360" y="4016520"/>
            <a:ext cx="253800" cy="145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3440" y="5156280"/>
            <a:ext cx="0" cy="58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46720" y="5083200"/>
            <a:ext cx="253800" cy="14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446360" y="5083200"/>
            <a:ext cx="253800" cy="14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3440" y="370836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4600" y="370836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08480" y="3708360"/>
            <a:ext cx="0" cy="202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966920" y="3708360"/>
            <a:ext cx="23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43400" y="5553000"/>
            <a:ext cx="470160" cy="433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86320" y="5683320"/>
            <a:ext cx="184320" cy="172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1600" y="5743440"/>
            <a:ext cx="164880" cy="182520"/>
          </a:xfrm>
          <a:custGeom>
            <a:avLst/>
            <a:gdLst/>
            <a:ahLst/>
            <a:rect l="l" t="t" r="r" b="b"/>
            <a:pathLst>
              <a:path w="140" h="163">
                <a:moveTo>
                  <a:pt x="0" y="7"/>
                </a:moveTo>
                <a:lnTo>
                  <a:pt x="140" y="163"/>
                </a:lnTo>
                <a:lnTo>
                  <a:pt x="7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32040" y="5749920"/>
            <a:ext cx="2438640" cy="318960"/>
          </a:xfrm>
          <a:prstGeom prst="rect">
            <a:avLst/>
          </a:prstGeom>
          <a:solidFill>
            <a:srgbClr val="3399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18000" y="2527200"/>
            <a:ext cx="536400" cy="1567080"/>
          </a:xfrm>
          <a:prstGeom prst="rect">
            <a:avLst/>
          </a:prstGeom>
          <a:solidFill>
            <a:srgbClr val="33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18000" y="1017720"/>
            <a:ext cx="203040" cy="203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7000" y="1119240"/>
            <a:ext cx="0" cy="1422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2425680"/>
            <a:ext cx="1447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2360" y="4070520"/>
            <a:ext cx="14436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40360" y="2397240"/>
            <a:ext cx="392040" cy="363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647960" y="2571840"/>
            <a:ext cx="392040" cy="144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641480" y="2404800"/>
            <a:ext cx="392040" cy="144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2240" y="514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16720" y="3911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10600" y="496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760560" y="5157720"/>
            <a:ext cx="254160" cy="146160"/>
            <a:chOff x="3760560" y="5157720"/>
            <a:chExt cx="254160" cy="146160"/>
          </a:xfrm>
        </p:grpSpPr>
        <p:sp>
          <p:nvSpPr>
            <p:cNvPr id="135" name=""/>
            <p:cNvSpPr/>
            <p:nvPr/>
          </p:nvSpPr>
          <p:spPr>
            <a:xfrm>
              <a:off x="3760920" y="5157720"/>
              <a:ext cx="253800" cy="1461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760560" y="5157720"/>
              <a:ext cx="253800" cy="1461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008600" y="509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80240" y="3381480"/>
            <a:ext cx="609480" cy="34272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0240" y="3844800"/>
            <a:ext cx="609480" cy="3430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80240" y="4308480"/>
            <a:ext cx="609480" cy="34272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80240" y="4772160"/>
            <a:ext cx="609480" cy="342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94640" y="3527280"/>
            <a:ext cx="0" cy="142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02320" y="492444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02320" y="355284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9720" y="401004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02320" y="447984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082960" y="3095640"/>
            <a:ext cx="609480" cy="685800"/>
            <a:chOff x="2082960" y="3095640"/>
            <a:chExt cx="609480" cy="685800"/>
          </a:xfrm>
        </p:grpSpPr>
        <p:sp>
          <p:nvSpPr>
            <p:cNvPr id="148" name=""/>
            <p:cNvSpPr/>
            <p:nvPr/>
          </p:nvSpPr>
          <p:spPr>
            <a:xfrm>
              <a:off x="2082960" y="3095640"/>
              <a:ext cx="609480" cy="3427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82960" y="3438360"/>
              <a:ext cx="609480" cy="3430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232080" y="2470320"/>
            <a:ext cx="14436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01920" y="2612880"/>
            <a:ext cx="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301920" y="3807360"/>
            <a:ext cx="418320" cy="558360"/>
            <a:chOff x="3301920" y="3807360"/>
            <a:chExt cx="418320" cy="558360"/>
          </a:xfrm>
        </p:grpSpPr>
        <p:sp>
          <p:nvSpPr>
            <p:cNvPr id="153" name=""/>
            <p:cNvSpPr/>
            <p:nvPr/>
          </p:nvSpPr>
          <p:spPr>
            <a:xfrm flipV="1">
              <a:off x="3311280" y="3807000"/>
              <a:ext cx="408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3301920" y="3807000"/>
              <a:ext cx="408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68240" y="1893960"/>
            <a:ext cx="1281240" cy="894960"/>
            <a:chOff x="768240" y="1893960"/>
            <a:chExt cx="1281240" cy="894960"/>
          </a:xfrm>
        </p:grpSpPr>
        <p:grpSp>
          <p:nvGrpSpPr>
            <p:cNvPr id="156" name=""/>
            <p:cNvGrpSpPr/>
            <p:nvPr/>
          </p:nvGrpSpPr>
          <p:grpSpPr>
            <a:xfrm>
              <a:off x="1059840" y="1893960"/>
              <a:ext cx="989640" cy="810360"/>
              <a:chOff x="1059840" y="1893960"/>
              <a:chExt cx="989640" cy="81036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1059840" y="1893960"/>
                <a:ext cx="989640" cy="810360"/>
                <a:chOff x="1059840" y="1893960"/>
                <a:chExt cx="989640" cy="81036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1059840" y="2350800"/>
                  <a:ext cx="989640" cy="353520"/>
                  <a:chOff x="1059840" y="2350800"/>
                  <a:chExt cx="989640" cy="35352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1059840" y="2350800"/>
                    <a:ext cx="567000" cy="35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6" h="703">
                        <a:moveTo>
                          <a:pt x="1125" y="215"/>
                        </a:moveTo>
                        <a:lnTo>
                          <a:pt x="1125" y="702"/>
                        </a:lnTo>
                        <a:lnTo>
                          <a:pt x="0" y="343"/>
                        </a:lnTo>
                        <a:lnTo>
                          <a:pt x="0" y="0"/>
                        </a:lnTo>
                        <a:lnTo>
                          <a:pt x="1125" y="215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626480" y="2435040"/>
                    <a:ext cx="423000" cy="2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0" h="535">
                        <a:moveTo>
                          <a:pt x="0" y="47"/>
                        </a:moveTo>
                        <a:lnTo>
                          <a:pt x="0" y="534"/>
                        </a:lnTo>
                        <a:lnTo>
                          <a:pt x="839" y="414"/>
                        </a:lnTo>
                        <a:lnTo>
                          <a:pt x="839" y="0"/>
                        </a:lnTo>
                        <a:lnTo>
                          <a:pt x="0" y="47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059840" y="2350800"/>
                    <a:ext cx="9896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5" h="216">
                        <a:moveTo>
                          <a:pt x="1964" y="168"/>
                        </a:moveTo>
                        <a:lnTo>
                          <a:pt x="1117" y="215"/>
                        </a:lnTo>
                        <a:lnTo>
                          <a:pt x="0" y="0"/>
                        </a:lnTo>
                        <a:lnTo>
                          <a:pt x="822" y="0"/>
                        </a:lnTo>
                        <a:lnTo>
                          <a:pt x="1964" y="168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1368000" y="2321640"/>
                  <a:ext cx="359280" cy="101520"/>
                </a:xfrm>
                <a:custGeom>
                  <a:avLst/>
                  <a:gdLst/>
                  <a:ahLst/>
                  <a:rect l="l" t="t" r="r" b="b"/>
                  <a:pathLst>
                    <a:path w="714" h="202">
                      <a:moveTo>
                        <a:pt x="713" y="114"/>
                      </a:moveTo>
                      <a:lnTo>
                        <a:pt x="713" y="180"/>
                      </a:lnTo>
                      <a:lnTo>
                        <a:pt x="381" y="20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713" y="114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1171800" y="1893960"/>
                  <a:ext cx="801000" cy="506160"/>
                  <a:chOff x="1171800" y="1893960"/>
                  <a:chExt cx="801000" cy="5061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1171800" y="1893960"/>
                    <a:ext cx="45900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983">
                        <a:moveTo>
                          <a:pt x="783" y="982"/>
                        </a:moveTo>
                        <a:lnTo>
                          <a:pt x="910" y="32"/>
                        </a:lnTo>
                        <a:lnTo>
                          <a:pt x="128" y="0"/>
                        </a:lnTo>
                        <a:lnTo>
                          <a:pt x="0" y="846"/>
                        </a:lnTo>
                        <a:lnTo>
                          <a:pt x="783" y="982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566360" y="1909440"/>
                    <a:ext cx="406440" cy="490680"/>
                  </a:xfrm>
                  <a:custGeom>
                    <a:avLst/>
                    <a:gdLst/>
                    <a:ahLst/>
                    <a:rect l="l" t="t" r="r" b="b"/>
                    <a:pathLst>
                      <a:path w="807" h="976">
                        <a:moveTo>
                          <a:pt x="127" y="0"/>
                        </a:moveTo>
                        <a:lnTo>
                          <a:pt x="806" y="217"/>
                        </a:lnTo>
                        <a:lnTo>
                          <a:pt x="710" y="975"/>
                        </a:lnTo>
                        <a:lnTo>
                          <a:pt x="0" y="951"/>
                        </a:lnTo>
                        <a:lnTo>
                          <a:pt x="12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1224360" y="1942560"/>
                    <a:ext cx="329400" cy="37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4" h="740">
                        <a:moveTo>
                          <a:pt x="653" y="33"/>
                        </a:moveTo>
                        <a:lnTo>
                          <a:pt x="560" y="739"/>
                        </a:lnTo>
                        <a:lnTo>
                          <a:pt x="0" y="656"/>
                        </a:lnTo>
                        <a:lnTo>
                          <a:pt x="95" y="0"/>
                        </a:lnTo>
                        <a:lnTo>
                          <a:pt x="653" y="33"/>
                        </a:lnTo>
                      </a:path>
                    </a:pathLst>
                  </a:custGeom>
                  <a:solidFill>
                    <a:srgbClr val="0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7" name=""/>
              <p:cNvGrpSpPr/>
              <p:nvPr/>
            </p:nvGrpSpPr>
            <p:grpSpPr>
              <a:xfrm>
                <a:off x="1097280" y="2388600"/>
                <a:ext cx="325440" cy="230040"/>
                <a:chOff x="1097280" y="2388600"/>
                <a:chExt cx="325440" cy="230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099440" y="2388600"/>
                  <a:ext cx="323280" cy="230040"/>
                </a:xfrm>
                <a:custGeom>
                  <a:avLst/>
                  <a:gdLst/>
                  <a:ahLst/>
                  <a:rect l="l" t="t" r="r" b="b"/>
                  <a:pathLst>
                    <a:path w="642" h="458">
                      <a:moveTo>
                        <a:pt x="0" y="0"/>
                      </a:moveTo>
                      <a:lnTo>
                        <a:pt x="641" y="137"/>
                      </a:lnTo>
                      <a:lnTo>
                        <a:pt x="641" y="457"/>
                      </a:lnTo>
                      <a:lnTo>
                        <a:pt x="0" y="25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1119960" y="2435040"/>
                  <a:ext cx="101520" cy="3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65760" y="2483280"/>
                  <a:ext cx="96480" cy="9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235520" y="241920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390680" y="2453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03040" y="2450160"/>
                  <a:ext cx="28944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1097280" y="2421360"/>
                  <a:ext cx="299160" cy="73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768240" y="2394000"/>
              <a:ext cx="772560" cy="394920"/>
              <a:chOff x="768240" y="2394000"/>
              <a:chExt cx="772560" cy="39492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1365120" y="2608200"/>
                <a:ext cx="126000" cy="93600"/>
                <a:chOff x="1365120" y="2608200"/>
                <a:chExt cx="126000" cy="936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454400" y="2608200"/>
                  <a:ext cx="36720" cy="93600"/>
                </a:xfrm>
                <a:custGeom>
                  <a:avLst/>
                  <a:gdLst/>
                  <a:ahLst/>
                  <a:rect l="l" t="t" r="r" b="b"/>
                  <a:pathLst>
                    <a:path w="73" h="187">
                      <a:moveTo>
                        <a:pt x="51" y="0"/>
                      </a:moveTo>
                      <a:lnTo>
                        <a:pt x="72" y="174"/>
                      </a:lnTo>
                      <a:lnTo>
                        <a:pt x="21" y="186"/>
                      </a:lnTo>
                      <a:lnTo>
                        <a:pt x="0" y="9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365120" y="2620080"/>
                  <a:ext cx="100440" cy="8172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0" y="6"/>
                      </a:moveTo>
                      <a:lnTo>
                        <a:pt x="198" y="162"/>
                      </a:lnTo>
                      <a:lnTo>
                        <a:pt x="0" y="81"/>
                      </a:lnTo>
                      <a:lnTo>
                        <a:pt x="78" y="57"/>
                      </a:lnTo>
                      <a:lnTo>
                        <a:pt x="147" y="93"/>
                      </a:lnTo>
                      <a:lnTo>
                        <a:pt x="126" y="0"/>
                      </a:lnTo>
                      <a:lnTo>
                        <a:pt x="180" y="6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68240" y="2394000"/>
                <a:ext cx="772560" cy="394920"/>
                <a:chOff x="768240" y="2394000"/>
                <a:chExt cx="772560" cy="3949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70040" y="2394000"/>
                  <a:ext cx="756720" cy="349200"/>
                </a:xfrm>
                <a:custGeom>
                  <a:avLst/>
                  <a:gdLst/>
                  <a:ahLst/>
                  <a:rect l="l" t="t" r="r" b="b"/>
                  <a:pathLst>
                    <a:path w="1502" h="695">
                      <a:moveTo>
                        <a:pt x="1501" y="295"/>
                      </a:moveTo>
                      <a:lnTo>
                        <a:pt x="782" y="694"/>
                      </a:lnTo>
                      <a:lnTo>
                        <a:pt x="0" y="303"/>
                      </a:lnTo>
                      <a:lnTo>
                        <a:pt x="599" y="0"/>
                      </a:lnTo>
                      <a:lnTo>
                        <a:pt x="1501" y="295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161720" y="2540160"/>
                  <a:ext cx="379080" cy="246960"/>
                </a:xfrm>
                <a:custGeom>
                  <a:avLst/>
                  <a:gdLst/>
                  <a:ahLst/>
                  <a:rect l="l" t="t" r="r" b="b"/>
                  <a:pathLst>
                    <a:path w="753" h="492">
                      <a:moveTo>
                        <a:pt x="725" y="0"/>
                      </a:moveTo>
                      <a:lnTo>
                        <a:pt x="0" y="407"/>
                      </a:lnTo>
                      <a:lnTo>
                        <a:pt x="21" y="491"/>
                      </a:lnTo>
                      <a:lnTo>
                        <a:pt x="752" y="77"/>
                      </a:lnTo>
                      <a:lnTo>
                        <a:pt x="725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8240" y="2546280"/>
                  <a:ext cx="404280" cy="242640"/>
                </a:xfrm>
                <a:custGeom>
                  <a:avLst/>
                  <a:gdLst/>
                  <a:ahLst/>
                  <a:rect l="l" t="t" r="r" b="b"/>
                  <a:pathLst>
                    <a:path w="803" h="483">
                      <a:moveTo>
                        <a:pt x="802" y="482"/>
                      </a:moveTo>
                      <a:lnTo>
                        <a:pt x="778" y="392"/>
                      </a:lnTo>
                      <a:lnTo>
                        <a:pt x="0" y="0"/>
                      </a:lnTo>
                      <a:lnTo>
                        <a:pt x="27" y="71"/>
                      </a:lnTo>
                      <a:lnTo>
                        <a:pt x="802" y="482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074240" y="2558160"/>
                  <a:ext cx="299520" cy="150120"/>
                </a:xfrm>
                <a:custGeom>
                  <a:avLst/>
                  <a:gdLst/>
                  <a:ahLst/>
                  <a:rect l="l" t="t" r="r" b="b"/>
                  <a:pathLst>
                    <a:path w="595" h="299">
                      <a:moveTo>
                        <a:pt x="594" y="77"/>
                      </a:moveTo>
                      <a:lnTo>
                        <a:pt x="388" y="0"/>
                      </a:lnTo>
                      <a:lnTo>
                        <a:pt x="0" y="208"/>
                      </a:lnTo>
                      <a:lnTo>
                        <a:pt x="196" y="298"/>
                      </a:lnTo>
                      <a:lnTo>
                        <a:pt x="594" y="77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05680" y="2449800"/>
                  <a:ext cx="444240" cy="203040"/>
                </a:xfrm>
                <a:custGeom>
                  <a:avLst/>
                  <a:gdLst/>
                  <a:ahLst/>
                  <a:rect l="l" t="t" r="r" b="b"/>
                  <a:pathLst>
                    <a:path w="882" h="404">
                      <a:moveTo>
                        <a:pt x="881" y="196"/>
                      </a:moveTo>
                      <a:lnTo>
                        <a:pt x="497" y="403"/>
                      </a:lnTo>
                      <a:lnTo>
                        <a:pt x="0" y="173"/>
                      </a:lnTo>
                      <a:lnTo>
                        <a:pt x="361" y="0"/>
                      </a:lnTo>
                      <a:lnTo>
                        <a:pt x="881" y="196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995760" y="2404800"/>
                  <a:ext cx="489960" cy="184320"/>
                </a:xfrm>
                <a:custGeom>
                  <a:avLst/>
                  <a:gdLst/>
                  <a:ahLst/>
                  <a:rect l="l" t="t" r="r" b="b"/>
                  <a:pathLst>
                    <a:path w="973" h="367">
                      <a:moveTo>
                        <a:pt x="770" y="366"/>
                      </a:moveTo>
                      <a:lnTo>
                        <a:pt x="972" y="265"/>
                      </a:lnTo>
                      <a:lnTo>
                        <a:pt x="158" y="0"/>
                      </a:lnTo>
                      <a:lnTo>
                        <a:pt x="0" y="75"/>
                      </a:lnTo>
                      <a:lnTo>
                        <a:pt x="770" y="366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>
                  <a:off x="1050840" y="2406960"/>
                  <a:ext cx="434160" cy="1566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1028160" y="2418120"/>
                  <a:ext cx="420480" cy="157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>
                  <a:off x="1010880" y="2430000"/>
                  <a:ext cx="411480" cy="1620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>
                  <a:off x="960120" y="2455200"/>
                  <a:ext cx="403920" cy="166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flipV="1">
                  <a:off x="929520" y="2472120"/>
                  <a:ext cx="400680" cy="1684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flipV="1">
                  <a:off x="911520" y="2490480"/>
                  <a:ext cx="379440" cy="166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>
                  <a:off x="885240" y="2505600"/>
                  <a:ext cx="366480" cy="166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855360" y="2525400"/>
                  <a:ext cx="357480" cy="16524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1139040" y="2588760"/>
                  <a:ext cx="208440" cy="10656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>
                  <a:off x="1100160" y="2574000"/>
                  <a:ext cx="205200" cy="1018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1017000" y="2539800"/>
                  <a:ext cx="199800" cy="9504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972720" y="2521440"/>
                  <a:ext cx="199440" cy="9504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931320" y="2504880"/>
                  <a:ext cx="193680" cy="94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893520" y="2488320"/>
                  <a:ext cx="189720" cy="9036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853200" y="2471760"/>
                  <a:ext cx="190800" cy="864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1328760" y="2524680"/>
                  <a:ext cx="104040" cy="421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1271880" y="2503440"/>
                  <a:ext cx="98640" cy="43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1213560" y="2485440"/>
                  <a:ext cx="100080" cy="3996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1157400" y="2465640"/>
                  <a:ext cx="100080" cy="385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1104480" y="2446200"/>
                  <a:ext cx="92880" cy="385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1042920" y="2425680"/>
                  <a:ext cx="90000" cy="360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7" name=""/>
          <p:cNvGrpSpPr/>
          <p:nvPr/>
        </p:nvGrpSpPr>
        <p:grpSpPr>
          <a:xfrm>
            <a:off x="7241760" y="4662360"/>
            <a:ext cx="1281240" cy="894960"/>
            <a:chOff x="7241760" y="4662360"/>
            <a:chExt cx="1281240" cy="894960"/>
          </a:xfrm>
        </p:grpSpPr>
        <p:grpSp>
          <p:nvGrpSpPr>
            <p:cNvPr id="208" name=""/>
            <p:cNvGrpSpPr/>
            <p:nvPr/>
          </p:nvGrpSpPr>
          <p:grpSpPr>
            <a:xfrm>
              <a:off x="7241760" y="4662360"/>
              <a:ext cx="989640" cy="810360"/>
              <a:chOff x="7241760" y="4662360"/>
              <a:chExt cx="989640" cy="810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7241760" y="4662360"/>
                <a:ext cx="989640" cy="810360"/>
                <a:chOff x="7241760" y="4662360"/>
                <a:chExt cx="989640" cy="81036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7241760" y="5119200"/>
                  <a:ext cx="989640" cy="353520"/>
                  <a:chOff x="7241760" y="5119200"/>
                  <a:chExt cx="989640" cy="3535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>
                    <a:off x="7664040" y="5119200"/>
                    <a:ext cx="567000" cy="35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6" h="703">
                        <a:moveTo>
                          <a:pt x="1125" y="215"/>
                        </a:moveTo>
                        <a:lnTo>
                          <a:pt x="1125" y="702"/>
                        </a:lnTo>
                        <a:lnTo>
                          <a:pt x="0" y="343"/>
                        </a:lnTo>
                        <a:lnTo>
                          <a:pt x="0" y="0"/>
                        </a:lnTo>
                        <a:lnTo>
                          <a:pt x="1125" y="215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>
                    <a:off x="7241400" y="5203440"/>
                    <a:ext cx="423000" cy="2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0" h="535">
                        <a:moveTo>
                          <a:pt x="0" y="47"/>
                        </a:moveTo>
                        <a:lnTo>
                          <a:pt x="0" y="534"/>
                        </a:lnTo>
                        <a:lnTo>
                          <a:pt x="839" y="414"/>
                        </a:lnTo>
                        <a:lnTo>
                          <a:pt x="839" y="0"/>
                        </a:lnTo>
                        <a:lnTo>
                          <a:pt x="0" y="47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>
                    <a:off x="7241400" y="5119200"/>
                    <a:ext cx="9896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5" h="216">
                        <a:moveTo>
                          <a:pt x="1964" y="168"/>
                        </a:moveTo>
                        <a:lnTo>
                          <a:pt x="1117" y="215"/>
                        </a:lnTo>
                        <a:lnTo>
                          <a:pt x="0" y="0"/>
                        </a:lnTo>
                        <a:lnTo>
                          <a:pt x="822" y="0"/>
                        </a:lnTo>
                        <a:lnTo>
                          <a:pt x="1964" y="168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 flipH="1">
                  <a:off x="7563960" y="5090040"/>
                  <a:ext cx="359280" cy="101520"/>
                </a:xfrm>
                <a:custGeom>
                  <a:avLst/>
                  <a:gdLst/>
                  <a:ahLst/>
                  <a:rect l="l" t="t" r="r" b="b"/>
                  <a:pathLst>
                    <a:path w="714" h="202">
                      <a:moveTo>
                        <a:pt x="713" y="114"/>
                      </a:moveTo>
                      <a:lnTo>
                        <a:pt x="713" y="180"/>
                      </a:lnTo>
                      <a:lnTo>
                        <a:pt x="381" y="20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713" y="114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7318440" y="4662360"/>
                  <a:ext cx="801000" cy="506160"/>
                  <a:chOff x="7318440" y="4662360"/>
                  <a:chExt cx="801000" cy="50616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>
                    <a:off x="7660080" y="4662360"/>
                    <a:ext cx="45900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983">
                        <a:moveTo>
                          <a:pt x="783" y="982"/>
                        </a:moveTo>
                        <a:lnTo>
                          <a:pt x="910" y="32"/>
                        </a:lnTo>
                        <a:lnTo>
                          <a:pt x="128" y="0"/>
                        </a:lnTo>
                        <a:lnTo>
                          <a:pt x="0" y="846"/>
                        </a:lnTo>
                        <a:lnTo>
                          <a:pt x="783" y="982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>
                    <a:off x="7318080" y="4677840"/>
                    <a:ext cx="406440" cy="490680"/>
                  </a:xfrm>
                  <a:custGeom>
                    <a:avLst/>
                    <a:gdLst/>
                    <a:ahLst/>
                    <a:rect l="l" t="t" r="r" b="b"/>
                    <a:pathLst>
                      <a:path w="807" h="976">
                        <a:moveTo>
                          <a:pt x="127" y="0"/>
                        </a:moveTo>
                        <a:lnTo>
                          <a:pt x="806" y="217"/>
                        </a:lnTo>
                        <a:lnTo>
                          <a:pt x="710" y="975"/>
                        </a:lnTo>
                        <a:lnTo>
                          <a:pt x="0" y="951"/>
                        </a:lnTo>
                        <a:lnTo>
                          <a:pt x="12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>
                    <a:off x="7737120" y="4710960"/>
                    <a:ext cx="329400" cy="37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4" h="740">
                        <a:moveTo>
                          <a:pt x="653" y="33"/>
                        </a:moveTo>
                        <a:lnTo>
                          <a:pt x="560" y="739"/>
                        </a:lnTo>
                        <a:lnTo>
                          <a:pt x="0" y="656"/>
                        </a:lnTo>
                        <a:lnTo>
                          <a:pt x="95" y="0"/>
                        </a:lnTo>
                        <a:lnTo>
                          <a:pt x="653" y="33"/>
                        </a:lnTo>
                      </a:path>
                    </a:pathLst>
                  </a:custGeom>
                  <a:solidFill>
                    <a:srgbClr val="0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" name=""/>
              <p:cNvGrpSpPr/>
              <p:nvPr/>
            </p:nvGrpSpPr>
            <p:grpSpPr>
              <a:xfrm>
                <a:off x="7868520" y="5157000"/>
                <a:ext cx="325440" cy="230040"/>
                <a:chOff x="7868520" y="5157000"/>
                <a:chExt cx="325440" cy="230040"/>
              </a:xfrm>
            </p:grpSpPr>
            <p:sp>
              <p:nvSpPr>
                <p:cNvPr id="220" name=""/>
                <p:cNvSpPr/>
                <p:nvPr/>
              </p:nvSpPr>
              <p:spPr>
                <a:xfrm flipH="1">
                  <a:off x="7868520" y="5157000"/>
                  <a:ext cx="323280" cy="230040"/>
                </a:xfrm>
                <a:custGeom>
                  <a:avLst/>
                  <a:gdLst/>
                  <a:ahLst/>
                  <a:rect l="l" t="t" r="r" b="b"/>
                  <a:pathLst>
                    <a:path w="642" h="458">
                      <a:moveTo>
                        <a:pt x="0" y="0"/>
                      </a:moveTo>
                      <a:lnTo>
                        <a:pt x="641" y="137"/>
                      </a:lnTo>
                      <a:lnTo>
                        <a:pt x="641" y="457"/>
                      </a:lnTo>
                      <a:lnTo>
                        <a:pt x="0" y="25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8069760" y="5203440"/>
                  <a:ext cx="101520" cy="3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7929000" y="5251680"/>
                  <a:ext cx="96480" cy="9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055720" y="518760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00560" y="52218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7898760" y="5218560"/>
                  <a:ext cx="28944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7894800" y="5189760"/>
                  <a:ext cx="299160" cy="73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7750440" y="5162400"/>
              <a:ext cx="772560" cy="394920"/>
              <a:chOff x="7750440" y="5162400"/>
              <a:chExt cx="772560" cy="39492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7800120" y="5376600"/>
                <a:ext cx="126000" cy="93600"/>
                <a:chOff x="7800120" y="5376600"/>
                <a:chExt cx="126000" cy="93600"/>
              </a:xfrm>
            </p:grpSpPr>
            <p:sp>
              <p:nvSpPr>
                <p:cNvPr id="229" name=""/>
                <p:cNvSpPr/>
                <p:nvPr/>
              </p:nvSpPr>
              <p:spPr>
                <a:xfrm flipH="1">
                  <a:off x="7800120" y="5376600"/>
                  <a:ext cx="36720" cy="93600"/>
                </a:xfrm>
                <a:custGeom>
                  <a:avLst/>
                  <a:gdLst/>
                  <a:ahLst/>
                  <a:rect l="l" t="t" r="r" b="b"/>
                  <a:pathLst>
                    <a:path w="73" h="187">
                      <a:moveTo>
                        <a:pt x="51" y="0"/>
                      </a:moveTo>
                      <a:lnTo>
                        <a:pt x="72" y="174"/>
                      </a:lnTo>
                      <a:lnTo>
                        <a:pt x="21" y="186"/>
                      </a:lnTo>
                      <a:lnTo>
                        <a:pt x="0" y="9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7825320" y="5388480"/>
                  <a:ext cx="100440" cy="8172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0" y="6"/>
                      </a:moveTo>
                      <a:lnTo>
                        <a:pt x="198" y="162"/>
                      </a:lnTo>
                      <a:lnTo>
                        <a:pt x="0" y="81"/>
                      </a:lnTo>
                      <a:lnTo>
                        <a:pt x="78" y="57"/>
                      </a:lnTo>
                      <a:lnTo>
                        <a:pt x="147" y="93"/>
                      </a:lnTo>
                      <a:lnTo>
                        <a:pt x="126" y="0"/>
                      </a:lnTo>
                      <a:lnTo>
                        <a:pt x="180" y="6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750440" y="5162400"/>
                <a:ext cx="772560" cy="394920"/>
                <a:chOff x="7750440" y="5162400"/>
                <a:chExt cx="772560" cy="394920"/>
              </a:xfrm>
            </p:grpSpPr>
            <p:sp>
              <p:nvSpPr>
                <p:cNvPr id="232" name=""/>
                <p:cNvSpPr/>
                <p:nvPr/>
              </p:nvSpPr>
              <p:spPr>
                <a:xfrm flipH="1">
                  <a:off x="7764480" y="5162400"/>
                  <a:ext cx="756720" cy="349200"/>
                </a:xfrm>
                <a:custGeom>
                  <a:avLst/>
                  <a:gdLst/>
                  <a:ahLst/>
                  <a:rect l="l" t="t" r="r" b="b"/>
                  <a:pathLst>
                    <a:path w="1502" h="695">
                      <a:moveTo>
                        <a:pt x="1501" y="295"/>
                      </a:moveTo>
                      <a:lnTo>
                        <a:pt x="782" y="694"/>
                      </a:lnTo>
                      <a:lnTo>
                        <a:pt x="0" y="303"/>
                      </a:lnTo>
                      <a:lnTo>
                        <a:pt x="599" y="0"/>
                      </a:lnTo>
                      <a:lnTo>
                        <a:pt x="1501" y="295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7750080" y="5308560"/>
                  <a:ext cx="379080" cy="246960"/>
                </a:xfrm>
                <a:custGeom>
                  <a:avLst/>
                  <a:gdLst/>
                  <a:ahLst/>
                  <a:rect l="l" t="t" r="r" b="b"/>
                  <a:pathLst>
                    <a:path w="753" h="492">
                      <a:moveTo>
                        <a:pt x="725" y="0"/>
                      </a:moveTo>
                      <a:lnTo>
                        <a:pt x="0" y="407"/>
                      </a:lnTo>
                      <a:lnTo>
                        <a:pt x="21" y="491"/>
                      </a:lnTo>
                      <a:lnTo>
                        <a:pt x="752" y="77"/>
                      </a:lnTo>
                      <a:lnTo>
                        <a:pt x="725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>
                  <a:off x="8118360" y="5314680"/>
                  <a:ext cx="404280" cy="242640"/>
                </a:xfrm>
                <a:custGeom>
                  <a:avLst/>
                  <a:gdLst/>
                  <a:ahLst/>
                  <a:rect l="l" t="t" r="r" b="b"/>
                  <a:pathLst>
                    <a:path w="803" h="483">
                      <a:moveTo>
                        <a:pt x="802" y="482"/>
                      </a:moveTo>
                      <a:lnTo>
                        <a:pt x="778" y="392"/>
                      </a:lnTo>
                      <a:lnTo>
                        <a:pt x="0" y="0"/>
                      </a:lnTo>
                      <a:lnTo>
                        <a:pt x="27" y="71"/>
                      </a:lnTo>
                      <a:lnTo>
                        <a:pt x="802" y="482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7917480" y="5326560"/>
                  <a:ext cx="299520" cy="150120"/>
                </a:xfrm>
                <a:custGeom>
                  <a:avLst/>
                  <a:gdLst/>
                  <a:ahLst/>
                  <a:rect l="l" t="t" r="r" b="b"/>
                  <a:pathLst>
                    <a:path w="595" h="299">
                      <a:moveTo>
                        <a:pt x="594" y="77"/>
                      </a:moveTo>
                      <a:lnTo>
                        <a:pt x="388" y="0"/>
                      </a:lnTo>
                      <a:lnTo>
                        <a:pt x="0" y="208"/>
                      </a:lnTo>
                      <a:lnTo>
                        <a:pt x="196" y="298"/>
                      </a:lnTo>
                      <a:lnTo>
                        <a:pt x="594" y="77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8041320" y="5218200"/>
                  <a:ext cx="444240" cy="203040"/>
                </a:xfrm>
                <a:custGeom>
                  <a:avLst/>
                  <a:gdLst/>
                  <a:ahLst/>
                  <a:rect l="l" t="t" r="r" b="b"/>
                  <a:pathLst>
                    <a:path w="882" h="404">
                      <a:moveTo>
                        <a:pt x="881" y="196"/>
                      </a:moveTo>
                      <a:lnTo>
                        <a:pt x="497" y="403"/>
                      </a:lnTo>
                      <a:lnTo>
                        <a:pt x="0" y="173"/>
                      </a:lnTo>
                      <a:lnTo>
                        <a:pt x="361" y="0"/>
                      </a:lnTo>
                      <a:lnTo>
                        <a:pt x="881" y="196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7805160" y="5173200"/>
                  <a:ext cx="489960" cy="184320"/>
                </a:xfrm>
                <a:custGeom>
                  <a:avLst/>
                  <a:gdLst/>
                  <a:ahLst/>
                  <a:rect l="l" t="t" r="r" b="b"/>
                  <a:pathLst>
                    <a:path w="973" h="367">
                      <a:moveTo>
                        <a:pt x="770" y="366"/>
                      </a:moveTo>
                      <a:lnTo>
                        <a:pt x="972" y="265"/>
                      </a:lnTo>
                      <a:lnTo>
                        <a:pt x="158" y="0"/>
                      </a:lnTo>
                      <a:lnTo>
                        <a:pt x="0" y="75"/>
                      </a:lnTo>
                      <a:lnTo>
                        <a:pt x="770" y="366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7806240" y="5175360"/>
                  <a:ext cx="434160" cy="1566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7842600" y="5186520"/>
                  <a:ext cx="420480" cy="157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7868880" y="5198400"/>
                  <a:ext cx="411480" cy="1620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7927200" y="5223600"/>
                  <a:ext cx="403920" cy="166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7961040" y="5240520"/>
                  <a:ext cx="400680" cy="1684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8000280" y="5258880"/>
                  <a:ext cx="379440" cy="166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8039520" y="5274000"/>
                  <a:ext cx="366480" cy="166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8078400" y="5293800"/>
                  <a:ext cx="357480" cy="16524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943760" y="5357160"/>
                  <a:ext cx="208440" cy="10656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985880" y="5342400"/>
                  <a:ext cx="205200" cy="1018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074440" y="5308200"/>
                  <a:ext cx="199800" cy="9504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19080" y="5289840"/>
                  <a:ext cx="199440" cy="9504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166240" y="5273280"/>
                  <a:ext cx="193680" cy="94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208000" y="5256720"/>
                  <a:ext cx="189720" cy="9036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247240" y="5240160"/>
                  <a:ext cx="190800" cy="864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858440" y="5293080"/>
                  <a:ext cx="104040" cy="421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920720" y="5271840"/>
                  <a:ext cx="98640" cy="43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977600" y="5253840"/>
                  <a:ext cx="100080" cy="3996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33760" y="5234040"/>
                  <a:ext cx="100080" cy="385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093880" y="5214600"/>
                  <a:ext cx="92880" cy="385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158320" y="5194080"/>
                  <a:ext cx="90000" cy="360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259" name=""/>
          <p:cNvCxnSpPr>
            <a:stCxn id="181" idx="0"/>
            <a:endCxn id="149" idx="2"/>
          </p:cNvCxnSpPr>
          <p:nvPr/>
        </p:nvCxnSpPr>
        <p:spPr>
          <a:xfrm>
            <a:off x="1541520" y="2577600"/>
            <a:ext cx="846720" cy="1204200"/>
          </a:xfrm>
          <a:prstGeom prst="curvedConnector5">
            <a:avLst>
              <a:gd name="adj1" fmla="val 31858"/>
              <a:gd name="adj2" fmla="val 59479"/>
              <a:gd name="adj3" fmla="val 318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141" idx="2"/>
            <a:endCxn id="212" idx="0"/>
          </p:cNvCxnSpPr>
          <p:nvPr/>
        </p:nvCxnSpPr>
        <p:spPr>
          <a:xfrm flipH="1" rot="16200000">
            <a:off x="6564960" y="4733640"/>
            <a:ext cx="295560" cy="1058040"/>
          </a:xfrm>
          <a:prstGeom prst="curved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148" idx="3"/>
            <a:endCxn id="150" idx="1"/>
          </p:cNvCxnSpPr>
          <p:nvPr/>
        </p:nvCxnSpPr>
        <p:spPr>
          <a:xfrm flipV="1">
            <a:off x="2692080" y="2542320"/>
            <a:ext cx="540360" cy="724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148" idx="3"/>
            <a:endCxn id="136" idx="0"/>
          </p:cNvCxnSpPr>
          <p:nvPr/>
        </p:nvCxnSpPr>
        <p:spPr>
          <a:xfrm>
            <a:off x="2692440" y="3266640"/>
            <a:ext cx="1069200" cy="2056680"/>
          </a:xfrm>
          <a:prstGeom prst="curvedConnector5">
            <a:avLst>
              <a:gd name="adj1" fmla="val 49915"/>
              <a:gd name="adj2" fmla="val 55094"/>
              <a:gd name="adj3" fmla="val 4991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1358280" y="414828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29560" y="1252440"/>
            <a:ext cx="18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-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 desig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stud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128" idx="3"/>
            <a:endCxn id="218" idx="0"/>
          </p:cNvCxnSpPr>
          <p:nvPr/>
        </p:nvCxnSpPr>
        <p:spPr>
          <a:xfrm>
            <a:off x="5432040" y="2579760"/>
            <a:ext cx="2585160" cy="213228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66" name=""/>
          <p:cNvCxnSpPr>
            <a:stCxn id="114" idx="0"/>
            <a:endCxn id="140" idx="1"/>
          </p:cNvCxnSpPr>
          <p:nvPr/>
        </p:nvCxnSpPr>
        <p:spPr>
          <a:xfrm flipH="1" flipV="1" rot="5400000">
            <a:off x="4997880" y="4181400"/>
            <a:ext cx="585000" cy="118044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67" name=""/>
          <p:cNvCxnSpPr>
            <a:stCxn id="125" idx="0"/>
            <a:endCxn id="138" idx="1"/>
          </p:cNvCxnSpPr>
          <p:nvPr/>
        </p:nvCxnSpPr>
        <p:spPr>
          <a:xfrm flipH="1" rot="16200000">
            <a:off x="3626640" y="1299240"/>
            <a:ext cx="2434320" cy="2073960"/>
          </a:xfrm>
          <a:prstGeom prst="curvedConnector5">
            <a:avLst>
              <a:gd name="adj1" fmla="val -9392"/>
              <a:gd name="adj2" fmla="val 14878"/>
              <a:gd name="adj3" fmla="val -9392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68" name=""/>
          <p:cNvCxnSpPr>
            <a:stCxn id="119" idx="0"/>
            <a:endCxn id="140" idx="1"/>
          </p:cNvCxnSpPr>
          <p:nvPr/>
        </p:nvCxnSpPr>
        <p:spPr>
          <a:xfrm flipH="1" flipV="1" rot="5400000">
            <a:off x="5142600" y="4815000"/>
            <a:ext cx="1073520" cy="40248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54400" y="-360"/>
            <a:ext cx="588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erimental Set-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57920" y="475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83160" y="4859280"/>
            <a:ext cx="406080" cy="171360"/>
            <a:chOff x="3683160" y="4859280"/>
            <a:chExt cx="406080" cy="171360"/>
          </a:xfrm>
        </p:grpSpPr>
        <p:sp>
          <p:nvSpPr>
            <p:cNvPr id="272" name=""/>
            <p:cNvSpPr/>
            <p:nvPr/>
          </p:nvSpPr>
          <p:spPr>
            <a:xfrm>
              <a:off x="3683160" y="4859280"/>
              <a:ext cx="406080" cy="171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755880" y="4910040"/>
              <a:ext cx="288360" cy="73080"/>
              <a:chOff x="3755880" y="4910040"/>
              <a:chExt cx="288360" cy="73080"/>
            </a:xfrm>
          </p:grpSpPr>
          <p:sp>
            <p:nvSpPr>
              <p:cNvPr id="274" name=""/>
              <p:cNvSpPr/>
              <p:nvPr/>
            </p:nvSpPr>
            <p:spPr>
              <a:xfrm>
                <a:off x="3755880" y="4910040"/>
                <a:ext cx="144000" cy="7308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99880" y="4910040"/>
                <a:ext cx="144360" cy="7308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5361480" y="4165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986360" y="4208400"/>
            <a:ext cx="406440" cy="171360"/>
            <a:chOff x="4986360" y="4208400"/>
            <a:chExt cx="406440" cy="171360"/>
          </a:xfrm>
        </p:grpSpPr>
        <p:sp>
          <p:nvSpPr>
            <p:cNvPr id="278" name=""/>
            <p:cNvSpPr/>
            <p:nvPr/>
          </p:nvSpPr>
          <p:spPr>
            <a:xfrm>
              <a:off x="4986360" y="4208400"/>
              <a:ext cx="406440" cy="171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059440" y="4259160"/>
              <a:ext cx="288720" cy="73080"/>
              <a:chOff x="5059440" y="4259160"/>
              <a:chExt cx="288720" cy="73080"/>
            </a:xfrm>
          </p:grpSpPr>
          <p:sp>
            <p:nvSpPr>
              <p:cNvPr id="280" name=""/>
              <p:cNvSpPr/>
              <p:nvPr/>
            </p:nvSpPr>
            <p:spPr>
              <a:xfrm>
                <a:off x="5059440" y="4259160"/>
                <a:ext cx="144000" cy="7308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03440" y="4259160"/>
                <a:ext cx="144720" cy="7308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82" name=""/>
          <p:cNvCxnSpPr>
            <a:stCxn id="278" idx="3"/>
            <a:endCxn id="139" idx="1"/>
          </p:cNvCxnSpPr>
          <p:nvPr/>
        </p:nvCxnSpPr>
        <p:spPr>
          <a:xfrm flipV="1">
            <a:off x="5407200" y="4015800"/>
            <a:ext cx="473760" cy="278280"/>
          </a:xfrm>
          <a:prstGeom prst="curvedConnector5">
            <a:avLst>
              <a:gd name="adj1" fmla="val 48288"/>
              <a:gd name="adj2" fmla="val 50000"/>
              <a:gd name="adj3" fmla="val 4828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443400" y="1098720"/>
            <a:ext cx="533160" cy="29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10160" y="4056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13040" y="4233960"/>
            <a:ext cx="677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38640" y="458964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238640" y="4437000"/>
            <a:ext cx="3049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43400" y="5440320"/>
            <a:ext cx="244476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57520" y="458964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557520" y="4437000"/>
            <a:ext cx="3049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3040" y="5122800"/>
            <a:ext cx="0" cy="58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90920" y="4043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90920" y="4741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10160" y="4741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 rot="5400000">
            <a:off x="4555080" y="35982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4200" y="3983040"/>
            <a:ext cx="253800" cy="14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263840" y="3983040"/>
            <a:ext cx="253800" cy="14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90920" y="5122800"/>
            <a:ext cx="0" cy="58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64200" y="5049720"/>
            <a:ext cx="253800" cy="14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263840" y="5049720"/>
            <a:ext cx="253800" cy="14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90920" y="36752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2080" y="367524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25960" y="3675240"/>
            <a:ext cx="0" cy="20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784400" y="3675240"/>
            <a:ext cx="23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60880" y="5519880"/>
            <a:ext cx="469800" cy="43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03800" y="5649840"/>
            <a:ext cx="184320" cy="173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68720" y="5710320"/>
            <a:ext cx="165240" cy="182520"/>
          </a:xfrm>
          <a:custGeom>
            <a:avLst/>
            <a:gdLst/>
            <a:ahLst/>
            <a:rect l="l" t="t" r="r" b="b"/>
            <a:pathLst>
              <a:path w="140" h="163">
                <a:moveTo>
                  <a:pt x="0" y="7"/>
                </a:moveTo>
                <a:lnTo>
                  <a:pt x="140" y="163"/>
                </a:lnTo>
                <a:lnTo>
                  <a:pt x="7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49520" y="5716440"/>
            <a:ext cx="2438640" cy="319320"/>
          </a:xfrm>
          <a:prstGeom prst="rect">
            <a:avLst/>
          </a:prstGeom>
          <a:solidFill>
            <a:srgbClr val="3399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35480" y="2494080"/>
            <a:ext cx="536400" cy="1566720"/>
          </a:xfrm>
          <a:prstGeom prst="rect">
            <a:avLst/>
          </a:prstGeom>
          <a:solidFill>
            <a:srgbClr val="33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35480" y="984240"/>
            <a:ext cx="203040" cy="203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24120" y="1085760"/>
            <a:ext cx="0" cy="1422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65440" y="2392200"/>
            <a:ext cx="14472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49840" y="4037040"/>
            <a:ext cx="14436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29720" y="51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34200" y="387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27720" y="49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578040" y="5124600"/>
            <a:ext cx="254160" cy="145800"/>
            <a:chOff x="3578040" y="5124600"/>
            <a:chExt cx="254160" cy="145800"/>
          </a:xfrm>
        </p:grpSpPr>
        <p:sp>
          <p:nvSpPr>
            <p:cNvPr id="318" name=""/>
            <p:cNvSpPr/>
            <p:nvPr/>
          </p:nvSpPr>
          <p:spPr>
            <a:xfrm>
              <a:off x="3578400" y="5124600"/>
              <a:ext cx="253800" cy="1458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3578040" y="5124600"/>
              <a:ext cx="253800" cy="1458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826080" y="506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218280" y="4199040"/>
            <a:ext cx="939240" cy="806400"/>
            <a:chOff x="6218280" y="4199040"/>
            <a:chExt cx="939240" cy="806400"/>
          </a:xfrm>
        </p:grpSpPr>
        <p:sp>
          <p:nvSpPr>
            <p:cNvPr id="322" name=""/>
            <p:cNvSpPr/>
            <p:nvPr/>
          </p:nvSpPr>
          <p:spPr>
            <a:xfrm>
              <a:off x="6218280" y="4199040"/>
              <a:ext cx="609480" cy="3427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18280" y="4662360"/>
              <a:ext cx="609480" cy="3430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32320" y="4370400"/>
              <a:ext cx="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40360" y="4815000"/>
              <a:ext cx="31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40360" y="4370400"/>
              <a:ext cx="31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900080" y="3062160"/>
            <a:ext cx="609480" cy="685800"/>
            <a:chOff x="1900080" y="3062160"/>
            <a:chExt cx="609480" cy="685800"/>
          </a:xfrm>
        </p:grpSpPr>
        <p:sp>
          <p:nvSpPr>
            <p:cNvPr id="328" name=""/>
            <p:cNvSpPr/>
            <p:nvPr/>
          </p:nvSpPr>
          <p:spPr>
            <a:xfrm>
              <a:off x="1900080" y="3062160"/>
              <a:ext cx="609480" cy="3427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00080" y="3404880"/>
              <a:ext cx="609480" cy="3430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049560" y="2436840"/>
            <a:ext cx="14436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19400" y="2579760"/>
            <a:ext cx="0" cy="148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119400" y="3773880"/>
            <a:ext cx="418320" cy="558360"/>
            <a:chOff x="3119400" y="3773880"/>
            <a:chExt cx="418320" cy="558360"/>
          </a:xfrm>
        </p:grpSpPr>
        <p:sp>
          <p:nvSpPr>
            <p:cNvPr id="333" name=""/>
            <p:cNvSpPr/>
            <p:nvPr/>
          </p:nvSpPr>
          <p:spPr>
            <a:xfrm flipV="1">
              <a:off x="3128760" y="3773520"/>
              <a:ext cx="408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3119400" y="3773520"/>
              <a:ext cx="408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85720" y="1860480"/>
            <a:ext cx="1281240" cy="894960"/>
            <a:chOff x="585720" y="1860480"/>
            <a:chExt cx="1281240" cy="894960"/>
          </a:xfrm>
        </p:grpSpPr>
        <p:grpSp>
          <p:nvGrpSpPr>
            <p:cNvPr id="336" name=""/>
            <p:cNvGrpSpPr/>
            <p:nvPr/>
          </p:nvGrpSpPr>
          <p:grpSpPr>
            <a:xfrm>
              <a:off x="877320" y="1860480"/>
              <a:ext cx="989640" cy="810360"/>
              <a:chOff x="877320" y="1860480"/>
              <a:chExt cx="989640" cy="81036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877320" y="1860480"/>
                <a:ext cx="989640" cy="810360"/>
                <a:chOff x="877320" y="1860480"/>
                <a:chExt cx="989640" cy="81036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877320" y="2317320"/>
                  <a:ext cx="989640" cy="353520"/>
                  <a:chOff x="877320" y="2317320"/>
                  <a:chExt cx="989640" cy="35352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877320" y="2317320"/>
                    <a:ext cx="567000" cy="35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6" h="703">
                        <a:moveTo>
                          <a:pt x="1125" y="215"/>
                        </a:moveTo>
                        <a:lnTo>
                          <a:pt x="1125" y="702"/>
                        </a:lnTo>
                        <a:lnTo>
                          <a:pt x="0" y="343"/>
                        </a:lnTo>
                        <a:lnTo>
                          <a:pt x="0" y="0"/>
                        </a:lnTo>
                        <a:lnTo>
                          <a:pt x="1125" y="215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443960" y="2401560"/>
                    <a:ext cx="423000" cy="2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0" h="535">
                        <a:moveTo>
                          <a:pt x="0" y="47"/>
                        </a:moveTo>
                        <a:lnTo>
                          <a:pt x="0" y="534"/>
                        </a:lnTo>
                        <a:lnTo>
                          <a:pt x="839" y="414"/>
                        </a:lnTo>
                        <a:lnTo>
                          <a:pt x="839" y="0"/>
                        </a:lnTo>
                        <a:lnTo>
                          <a:pt x="0" y="47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877320" y="2317320"/>
                    <a:ext cx="9896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5" h="216">
                        <a:moveTo>
                          <a:pt x="1964" y="168"/>
                        </a:moveTo>
                        <a:lnTo>
                          <a:pt x="1117" y="215"/>
                        </a:lnTo>
                        <a:lnTo>
                          <a:pt x="0" y="0"/>
                        </a:lnTo>
                        <a:lnTo>
                          <a:pt x="822" y="0"/>
                        </a:lnTo>
                        <a:lnTo>
                          <a:pt x="1964" y="168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>
                  <a:off x="1185480" y="2288160"/>
                  <a:ext cx="359280" cy="101520"/>
                </a:xfrm>
                <a:custGeom>
                  <a:avLst/>
                  <a:gdLst/>
                  <a:ahLst/>
                  <a:rect l="l" t="t" r="r" b="b"/>
                  <a:pathLst>
                    <a:path w="714" h="202">
                      <a:moveTo>
                        <a:pt x="713" y="114"/>
                      </a:moveTo>
                      <a:lnTo>
                        <a:pt x="713" y="180"/>
                      </a:lnTo>
                      <a:lnTo>
                        <a:pt x="381" y="20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713" y="114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989280" y="1860480"/>
                  <a:ext cx="801000" cy="506160"/>
                  <a:chOff x="989280" y="1860480"/>
                  <a:chExt cx="801000" cy="506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989280" y="1860480"/>
                    <a:ext cx="45900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983">
                        <a:moveTo>
                          <a:pt x="783" y="982"/>
                        </a:moveTo>
                        <a:lnTo>
                          <a:pt x="910" y="32"/>
                        </a:lnTo>
                        <a:lnTo>
                          <a:pt x="128" y="0"/>
                        </a:lnTo>
                        <a:lnTo>
                          <a:pt x="0" y="846"/>
                        </a:lnTo>
                        <a:lnTo>
                          <a:pt x="783" y="982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1383840" y="1875960"/>
                    <a:ext cx="406440" cy="490680"/>
                  </a:xfrm>
                  <a:custGeom>
                    <a:avLst/>
                    <a:gdLst/>
                    <a:ahLst/>
                    <a:rect l="l" t="t" r="r" b="b"/>
                    <a:pathLst>
                      <a:path w="807" h="976">
                        <a:moveTo>
                          <a:pt x="127" y="0"/>
                        </a:moveTo>
                        <a:lnTo>
                          <a:pt x="806" y="217"/>
                        </a:lnTo>
                        <a:lnTo>
                          <a:pt x="710" y="975"/>
                        </a:lnTo>
                        <a:lnTo>
                          <a:pt x="0" y="951"/>
                        </a:lnTo>
                        <a:lnTo>
                          <a:pt x="12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1041840" y="1909080"/>
                    <a:ext cx="329400" cy="37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4" h="740">
                        <a:moveTo>
                          <a:pt x="653" y="33"/>
                        </a:moveTo>
                        <a:lnTo>
                          <a:pt x="560" y="739"/>
                        </a:lnTo>
                        <a:lnTo>
                          <a:pt x="0" y="656"/>
                        </a:lnTo>
                        <a:lnTo>
                          <a:pt x="95" y="0"/>
                        </a:lnTo>
                        <a:lnTo>
                          <a:pt x="653" y="33"/>
                        </a:lnTo>
                      </a:path>
                    </a:pathLst>
                  </a:custGeom>
                  <a:solidFill>
                    <a:srgbClr val="0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7" name=""/>
              <p:cNvGrpSpPr/>
              <p:nvPr/>
            </p:nvGrpSpPr>
            <p:grpSpPr>
              <a:xfrm>
                <a:off x="914760" y="2355120"/>
                <a:ext cx="325440" cy="230040"/>
                <a:chOff x="914760" y="2355120"/>
                <a:chExt cx="325440" cy="2300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916920" y="2355120"/>
                  <a:ext cx="323280" cy="230040"/>
                </a:xfrm>
                <a:custGeom>
                  <a:avLst/>
                  <a:gdLst/>
                  <a:ahLst/>
                  <a:rect l="l" t="t" r="r" b="b"/>
                  <a:pathLst>
                    <a:path w="642" h="458">
                      <a:moveTo>
                        <a:pt x="0" y="0"/>
                      </a:moveTo>
                      <a:lnTo>
                        <a:pt x="641" y="137"/>
                      </a:lnTo>
                      <a:lnTo>
                        <a:pt x="641" y="457"/>
                      </a:lnTo>
                      <a:lnTo>
                        <a:pt x="0" y="25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>
                  <a:off x="937440" y="2401560"/>
                  <a:ext cx="101520" cy="3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083240" y="2449800"/>
                  <a:ext cx="96480" cy="9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053000" y="2385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208160" y="24199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920520" y="2416680"/>
                  <a:ext cx="28944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flipV="1">
                  <a:off x="914760" y="2387880"/>
                  <a:ext cx="299160" cy="73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" name=""/>
            <p:cNvGrpSpPr/>
            <p:nvPr/>
          </p:nvGrpSpPr>
          <p:grpSpPr>
            <a:xfrm>
              <a:off x="585720" y="2360520"/>
              <a:ext cx="772560" cy="394920"/>
              <a:chOff x="585720" y="2360520"/>
              <a:chExt cx="772560" cy="39492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182600" y="2574720"/>
                <a:ext cx="126000" cy="93600"/>
                <a:chOff x="1182600" y="2574720"/>
                <a:chExt cx="126000" cy="936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271880" y="2574720"/>
                  <a:ext cx="36720" cy="93600"/>
                </a:xfrm>
                <a:custGeom>
                  <a:avLst/>
                  <a:gdLst/>
                  <a:ahLst/>
                  <a:rect l="l" t="t" r="r" b="b"/>
                  <a:pathLst>
                    <a:path w="73" h="187">
                      <a:moveTo>
                        <a:pt x="51" y="0"/>
                      </a:moveTo>
                      <a:lnTo>
                        <a:pt x="72" y="174"/>
                      </a:lnTo>
                      <a:lnTo>
                        <a:pt x="21" y="186"/>
                      </a:lnTo>
                      <a:lnTo>
                        <a:pt x="0" y="9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82600" y="2586600"/>
                  <a:ext cx="100440" cy="8172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0" y="6"/>
                      </a:moveTo>
                      <a:lnTo>
                        <a:pt x="198" y="162"/>
                      </a:lnTo>
                      <a:lnTo>
                        <a:pt x="0" y="81"/>
                      </a:lnTo>
                      <a:lnTo>
                        <a:pt x="78" y="57"/>
                      </a:lnTo>
                      <a:lnTo>
                        <a:pt x="147" y="93"/>
                      </a:lnTo>
                      <a:lnTo>
                        <a:pt x="126" y="0"/>
                      </a:lnTo>
                      <a:lnTo>
                        <a:pt x="180" y="6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585720" y="2360520"/>
                <a:ext cx="772560" cy="394920"/>
                <a:chOff x="585720" y="2360520"/>
                <a:chExt cx="772560" cy="3949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587520" y="2360520"/>
                  <a:ext cx="756720" cy="349200"/>
                </a:xfrm>
                <a:custGeom>
                  <a:avLst/>
                  <a:gdLst/>
                  <a:ahLst/>
                  <a:rect l="l" t="t" r="r" b="b"/>
                  <a:pathLst>
                    <a:path w="1502" h="695">
                      <a:moveTo>
                        <a:pt x="1501" y="295"/>
                      </a:moveTo>
                      <a:lnTo>
                        <a:pt x="782" y="694"/>
                      </a:lnTo>
                      <a:lnTo>
                        <a:pt x="0" y="303"/>
                      </a:lnTo>
                      <a:lnTo>
                        <a:pt x="599" y="0"/>
                      </a:lnTo>
                      <a:lnTo>
                        <a:pt x="1501" y="295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979200" y="2506680"/>
                  <a:ext cx="379080" cy="246960"/>
                </a:xfrm>
                <a:custGeom>
                  <a:avLst/>
                  <a:gdLst/>
                  <a:ahLst/>
                  <a:rect l="l" t="t" r="r" b="b"/>
                  <a:pathLst>
                    <a:path w="753" h="492">
                      <a:moveTo>
                        <a:pt x="725" y="0"/>
                      </a:moveTo>
                      <a:lnTo>
                        <a:pt x="0" y="407"/>
                      </a:lnTo>
                      <a:lnTo>
                        <a:pt x="21" y="491"/>
                      </a:lnTo>
                      <a:lnTo>
                        <a:pt x="752" y="77"/>
                      </a:lnTo>
                      <a:lnTo>
                        <a:pt x="725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85720" y="2512800"/>
                  <a:ext cx="404280" cy="242640"/>
                </a:xfrm>
                <a:custGeom>
                  <a:avLst/>
                  <a:gdLst/>
                  <a:ahLst/>
                  <a:rect l="l" t="t" r="r" b="b"/>
                  <a:pathLst>
                    <a:path w="803" h="483">
                      <a:moveTo>
                        <a:pt x="802" y="482"/>
                      </a:moveTo>
                      <a:lnTo>
                        <a:pt x="778" y="392"/>
                      </a:lnTo>
                      <a:lnTo>
                        <a:pt x="0" y="0"/>
                      </a:lnTo>
                      <a:lnTo>
                        <a:pt x="27" y="71"/>
                      </a:lnTo>
                      <a:lnTo>
                        <a:pt x="802" y="482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91720" y="2524680"/>
                  <a:ext cx="299520" cy="150120"/>
                </a:xfrm>
                <a:custGeom>
                  <a:avLst/>
                  <a:gdLst/>
                  <a:ahLst/>
                  <a:rect l="l" t="t" r="r" b="b"/>
                  <a:pathLst>
                    <a:path w="595" h="299">
                      <a:moveTo>
                        <a:pt x="594" y="77"/>
                      </a:moveTo>
                      <a:lnTo>
                        <a:pt x="388" y="0"/>
                      </a:lnTo>
                      <a:lnTo>
                        <a:pt x="0" y="208"/>
                      </a:lnTo>
                      <a:lnTo>
                        <a:pt x="196" y="298"/>
                      </a:lnTo>
                      <a:lnTo>
                        <a:pt x="594" y="77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23160" y="2416320"/>
                  <a:ext cx="444240" cy="203040"/>
                </a:xfrm>
                <a:custGeom>
                  <a:avLst/>
                  <a:gdLst/>
                  <a:ahLst/>
                  <a:rect l="l" t="t" r="r" b="b"/>
                  <a:pathLst>
                    <a:path w="882" h="404">
                      <a:moveTo>
                        <a:pt x="881" y="196"/>
                      </a:moveTo>
                      <a:lnTo>
                        <a:pt x="497" y="403"/>
                      </a:lnTo>
                      <a:lnTo>
                        <a:pt x="0" y="173"/>
                      </a:lnTo>
                      <a:lnTo>
                        <a:pt x="361" y="0"/>
                      </a:lnTo>
                      <a:lnTo>
                        <a:pt x="881" y="196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13240" y="2371320"/>
                  <a:ext cx="489960" cy="184320"/>
                </a:xfrm>
                <a:custGeom>
                  <a:avLst/>
                  <a:gdLst/>
                  <a:ahLst/>
                  <a:rect l="l" t="t" r="r" b="b"/>
                  <a:pathLst>
                    <a:path w="973" h="367">
                      <a:moveTo>
                        <a:pt x="770" y="366"/>
                      </a:moveTo>
                      <a:lnTo>
                        <a:pt x="972" y="265"/>
                      </a:lnTo>
                      <a:lnTo>
                        <a:pt x="158" y="0"/>
                      </a:lnTo>
                      <a:lnTo>
                        <a:pt x="0" y="75"/>
                      </a:lnTo>
                      <a:lnTo>
                        <a:pt x="770" y="366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>
                  <a:off x="868320" y="2373480"/>
                  <a:ext cx="434160" cy="1566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>
                  <a:off x="845640" y="2384640"/>
                  <a:ext cx="420480" cy="157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flipV="1">
                  <a:off x="828360" y="2396520"/>
                  <a:ext cx="411480" cy="1620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 flipV="1">
                  <a:off x="777600" y="2421720"/>
                  <a:ext cx="403920" cy="166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flipV="1">
                  <a:off x="747000" y="2438640"/>
                  <a:ext cx="400680" cy="1684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729000" y="2457000"/>
                  <a:ext cx="379440" cy="166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>
                  <a:off x="702720" y="2472120"/>
                  <a:ext cx="366480" cy="166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flipV="1">
                  <a:off x="672840" y="2491920"/>
                  <a:ext cx="357480" cy="16524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956520" y="2555280"/>
                  <a:ext cx="208440" cy="10656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>
                  <a:off x="917640" y="2540520"/>
                  <a:ext cx="205200" cy="1018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834480" y="2506320"/>
                  <a:ext cx="199800" cy="9504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790200" y="2487960"/>
                  <a:ext cx="199440" cy="9504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748800" y="2471400"/>
                  <a:ext cx="193680" cy="94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711000" y="2454840"/>
                  <a:ext cx="189720" cy="9036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670680" y="2438280"/>
                  <a:ext cx="190800" cy="864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1146240" y="2491200"/>
                  <a:ext cx="104040" cy="421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1089360" y="2469960"/>
                  <a:ext cx="98640" cy="43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1031040" y="2451960"/>
                  <a:ext cx="100080" cy="3996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>
                  <a:off x="974880" y="2432160"/>
                  <a:ext cx="100080" cy="385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921960" y="2412720"/>
                  <a:ext cx="92880" cy="385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860400" y="2392200"/>
                  <a:ext cx="90000" cy="360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7" name=""/>
          <p:cNvGrpSpPr/>
          <p:nvPr/>
        </p:nvGrpSpPr>
        <p:grpSpPr>
          <a:xfrm>
            <a:off x="7300440" y="4629240"/>
            <a:ext cx="1281240" cy="894960"/>
            <a:chOff x="7300440" y="4629240"/>
            <a:chExt cx="1281240" cy="894960"/>
          </a:xfrm>
        </p:grpSpPr>
        <p:grpSp>
          <p:nvGrpSpPr>
            <p:cNvPr id="388" name=""/>
            <p:cNvGrpSpPr/>
            <p:nvPr/>
          </p:nvGrpSpPr>
          <p:grpSpPr>
            <a:xfrm>
              <a:off x="7300440" y="4629240"/>
              <a:ext cx="989640" cy="810360"/>
              <a:chOff x="7300440" y="4629240"/>
              <a:chExt cx="989640" cy="81036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7300440" y="4629240"/>
                <a:ext cx="989640" cy="810360"/>
                <a:chOff x="7300440" y="4629240"/>
                <a:chExt cx="989640" cy="81036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7300440" y="5086080"/>
                  <a:ext cx="989640" cy="353520"/>
                  <a:chOff x="7300440" y="5086080"/>
                  <a:chExt cx="989640" cy="3535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H="1">
                    <a:off x="7722720" y="5086080"/>
                    <a:ext cx="567000" cy="35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6" h="703">
                        <a:moveTo>
                          <a:pt x="1125" y="215"/>
                        </a:moveTo>
                        <a:lnTo>
                          <a:pt x="1125" y="702"/>
                        </a:lnTo>
                        <a:lnTo>
                          <a:pt x="0" y="343"/>
                        </a:lnTo>
                        <a:lnTo>
                          <a:pt x="0" y="0"/>
                        </a:lnTo>
                        <a:lnTo>
                          <a:pt x="1125" y="215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7300080" y="5170320"/>
                    <a:ext cx="423000" cy="2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0" h="535">
                        <a:moveTo>
                          <a:pt x="0" y="47"/>
                        </a:moveTo>
                        <a:lnTo>
                          <a:pt x="0" y="534"/>
                        </a:lnTo>
                        <a:lnTo>
                          <a:pt x="839" y="414"/>
                        </a:lnTo>
                        <a:lnTo>
                          <a:pt x="839" y="0"/>
                        </a:lnTo>
                        <a:lnTo>
                          <a:pt x="0" y="47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>
                    <a:off x="7300080" y="5086080"/>
                    <a:ext cx="9896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5" h="216">
                        <a:moveTo>
                          <a:pt x="1964" y="168"/>
                        </a:moveTo>
                        <a:lnTo>
                          <a:pt x="1117" y="215"/>
                        </a:lnTo>
                        <a:lnTo>
                          <a:pt x="0" y="0"/>
                        </a:lnTo>
                        <a:lnTo>
                          <a:pt x="822" y="0"/>
                        </a:lnTo>
                        <a:lnTo>
                          <a:pt x="1964" y="168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4" name=""/>
                <p:cNvSpPr/>
                <p:nvPr/>
              </p:nvSpPr>
              <p:spPr>
                <a:xfrm flipH="1">
                  <a:off x="7622640" y="5056920"/>
                  <a:ext cx="359280" cy="101520"/>
                </a:xfrm>
                <a:custGeom>
                  <a:avLst/>
                  <a:gdLst/>
                  <a:ahLst/>
                  <a:rect l="l" t="t" r="r" b="b"/>
                  <a:pathLst>
                    <a:path w="714" h="202">
                      <a:moveTo>
                        <a:pt x="713" y="114"/>
                      </a:moveTo>
                      <a:lnTo>
                        <a:pt x="713" y="180"/>
                      </a:lnTo>
                      <a:lnTo>
                        <a:pt x="381" y="20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713" y="114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7377120" y="4629240"/>
                  <a:ext cx="801000" cy="506160"/>
                  <a:chOff x="7377120" y="4629240"/>
                  <a:chExt cx="801000" cy="5061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>
                    <a:off x="7718760" y="4629240"/>
                    <a:ext cx="45900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983">
                        <a:moveTo>
                          <a:pt x="783" y="982"/>
                        </a:moveTo>
                        <a:lnTo>
                          <a:pt x="910" y="32"/>
                        </a:lnTo>
                        <a:lnTo>
                          <a:pt x="128" y="0"/>
                        </a:lnTo>
                        <a:lnTo>
                          <a:pt x="0" y="846"/>
                        </a:lnTo>
                        <a:lnTo>
                          <a:pt x="783" y="982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7376760" y="4644720"/>
                    <a:ext cx="406440" cy="490680"/>
                  </a:xfrm>
                  <a:custGeom>
                    <a:avLst/>
                    <a:gdLst/>
                    <a:ahLst/>
                    <a:rect l="l" t="t" r="r" b="b"/>
                    <a:pathLst>
                      <a:path w="807" h="976">
                        <a:moveTo>
                          <a:pt x="127" y="0"/>
                        </a:moveTo>
                        <a:lnTo>
                          <a:pt x="806" y="217"/>
                        </a:lnTo>
                        <a:lnTo>
                          <a:pt x="710" y="975"/>
                        </a:lnTo>
                        <a:lnTo>
                          <a:pt x="0" y="951"/>
                        </a:lnTo>
                        <a:lnTo>
                          <a:pt x="12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7795800" y="4677840"/>
                    <a:ext cx="329400" cy="37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4" h="740">
                        <a:moveTo>
                          <a:pt x="653" y="33"/>
                        </a:moveTo>
                        <a:lnTo>
                          <a:pt x="560" y="739"/>
                        </a:lnTo>
                        <a:lnTo>
                          <a:pt x="0" y="656"/>
                        </a:lnTo>
                        <a:lnTo>
                          <a:pt x="95" y="0"/>
                        </a:lnTo>
                        <a:lnTo>
                          <a:pt x="653" y="33"/>
                        </a:lnTo>
                      </a:path>
                    </a:pathLst>
                  </a:custGeom>
                  <a:solidFill>
                    <a:srgbClr val="0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9" name=""/>
              <p:cNvGrpSpPr/>
              <p:nvPr/>
            </p:nvGrpSpPr>
            <p:grpSpPr>
              <a:xfrm>
                <a:off x="7927200" y="5123880"/>
                <a:ext cx="325440" cy="230040"/>
                <a:chOff x="7927200" y="5123880"/>
                <a:chExt cx="325440" cy="230040"/>
              </a:xfrm>
            </p:grpSpPr>
            <p:sp>
              <p:nvSpPr>
                <p:cNvPr id="400" name=""/>
                <p:cNvSpPr/>
                <p:nvPr/>
              </p:nvSpPr>
              <p:spPr>
                <a:xfrm flipH="1">
                  <a:off x="7927200" y="5123880"/>
                  <a:ext cx="323280" cy="230040"/>
                </a:xfrm>
                <a:custGeom>
                  <a:avLst/>
                  <a:gdLst/>
                  <a:ahLst/>
                  <a:rect l="l" t="t" r="r" b="b"/>
                  <a:pathLst>
                    <a:path w="642" h="458">
                      <a:moveTo>
                        <a:pt x="0" y="0"/>
                      </a:moveTo>
                      <a:lnTo>
                        <a:pt x="641" y="137"/>
                      </a:lnTo>
                      <a:lnTo>
                        <a:pt x="641" y="457"/>
                      </a:lnTo>
                      <a:lnTo>
                        <a:pt x="0" y="25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8128440" y="5170320"/>
                  <a:ext cx="101520" cy="3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7987680" y="5218560"/>
                  <a:ext cx="96480" cy="9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8114400" y="515448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959240" y="51886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7957440" y="5185440"/>
                  <a:ext cx="28944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7953480" y="5156640"/>
                  <a:ext cx="299160" cy="73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" name=""/>
            <p:cNvGrpSpPr/>
            <p:nvPr/>
          </p:nvGrpSpPr>
          <p:grpSpPr>
            <a:xfrm>
              <a:off x="7809120" y="5129280"/>
              <a:ext cx="772560" cy="394920"/>
              <a:chOff x="7809120" y="5129280"/>
              <a:chExt cx="772560" cy="39492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7858800" y="5343480"/>
                <a:ext cx="126000" cy="93600"/>
                <a:chOff x="7858800" y="5343480"/>
                <a:chExt cx="126000" cy="93600"/>
              </a:xfrm>
            </p:grpSpPr>
            <p:sp>
              <p:nvSpPr>
                <p:cNvPr id="409" name=""/>
                <p:cNvSpPr/>
                <p:nvPr/>
              </p:nvSpPr>
              <p:spPr>
                <a:xfrm flipH="1">
                  <a:off x="7858800" y="5343480"/>
                  <a:ext cx="36720" cy="93600"/>
                </a:xfrm>
                <a:custGeom>
                  <a:avLst/>
                  <a:gdLst/>
                  <a:ahLst/>
                  <a:rect l="l" t="t" r="r" b="b"/>
                  <a:pathLst>
                    <a:path w="73" h="187">
                      <a:moveTo>
                        <a:pt x="51" y="0"/>
                      </a:moveTo>
                      <a:lnTo>
                        <a:pt x="72" y="174"/>
                      </a:lnTo>
                      <a:lnTo>
                        <a:pt x="21" y="186"/>
                      </a:lnTo>
                      <a:lnTo>
                        <a:pt x="0" y="9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7884000" y="5355360"/>
                  <a:ext cx="100440" cy="8172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0" y="6"/>
                      </a:moveTo>
                      <a:lnTo>
                        <a:pt x="198" y="162"/>
                      </a:lnTo>
                      <a:lnTo>
                        <a:pt x="0" y="81"/>
                      </a:lnTo>
                      <a:lnTo>
                        <a:pt x="78" y="57"/>
                      </a:lnTo>
                      <a:lnTo>
                        <a:pt x="147" y="93"/>
                      </a:lnTo>
                      <a:lnTo>
                        <a:pt x="126" y="0"/>
                      </a:lnTo>
                      <a:lnTo>
                        <a:pt x="180" y="6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7809120" y="5129280"/>
                <a:ext cx="772560" cy="394920"/>
                <a:chOff x="7809120" y="5129280"/>
                <a:chExt cx="772560" cy="394920"/>
              </a:xfrm>
            </p:grpSpPr>
            <p:sp>
              <p:nvSpPr>
                <p:cNvPr id="412" name=""/>
                <p:cNvSpPr/>
                <p:nvPr/>
              </p:nvSpPr>
              <p:spPr>
                <a:xfrm flipH="1">
                  <a:off x="7823160" y="5129280"/>
                  <a:ext cx="756720" cy="349200"/>
                </a:xfrm>
                <a:custGeom>
                  <a:avLst/>
                  <a:gdLst/>
                  <a:ahLst/>
                  <a:rect l="l" t="t" r="r" b="b"/>
                  <a:pathLst>
                    <a:path w="1502" h="695">
                      <a:moveTo>
                        <a:pt x="1501" y="295"/>
                      </a:moveTo>
                      <a:lnTo>
                        <a:pt x="782" y="694"/>
                      </a:lnTo>
                      <a:lnTo>
                        <a:pt x="0" y="303"/>
                      </a:lnTo>
                      <a:lnTo>
                        <a:pt x="599" y="0"/>
                      </a:lnTo>
                      <a:lnTo>
                        <a:pt x="1501" y="295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>
                  <a:off x="7808760" y="5275440"/>
                  <a:ext cx="379080" cy="246960"/>
                </a:xfrm>
                <a:custGeom>
                  <a:avLst/>
                  <a:gdLst/>
                  <a:ahLst/>
                  <a:rect l="l" t="t" r="r" b="b"/>
                  <a:pathLst>
                    <a:path w="753" h="492">
                      <a:moveTo>
                        <a:pt x="725" y="0"/>
                      </a:moveTo>
                      <a:lnTo>
                        <a:pt x="0" y="407"/>
                      </a:lnTo>
                      <a:lnTo>
                        <a:pt x="21" y="491"/>
                      </a:lnTo>
                      <a:lnTo>
                        <a:pt x="752" y="77"/>
                      </a:lnTo>
                      <a:lnTo>
                        <a:pt x="725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8177040" y="5281560"/>
                  <a:ext cx="404280" cy="242640"/>
                </a:xfrm>
                <a:custGeom>
                  <a:avLst/>
                  <a:gdLst/>
                  <a:ahLst/>
                  <a:rect l="l" t="t" r="r" b="b"/>
                  <a:pathLst>
                    <a:path w="803" h="483">
                      <a:moveTo>
                        <a:pt x="802" y="482"/>
                      </a:moveTo>
                      <a:lnTo>
                        <a:pt x="778" y="392"/>
                      </a:lnTo>
                      <a:lnTo>
                        <a:pt x="0" y="0"/>
                      </a:lnTo>
                      <a:lnTo>
                        <a:pt x="27" y="71"/>
                      </a:lnTo>
                      <a:lnTo>
                        <a:pt x="802" y="482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7976160" y="5293440"/>
                  <a:ext cx="299520" cy="150120"/>
                </a:xfrm>
                <a:custGeom>
                  <a:avLst/>
                  <a:gdLst/>
                  <a:ahLst/>
                  <a:rect l="l" t="t" r="r" b="b"/>
                  <a:pathLst>
                    <a:path w="595" h="299">
                      <a:moveTo>
                        <a:pt x="594" y="77"/>
                      </a:moveTo>
                      <a:lnTo>
                        <a:pt x="388" y="0"/>
                      </a:lnTo>
                      <a:lnTo>
                        <a:pt x="0" y="208"/>
                      </a:lnTo>
                      <a:lnTo>
                        <a:pt x="196" y="298"/>
                      </a:lnTo>
                      <a:lnTo>
                        <a:pt x="594" y="77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8100000" y="5185080"/>
                  <a:ext cx="444240" cy="203040"/>
                </a:xfrm>
                <a:custGeom>
                  <a:avLst/>
                  <a:gdLst/>
                  <a:ahLst/>
                  <a:rect l="l" t="t" r="r" b="b"/>
                  <a:pathLst>
                    <a:path w="882" h="404">
                      <a:moveTo>
                        <a:pt x="881" y="196"/>
                      </a:moveTo>
                      <a:lnTo>
                        <a:pt x="497" y="403"/>
                      </a:lnTo>
                      <a:lnTo>
                        <a:pt x="0" y="173"/>
                      </a:lnTo>
                      <a:lnTo>
                        <a:pt x="361" y="0"/>
                      </a:lnTo>
                      <a:lnTo>
                        <a:pt x="881" y="196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7863840" y="5140080"/>
                  <a:ext cx="489960" cy="184320"/>
                </a:xfrm>
                <a:custGeom>
                  <a:avLst/>
                  <a:gdLst/>
                  <a:ahLst/>
                  <a:rect l="l" t="t" r="r" b="b"/>
                  <a:pathLst>
                    <a:path w="973" h="367">
                      <a:moveTo>
                        <a:pt x="770" y="366"/>
                      </a:moveTo>
                      <a:lnTo>
                        <a:pt x="972" y="265"/>
                      </a:lnTo>
                      <a:lnTo>
                        <a:pt x="158" y="0"/>
                      </a:lnTo>
                      <a:lnTo>
                        <a:pt x="0" y="75"/>
                      </a:lnTo>
                      <a:lnTo>
                        <a:pt x="770" y="366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7864920" y="5142240"/>
                  <a:ext cx="434160" cy="1566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7901280" y="5153400"/>
                  <a:ext cx="420480" cy="157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7927560" y="5165280"/>
                  <a:ext cx="411480" cy="1620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7985880" y="5190480"/>
                  <a:ext cx="403920" cy="166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8019720" y="5207400"/>
                  <a:ext cx="400680" cy="1684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8058960" y="5225760"/>
                  <a:ext cx="379440" cy="166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8098200" y="5240880"/>
                  <a:ext cx="366480" cy="166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8137080" y="5260680"/>
                  <a:ext cx="357480" cy="16524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002440" y="5324040"/>
                  <a:ext cx="208440" cy="10656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044560" y="5309280"/>
                  <a:ext cx="205200" cy="1018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133120" y="5275080"/>
                  <a:ext cx="199800" cy="9504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177760" y="5256720"/>
                  <a:ext cx="199440" cy="9504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224920" y="5240160"/>
                  <a:ext cx="193680" cy="946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266680" y="5223600"/>
                  <a:ext cx="189720" cy="9036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305920" y="5207040"/>
                  <a:ext cx="190800" cy="864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917120" y="5259960"/>
                  <a:ext cx="104040" cy="421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979400" y="5238720"/>
                  <a:ext cx="98640" cy="43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036280" y="5220720"/>
                  <a:ext cx="100080" cy="3996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092440" y="5200920"/>
                  <a:ext cx="100080" cy="385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152560" y="5181480"/>
                  <a:ext cx="92880" cy="385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217000" y="5160960"/>
                  <a:ext cx="90000" cy="360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439" name=""/>
          <p:cNvCxnSpPr>
            <a:stCxn id="361" idx="0"/>
            <a:endCxn id="329" idx="2"/>
          </p:cNvCxnSpPr>
          <p:nvPr/>
        </p:nvCxnSpPr>
        <p:spPr>
          <a:xfrm>
            <a:off x="1359000" y="2544840"/>
            <a:ext cx="846720" cy="1203840"/>
          </a:xfrm>
          <a:prstGeom prst="curvedConnector5">
            <a:avLst>
              <a:gd name="adj1" fmla="val 31858"/>
              <a:gd name="adj2" fmla="val 59497"/>
              <a:gd name="adj3" fmla="val 318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0" name=""/>
          <p:cNvCxnSpPr>
            <a:stCxn id="323" idx="2"/>
            <a:endCxn id="392" idx="0"/>
          </p:cNvCxnSpPr>
          <p:nvPr/>
        </p:nvCxnSpPr>
        <p:spPr>
          <a:xfrm flipH="1" rot="16200000">
            <a:off x="6726240" y="4802040"/>
            <a:ext cx="372240" cy="778320"/>
          </a:xfrm>
          <a:prstGeom prst="curved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1" name=""/>
          <p:cNvCxnSpPr>
            <a:stCxn id="328" idx="3"/>
            <a:endCxn id="330" idx="1"/>
          </p:cNvCxnSpPr>
          <p:nvPr/>
        </p:nvCxnSpPr>
        <p:spPr>
          <a:xfrm flipV="1">
            <a:off x="2509560" y="2509200"/>
            <a:ext cx="540360" cy="724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328" idx="3"/>
            <a:endCxn id="319" idx="0"/>
          </p:cNvCxnSpPr>
          <p:nvPr/>
        </p:nvCxnSpPr>
        <p:spPr>
          <a:xfrm>
            <a:off x="2509920" y="3233880"/>
            <a:ext cx="1069200" cy="2056320"/>
          </a:xfrm>
          <a:prstGeom prst="curvedConnector5">
            <a:avLst>
              <a:gd name="adj1" fmla="val 49915"/>
              <a:gd name="adj2" fmla="val 55086"/>
              <a:gd name="adj3" fmla="val 4991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175760" y="411480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91360" y="1413000"/>
            <a:ext cx="18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-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 be desig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stud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6" idx="2"/>
            <a:endCxn id="322" idx="1"/>
          </p:cNvCxnSpPr>
          <p:nvPr/>
        </p:nvCxnSpPr>
        <p:spPr>
          <a:xfrm rot="5400000">
            <a:off x="6032880" y="3977280"/>
            <a:ext cx="578520" cy="208800"/>
          </a:xfrm>
          <a:prstGeom prst="curvedConnector5">
            <a:avLst>
              <a:gd name="adj1" fmla="val 35118"/>
              <a:gd name="adj2" fmla="val 104835"/>
              <a:gd name="adj3" fmla="val 351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447" name=""/>
          <p:cNvCxnSpPr>
            <a:stCxn id="311" idx="0"/>
            <a:endCxn id="446" idx="1"/>
          </p:cNvCxnSpPr>
          <p:nvPr/>
        </p:nvCxnSpPr>
        <p:spPr>
          <a:xfrm flipH="1" rot="16200000">
            <a:off x="3540600" y="1168920"/>
            <a:ext cx="2270520" cy="2104200"/>
          </a:xfrm>
          <a:prstGeom prst="curvedConnector5">
            <a:avLst>
              <a:gd name="adj1" fmla="val -10069"/>
              <a:gd name="adj2" fmla="val 24965"/>
              <a:gd name="adj3" fmla="val -10069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448" name=""/>
          <p:cNvCxnSpPr>
            <a:stCxn id="305" idx="0"/>
            <a:endCxn id="446" idx="1"/>
          </p:cNvCxnSpPr>
          <p:nvPr/>
        </p:nvCxnSpPr>
        <p:spPr>
          <a:xfrm flipH="1" flipV="1" rot="5400000">
            <a:off x="4429440" y="4221360"/>
            <a:ext cx="2164680" cy="43236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449" name=""/>
          <p:cNvSpPr/>
          <p:nvPr/>
        </p:nvSpPr>
        <p:spPr>
          <a:xfrm>
            <a:off x="3875400" y="472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500280" y="4826160"/>
            <a:ext cx="406440" cy="171360"/>
            <a:chOff x="3500280" y="4826160"/>
            <a:chExt cx="406440" cy="171360"/>
          </a:xfrm>
        </p:grpSpPr>
        <p:sp>
          <p:nvSpPr>
            <p:cNvPr id="451" name=""/>
            <p:cNvSpPr/>
            <p:nvPr/>
          </p:nvSpPr>
          <p:spPr>
            <a:xfrm>
              <a:off x="3500280" y="4826160"/>
              <a:ext cx="406440" cy="171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573360" y="4876920"/>
              <a:ext cx="288720" cy="73080"/>
              <a:chOff x="3573360" y="4876920"/>
              <a:chExt cx="288720" cy="73080"/>
            </a:xfrm>
          </p:grpSpPr>
          <p:sp>
            <p:nvSpPr>
              <p:cNvPr id="453" name=""/>
              <p:cNvSpPr/>
              <p:nvPr/>
            </p:nvSpPr>
            <p:spPr>
              <a:xfrm>
                <a:off x="3573360" y="4876920"/>
                <a:ext cx="144000" cy="7308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17360" y="4876920"/>
                <a:ext cx="144720" cy="7308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5" name=""/>
          <p:cNvSpPr/>
          <p:nvPr/>
        </p:nvSpPr>
        <p:spPr>
          <a:xfrm>
            <a:off x="5178600" y="41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27600" y="2917800"/>
            <a:ext cx="1395360" cy="874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51" idx="3"/>
            <a:endCxn id="446" idx="1"/>
          </p:cNvCxnSpPr>
          <p:nvPr/>
        </p:nvCxnSpPr>
        <p:spPr>
          <a:xfrm flipV="1">
            <a:off x="3921120" y="3355560"/>
            <a:ext cx="1807200" cy="1556640"/>
          </a:xfrm>
          <a:prstGeom prst="curvedConnector5">
            <a:avLst>
              <a:gd name="adj1" fmla="val 49551"/>
              <a:gd name="adj2" fmla="val 49988"/>
              <a:gd name="adj3" fmla="val 4955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457" name=""/>
          <p:cNvSpPr/>
          <p:nvPr/>
        </p:nvSpPr>
        <p:spPr>
          <a:xfrm>
            <a:off x="4186080" y="752400"/>
            <a:ext cx="50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Bernhard Modern Roman"/>
              </a:rPr>
              <a:t>Alternative with analog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254400" y="-360"/>
            <a:ext cx="588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erimental Set-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212720" y="-360"/>
            <a:ext cx="49309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&amp;D subprojec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276200"/>
            <a:ext cx="7772400" cy="46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Vrijwillige bijdragen tot verbetering water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Verbeteren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Aanvulling en verbetering hydro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Ijking en parallel werking met 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Nieuwe sens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Capacitieve niveaumeting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Pitot debietmeter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Verbeterde actua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Pompsturing met variabele frequen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Communicatie protocol en microprogramm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Antwoorden langer dan 8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Bepalen en evt. Verhogen van ritme meti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2:16:56Z</dcterms:created>
  <dc:creator>J.Tiberghien</dc:creator>
  <dc:description/>
  <dc:language>en-US</dc:language>
  <cp:lastModifiedBy>Win XP</cp:lastModifiedBy>
  <dcterms:modified xsi:type="dcterms:W3CDTF">2008-02-12T12:53:21Z</dcterms:modified>
  <cp:revision>30</cp:revision>
  <dc:subject/>
  <dc:title>Werkcollege E</dc:title>
</cp:coreProperties>
</file>