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952-A5CC-423E-B752-BB6C91D1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8754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5DD-05A3-4658-990F-8630155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140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B2E-E734-4F0B-990A-C8B33FAB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340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320" y="14475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340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320" y="38754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856-6256-4A74-A728-A626C3DB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0F0-C7ED-4CA4-837B-7AD4C065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E1C-D995-4C5A-A90F-B94C699D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713-DA21-407C-AAE1-EB9E89BD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C9C-5AEF-4BC4-9638-0781271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E4B-5EB0-44E4-A22C-304C91D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EB9-8FD2-4023-8658-A8BD7E7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1400" y="38754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EBE-F066-4EC7-B5F1-99040A9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4475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754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CCC-34AC-4AC4-8265-26C9ADA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1C969E-E013-4933-8DBF-E7228EE7B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df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304920"/>
            <a:ext cx="8764560" cy="5945040"/>
          </a:xfrm>
          <a:custGeom>
            <a:avLst/>
            <a:gdLst/>
            <a:ahLst/>
            <a:rect l="l" t="t" r="r" b="b"/>
            <a:pathLst>
              <a:path w="5521" h="3745">
                <a:moveTo>
                  <a:pt x="557" y="3744"/>
                </a:moveTo>
                <a:lnTo>
                  <a:pt x="0" y="3744"/>
                </a:lnTo>
                <a:lnTo>
                  <a:pt x="0" y="0"/>
                </a:lnTo>
                <a:lnTo>
                  <a:pt x="5520" y="0"/>
                </a:lnTo>
                <a:lnTo>
                  <a:pt x="5520" y="3600"/>
                </a:lnTo>
                <a:lnTo>
                  <a:pt x="1519" y="3600"/>
                </a:lnTo>
              </a:path>
            </a:pathLst>
          </a:custGeom>
          <a:noFill/>
          <a:ln cap="rnd" w="12600">
            <a:solidFill>
              <a:srgbClr val="618ffd"/>
            </a:solidFill>
            <a:round/>
          </a:ln>
          <a:effectLst>
            <a:outerShdw dist="107932" dir="2700000" blurRad="0" rotWithShape="0">
              <a:srgbClr val="f35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61920" y="6156360"/>
            <a:ext cx="391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9dfd"/>
                </a:solidFill>
                <a:latin typeface="Arial"/>
              </a:rPr>
              <a:t>Communiceren, rapporteren, present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55520" y="643248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AD9D-4469-491B-B02B-3E2632ECF13F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434960" y="5802480"/>
          <a:ext cx="76860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4960" y="5802480"/>
                    <a:ext cx="768600" cy="768240"/>
                  </a:xfrm>
                  <a:prstGeom prst="rect">
                    <a:avLst/>
                  </a:prstGeom>
                  <a:ln w="12600">
                    <a:solidFill>
                      <a:srgbClr val="f35b1b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7000" y="1371600"/>
            <a:ext cx="85280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dfd"/>
                </a:solidFill>
                <a:latin typeface="Arial"/>
              </a:rPr>
              <a:t>Ingenieursvaardig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dfd"/>
                </a:solidFill>
                <a:latin typeface="Arial"/>
              </a:rPr>
              <a:t>Rapport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Formuleri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2680" y="1749600"/>
            <a:ext cx="70804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duidel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12680" y="2340000"/>
            <a:ext cx="7080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geen ingewikkelde z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12680" y="2911320"/>
            <a:ext cx="70804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vermijd: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lange zinnen (max. 10 à 20 woor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lange woorden   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b. studentengedragsevolu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eilijke woorden  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b. polychromograf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fkort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ubbele ontkenningen 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b. Ik denk niet dat het niet lineai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Formuleri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2680" y="1749600"/>
            <a:ext cx="70804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onc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12680" y="2492280"/>
            <a:ext cx="708048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gebruik: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pecifieke woorden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b. ijzer smelt bij een zeer hoge temperatuur  -  ijzer smelt bij een temperatuur van 1535 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elzeggende details   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b. een waterverbruik van 300 m</a:t>
            </a:r>
            <a:r>
              <a:rPr b="1" i="1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, 2x het jaar-waterverbruik van een gezin met 2 kind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beelden / beel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ijfers / tabellen / grafieken 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 zie ‘Computervaardigheden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Formuleri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2680" y="1444680"/>
            <a:ext cx="70804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dyna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12680" y="2149560"/>
            <a:ext cx="7899480" cy="28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ips: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ctief in plaats van passief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 recente evolut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ar mogelijk tegenwoordige tijd; geen verspringende t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n nietszeggende formuleringen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b. onnodig te zeggen da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perk: lijdende vorm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 er wordt gezegd )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, deelwoordstijl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 dit werkt motiverend )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, naamwoordstijl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 het uitleggen van een stel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Formuleri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12680" y="1444680"/>
            <a:ext cx="70804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varie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12680" y="2149560"/>
            <a:ext cx="70804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oordkeuze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 synoniem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insbouw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 type, leng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Formulering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2680" y="1444680"/>
            <a:ext cx="70804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2680" y="2149560"/>
            <a:ext cx="7080480" cy="20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oordkeu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amm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779dfd"/>
                </a:solidFill>
                <a:latin typeface="Arial"/>
              </a:rPr>
              <a:t>Enkele specifieke richtlijnen -</a:t>
            </a:r>
            <a:br>
              <a:rPr sz="2800"/>
            </a:br>
            <a:r>
              <a:rPr b="1" lang="fr-BE" sz="2800" spc="-1" strike="noStrike">
                <a:solidFill>
                  <a:srgbClr val="779dfd"/>
                </a:solidFill>
                <a:latin typeface="Arial"/>
              </a:rPr>
              <a:t>laboverslag</a:t>
            </a:r>
            <a:endParaRPr b="1" lang="en-US" sz="28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2680" y="1444680"/>
            <a:ext cx="75758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kop - romp - staart ’ altijd van toepassing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BE" sz="1800" spc="-1" strike="noStrike">
                <a:solidFill>
                  <a:srgbClr val="000000"/>
                </a:solidFill>
                <a:latin typeface="Arial"/>
              </a:rPr>
              <a:t>(zie transparant 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12680" y="1901880"/>
            <a:ext cx="7804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romp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BE" sz="1800" spc="-1" strike="noStrike">
                <a:solidFill>
                  <a:srgbClr val="000000"/>
                </a:solidFill>
                <a:latin typeface="Arial"/>
              </a:rPr>
              <a:t>( resultaten, interpreta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probleem bestudeerd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( meetopstellingen, hulpmiddelen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ergave van de resultaten + bespreking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( tabel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terpretatie van de gegevens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( grafi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Arial"/>
              </a:rPr>
              <a:t>( zie ‘Meten en experimenteren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12680" y="3959280"/>
            <a:ext cx="7080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beelden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BE" sz="1800" spc="-1" strike="noStrike">
                <a:solidFill>
                  <a:srgbClr val="000000"/>
                </a:solidFill>
                <a:latin typeface="Arial"/>
              </a:rPr>
              <a:t>( schema ’s, foto ’s, …)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BE" sz="16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wo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2680" y="4454640"/>
            <a:ext cx="70804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iedere ‘ figuur 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ummering + verklarende leg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35b1b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wijzing in de tek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779dfd"/>
                </a:solidFill>
                <a:latin typeface="Arial"/>
              </a:rPr>
              <a:t>Enkele specifieke richtlijnen -</a:t>
            </a:r>
            <a:br>
              <a:rPr sz="2800"/>
            </a:br>
            <a:r>
              <a:rPr b="1" lang="fr-BE" sz="2800" spc="-1" strike="noStrike">
                <a:solidFill>
                  <a:srgbClr val="779dfd"/>
                </a:solidFill>
                <a:latin typeface="Arial"/>
              </a:rPr>
              <a:t>populair-wetenschappelijke tekst</a:t>
            </a:r>
            <a:endParaRPr b="1" lang="en-US" sz="28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2680" y="2016000"/>
            <a:ext cx="75758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titel trekt de aanda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12680" y="2759040"/>
            <a:ext cx="78044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wervelend begin spoort aan tot le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anekdote, contrast, schokkende gegeven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12680" y="3597120"/>
            <a:ext cx="70804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lot bepaalt de in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amenvatting, sfeerbeeld, aanbeveling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2680" y="4454640"/>
            <a:ext cx="70804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kaderstukken houden hoofdtekst 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technische details, verklarende woordenlijst,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De boodschap is ....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60080" y="2933640"/>
            <a:ext cx="2621880" cy="487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 Black"/>
              </a:rPr>
              <a:t>Structur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7280" y="1390680"/>
            <a:ext cx="47725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leiding tot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lang, afbakening, doels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e van de c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rappor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Rapporteren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8520" y="1981080"/>
            <a:ext cx="63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ities en voorbeel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520" y="2838600"/>
            <a:ext cx="84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gemene richtlij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520" y="3753000"/>
            <a:ext cx="8440560" cy="12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kele specifieke richtlij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oor labovers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oor populair-wetenschappelijke tekst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9dfd"/>
                </a:solidFill>
                <a:latin typeface="Arial"/>
              </a:rPr>
              <a:t>Definities en voorbeelden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9440" y="1523880"/>
            <a:ext cx="63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pporteren = schriftelijk verslag uitb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9440" y="4152960"/>
            <a:ext cx="84405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pulair-wetenschapp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4693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zerspubliek bestaat uit </a:t>
            </a:r>
            <a:r>
              <a:rPr b="1" lang="en-GB" sz="2000" spc="-1" strike="noStrike">
                <a:solidFill>
                  <a:srgbClr val="f35b1b"/>
                </a:solidFill>
                <a:latin typeface="Arial"/>
              </a:rPr>
              <a:t>niet-vakgeno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4693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oorbeeld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persbericht, tekst in een populariserend tijdschr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9440" y="2247840"/>
            <a:ext cx="84405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4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tenschappelij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4693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zerspubliek bestaat uit </a:t>
            </a:r>
            <a:r>
              <a:rPr b="1" lang="en-GB" sz="2000" spc="-1" strike="noStrike">
                <a:solidFill>
                  <a:srgbClr val="f35b1b"/>
                </a:solidFill>
                <a:latin typeface="Arial"/>
              </a:rPr>
              <a:t>vakgeno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4693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oorbeeld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laboverslag, tekst van een eindwerk, artikel in een gespecialiseerd wetenschappelijk tijdschr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08880" y="3351960"/>
            <a:ext cx="2167920" cy="743400"/>
            <a:chOff x="3908880" y="3351960"/>
            <a:chExt cx="2167920" cy="743400"/>
          </a:xfrm>
        </p:grpSpPr>
        <p:grpSp>
          <p:nvGrpSpPr>
            <p:cNvPr id="58" name=""/>
            <p:cNvGrpSpPr/>
            <p:nvPr/>
          </p:nvGrpSpPr>
          <p:grpSpPr>
            <a:xfrm>
              <a:off x="4381560" y="3733560"/>
              <a:ext cx="1695240" cy="361800"/>
              <a:chOff x="4381560" y="3733560"/>
              <a:chExt cx="1695240" cy="361800"/>
            </a:xfrm>
          </p:grpSpPr>
          <p:sp>
            <p:nvSpPr>
              <p:cNvPr id="59" name=""/>
              <p:cNvSpPr/>
              <p:nvPr/>
            </p:nvSpPr>
            <p:spPr>
              <a:xfrm>
                <a:off x="4381560" y="3733560"/>
                <a:ext cx="1695240" cy="361800"/>
              </a:xfrm>
              <a:prstGeom prst="rect">
                <a:avLst/>
              </a:prstGeom>
              <a:solidFill>
                <a:srgbClr val="f9aa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10080" y="3766680"/>
                <a:ext cx="1463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jdens labo’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rot="18285000">
              <a:off x="4072680" y="3345840"/>
              <a:ext cx="267840" cy="539640"/>
            </a:xfrm>
            <a:prstGeom prst="upArrow">
              <a:avLst>
                <a:gd name="adj1" fmla="val 50000"/>
                <a:gd name="adj2" fmla="val 50370"/>
              </a:avLst>
            </a:prstGeom>
            <a:solidFill>
              <a:srgbClr val="f9a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137640" y="5027760"/>
            <a:ext cx="2167920" cy="744480"/>
            <a:chOff x="6137640" y="5027760"/>
            <a:chExt cx="2167920" cy="744480"/>
          </a:xfrm>
        </p:grpSpPr>
        <p:grpSp>
          <p:nvGrpSpPr>
            <p:cNvPr id="63" name=""/>
            <p:cNvGrpSpPr/>
            <p:nvPr/>
          </p:nvGrpSpPr>
          <p:grpSpPr>
            <a:xfrm>
              <a:off x="6610320" y="5410080"/>
              <a:ext cx="1695240" cy="362160"/>
              <a:chOff x="6610320" y="5410080"/>
              <a:chExt cx="1695240" cy="362160"/>
            </a:xfrm>
          </p:grpSpPr>
          <p:sp>
            <p:nvSpPr>
              <p:cNvPr id="64" name=""/>
              <p:cNvSpPr/>
              <p:nvPr/>
            </p:nvSpPr>
            <p:spPr>
              <a:xfrm>
                <a:off x="6610320" y="5410080"/>
                <a:ext cx="1695240" cy="362160"/>
              </a:xfrm>
              <a:prstGeom prst="rect">
                <a:avLst/>
              </a:prstGeom>
              <a:solidFill>
                <a:srgbClr val="f9aa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60840" y="5443560"/>
                <a:ext cx="419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i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rot="18285000">
              <a:off x="6301440" y="5021640"/>
              <a:ext cx="268200" cy="539640"/>
            </a:xfrm>
            <a:prstGeom prst="upArrow">
              <a:avLst>
                <a:gd name="adj1" fmla="val 50000"/>
                <a:gd name="adj2" fmla="val 50302"/>
              </a:avLst>
            </a:prstGeom>
            <a:solidFill>
              <a:srgbClr val="f9a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Algemene richtlijnen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2680" y="1749600"/>
            <a:ext cx="7080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ie is de lez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12680" y="2340000"/>
            <a:ext cx="7080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t is het doe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2680" y="2911320"/>
            <a:ext cx="7080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tructuur, opbouw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12680" y="3444840"/>
            <a:ext cx="7080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formulerin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Lezersprofiel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720" y="1577880"/>
            <a:ext cx="79574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opleid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BE" sz="2000" spc="-1" strike="noStrike">
                <a:solidFill>
                  <a:srgbClr val="000000"/>
                </a:solidFill>
                <a:latin typeface="Arial"/>
              </a:rPr>
              <a:t>wetenschappelijke woordenschat, abstractievermogen, ...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6880" y="2664000"/>
            <a:ext cx="6156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t weten ze over onderwerp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BE" sz="2000" spc="-1" strike="noStrike">
                <a:solidFill>
                  <a:srgbClr val="000000"/>
                </a:solidFill>
                <a:latin typeface="Arial"/>
              </a:rPr>
              <a:t>wat is hun mening, wat willen ze weten, 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55640" y="4495680"/>
            <a:ext cx="7696080" cy="647640"/>
            <a:chOff x="755640" y="4495680"/>
            <a:chExt cx="7696080" cy="647640"/>
          </a:xfrm>
        </p:grpSpPr>
        <p:grpSp>
          <p:nvGrpSpPr>
            <p:cNvPr id="76" name=""/>
            <p:cNvGrpSpPr/>
            <p:nvPr/>
          </p:nvGrpSpPr>
          <p:grpSpPr>
            <a:xfrm>
              <a:off x="810360" y="4532040"/>
              <a:ext cx="7574760" cy="475560"/>
              <a:chOff x="810360" y="4532040"/>
              <a:chExt cx="7574760" cy="475560"/>
            </a:xfrm>
          </p:grpSpPr>
          <p:sp>
            <p:nvSpPr>
              <p:cNvPr id="77" name=""/>
              <p:cNvSpPr/>
              <p:nvPr/>
            </p:nvSpPr>
            <p:spPr>
              <a:xfrm>
                <a:off x="810360" y="4532040"/>
                <a:ext cx="75747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BE" sz="2400" spc="-1" strike="noStrike">
                    <a:solidFill>
                      <a:srgbClr val="000000"/>
                    </a:solidFill>
                    <a:latin typeface="Arial"/>
                  </a:rPr>
                  <a:t>wetenschappelijk</a:t>
                </a:r>
                <a:r>
                  <a:rPr b="1" lang="fr-B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fr-BE" sz="2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fr-BE" sz="2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fr-BE" sz="2400" spc="-1" strike="noStrike">
                    <a:solidFill>
                      <a:srgbClr val="000000"/>
                    </a:solidFill>
                    <a:latin typeface="Arial"/>
                  </a:rPr>
                  <a:t>populair-wetenschappelijk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75160" y="4667040"/>
                <a:ext cx="690480" cy="276120"/>
              </a:xfrm>
              <a:prstGeom prst="leftRightArrow">
                <a:avLst>
                  <a:gd name="adj1" fmla="val 50000"/>
                  <a:gd name="adj2" fmla="val 49781"/>
                </a:avLst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755640" y="4495680"/>
              <a:ext cx="7696080" cy="647640"/>
            </a:xfrm>
            <a:prstGeom prst="rect">
              <a:avLst/>
            </a:prstGeom>
            <a:noFill/>
            <a:ln w="3816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Doel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9960" y="1577880"/>
            <a:ext cx="5877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t wil je berei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BE" sz="2000" spc="-1" strike="noStrike">
                <a:solidFill>
                  <a:srgbClr val="000000"/>
                </a:solidFill>
                <a:latin typeface="Arial"/>
              </a:rPr>
              <a:t>informeren, overtuigen, iets aanleren…?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60640" y="2664000"/>
            <a:ext cx="466524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wat moet de lezer onthoud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weten, kunnen, doe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95320" y="4495680"/>
            <a:ext cx="7696080" cy="648000"/>
            <a:chOff x="895320" y="4495680"/>
            <a:chExt cx="7696080" cy="648000"/>
          </a:xfrm>
        </p:grpSpPr>
        <p:sp>
          <p:nvSpPr>
            <p:cNvPr id="84" name=""/>
            <p:cNvSpPr/>
            <p:nvPr/>
          </p:nvSpPr>
          <p:spPr>
            <a:xfrm>
              <a:off x="950400" y="4532400"/>
              <a:ext cx="74898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BE" sz="2400" spc="-1" strike="noStrike">
                  <a:solidFill>
                    <a:srgbClr val="000000"/>
                  </a:solidFill>
                  <a:latin typeface="Arial"/>
                </a:rPr>
                <a:t>bepalend voor keuze van informatie, opbouw tek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5320" y="4495680"/>
              <a:ext cx="7696080" cy="648000"/>
            </a:xfrm>
            <a:prstGeom prst="rect">
              <a:avLst/>
            </a:prstGeom>
            <a:noFill/>
            <a:ln w="3816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Structuur, opbouw</a:t>
            </a:r>
            <a:endParaRPr b="1" lang="en-US" sz="3200" spc="-1" strike="noStrike">
              <a:solidFill>
                <a:srgbClr val="779dfd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95800" y="1523880"/>
            <a:ext cx="2222280" cy="666720"/>
            <a:chOff x="3295800" y="1523880"/>
            <a:chExt cx="2222280" cy="666720"/>
          </a:xfrm>
        </p:grpSpPr>
        <p:sp>
          <p:nvSpPr>
            <p:cNvPr id="88" name=""/>
            <p:cNvSpPr/>
            <p:nvPr/>
          </p:nvSpPr>
          <p:spPr>
            <a:xfrm>
              <a:off x="3295800" y="1523880"/>
              <a:ext cx="2222280" cy="666720"/>
            </a:xfrm>
            <a:prstGeom prst="rect">
              <a:avLst/>
            </a:prstGeom>
            <a:solidFill>
              <a:srgbClr val="ececec"/>
            </a:solidFill>
            <a:ln w="3816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10000" y="1620720"/>
              <a:ext cx="1791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BE" sz="2400" spc="-1" strike="noStrike">
                  <a:solidFill>
                    <a:srgbClr val="000000"/>
                  </a:solidFill>
                  <a:latin typeface="Arial"/>
                </a:rPr>
                <a:t>tekst = di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074680" y="2720880"/>
            <a:ext cx="5712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kop  -  romp  -  staart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7240" y="3506760"/>
            <a:ext cx="2816280" cy="1756080"/>
            <a:chOff x="687240" y="3506760"/>
            <a:chExt cx="2816280" cy="1756080"/>
          </a:xfrm>
        </p:grpSpPr>
        <p:sp>
          <p:nvSpPr>
            <p:cNvPr id="92" name=""/>
            <p:cNvSpPr/>
            <p:nvPr/>
          </p:nvSpPr>
          <p:spPr>
            <a:xfrm flipH="1">
              <a:off x="2933640" y="3506760"/>
              <a:ext cx="230040" cy="327240"/>
            </a:xfrm>
            <a:prstGeom prst="line">
              <a:avLst/>
            </a:prstGeom>
            <a:ln w="38160">
              <a:solidFill>
                <a:srgbClr val="f35b1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240" y="4073400"/>
              <a:ext cx="2816280" cy="11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00"/>
                  </a:solidFill>
                  <a:latin typeface="Arial"/>
                </a:rPr>
                <a:t>probleemstel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00"/>
                  </a:solidFill>
                  <a:latin typeface="Arial"/>
                </a:rPr>
                <a:t>doelstelling</a:t>
              </a:r>
              <a:r>
                <a:rPr b="1" lang="nl-NL" sz="20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049640" y="3505320"/>
            <a:ext cx="1463760" cy="964800"/>
            <a:chOff x="4049640" y="3505320"/>
            <a:chExt cx="1463760" cy="964800"/>
          </a:xfrm>
        </p:grpSpPr>
        <p:sp>
          <p:nvSpPr>
            <p:cNvPr id="95" name=""/>
            <p:cNvSpPr/>
            <p:nvPr/>
          </p:nvSpPr>
          <p:spPr>
            <a:xfrm>
              <a:off x="4419720" y="3505320"/>
              <a:ext cx="0" cy="399960"/>
            </a:xfrm>
            <a:prstGeom prst="line">
              <a:avLst/>
            </a:prstGeom>
            <a:ln w="38160">
              <a:solidFill>
                <a:srgbClr val="f35b1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49640" y="4073400"/>
              <a:ext cx="1463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00"/>
                  </a:solidFill>
                  <a:latin typeface="Arial"/>
                </a:rPr>
                <a:t>beto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307120" y="3506760"/>
            <a:ext cx="1463400" cy="963360"/>
            <a:chOff x="5307120" y="3506760"/>
            <a:chExt cx="1463400" cy="963360"/>
          </a:xfrm>
        </p:grpSpPr>
        <p:sp>
          <p:nvSpPr>
            <p:cNvPr id="98" name=""/>
            <p:cNvSpPr/>
            <p:nvPr/>
          </p:nvSpPr>
          <p:spPr>
            <a:xfrm>
              <a:off x="5734080" y="3506760"/>
              <a:ext cx="229680" cy="327600"/>
            </a:xfrm>
            <a:prstGeom prst="line">
              <a:avLst/>
            </a:prstGeom>
            <a:ln w="38160">
              <a:solidFill>
                <a:srgbClr val="f35b1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07120" y="4073400"/>
              <a:ext cx="1463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00"/>
                  </a:solidFill>
                  <a:latin typeface="Arial"/>
                </a:rPr>
                <a:t>conclus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177720" y="5612040"/>
            <a:ext cx="560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gelet: er bestaan andere structuren, hier niet behand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779dfd"/>
                </a:solidFill>
                <a:latin typeface="Arial"/>
              </a:rPr>
              <a:t>Kop-romp-staart</a:t>
            </a:r>
            <a:br>
              <a:rPr sz="3200"/>
            </a:br>
            <a:r>
              <a:rPr b="1" lang="fr-BE" sz="2400" spc="-1" strike="noStrike">
                <a:solidFill>
                  <a:srgbClr val="779dfd"/>
                </a:solidFill>
                <a:latin typeface="Arial"/>
              </a:rPr>
              <a:t> voorbeelden</a:t>
            </a:r>
            <a:endParaRPr b="1" lang="en-US" sz="2400" spc="-1" strike="noStrike">
              <a:solidFill>
                <a:srgbClr val="779dfd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4440" y="1905120"/>
            <a:ext cx="8096040" cy="3028680"/>
            <a:chOff x="514440" y="1905120"/>
            <a:chExt cx="8096040" cy="3028680"/>
          </a:xfrm>
        </p:grpSpPr>
        <p:sp>
          <p:nvSpPr>
            <p:cNvPr id="103" name=""/>
            <p:cNvSpPr/>
            <p:nvPr/>
          </p:nvSpPr>
          <p:spPr>
            <a:xfrm>
              <a:off x="514440" y="1905120"/>
              <a:ext cx="8096040" cy="3028680"/>
            </a:xfrm>
            <a:prstGeom prst="rect">
              <a:avLst/>
            </a:prstGeom>
            <a:solidFill>
              <a:srgbClr val="fbcab7"/>
            </a:solidFill>
            <a:ln w="2844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4400" y="1999080"/>
              <a:ext cx="7957440" cy="27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onderwerp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kop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romp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f35b1b"/>
                  </a:solidFill>
                  <a:latin typeface="Arial"/>
                </a:rPr>
                <a:t>sta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nderzoe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?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ultaten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 geleer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labo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arom?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pretatie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lusi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nderwer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gumentati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lusi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oorste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leem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4440" y="2587320"/>
              <a:ext cx="8096040" cy="0"/>
            </a:xfrm>
            <a:prstGeom prst="line">
              <a:avLst/>
            </a:prstGeom>
            <a:ln w="3816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4T16:04:11Z</dcterms:created>
  <dc:creator>annick</dc:creator>
  <dc:description/>
  <dc:language>en-US</dc:language>
  <cp:lastModifiedBy>annick hubin</cp:lastModifiedBy>
  <cp:lastPrinted>2001-08-28T12:55:52Z</cp:lastPrinted>
  <dcterms:modified xsi:type="dcterms:W3CDTF">2002-09-23T09:11:48Z</dcterms:modified>
  <cp:revision>213</cp:revision>
  <dc:subject/>
  <dc:title>EIS combined with SERS: a powerful tool to study adsorption phenomena</dc:title>
</cp:coreProperties>
</file>