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17E-04B5-4EF2-84D3-EAF04D38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63C-E838-4B54-9B3A-CCE5F264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140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644-04AD-4A04-B519-D9115153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3400" y="14475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7320" y="14475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3400" y="38754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7320" y="38754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D45-7B12-4068-8B17-508F3ECD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510-63D9-420F-951B-77755B18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B51-B502-4257-B1D4-74B5F5F4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AB6-62D6-4CF4-B1EC-06196907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BFA-BCFE-4CE6-A289-F70AF9FC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6D2-3472-4663-A46D-B24053A8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801-AE78-4CD4-93EB-F712BE69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140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5BB-B52D-451D-B57C-71B74AD5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7F2-40DB-4080-AA14-471BF1B1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A0D7C2-5A10-4BD0-9870-20AB5A916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304920"/>
            <a:ext cx="8764560" cy="5945040"/>
          </a:xfrm>
          <a:custGeom>
            <a:avLst/>
            <a:gdLst/>
            <a:ahLst/>
            <a:rect l="l" t="t" r="r" b="b"/>
            <a:pathLst>
              <a:path w="5521" h="3745">
                <a:moveTo>
                  <a:pt x="557" y="3744"/>
                </a:moveTo>
                <a:lnTo>
                  <a:pt x="0" y="3744"/>
                </a:lnTo>
                <a:lnTo>
                  <a:pt x="0" y="0"/>
                </a:lnTo>
                <a:lnTo>
                  <a:pt x="5520" y="0"/>
                </a:lnTo>
                <a:lnTo>
                  <a:pt x="5520" y="3600"/>
                </a:lnTo>
                <a:lnTo>
                  <a:pt x="1519" y="3600"/>
                </a:lnTo>
              </a:path>
            </a:pathLst>
          </a:custGeom>
          <a:noFill/>
          <a:ln cap="rnd" w="12600">
            <a:solidFill>
              <a:srgbClr val="618ffd"/>
            </a:solidFill>
            <a:round/>
          </a:ln>
          <a:effectLst>
            <a:outerShdw dist="107932" dir="2700000" blurRad="0" rotWithShape="0">
              <a:srgbClr val="f35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61920" y="6156360"/>
            <a:ext cx="391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Communiceren, rapporteren, present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55520" y="643248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E25F-6316-411C-98E8-B554BB91F477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1434960" y="5802480"/>
          <a:ext cx="768600" cy="76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4960" y="5802480"/>
                    <a:ext cx="768600" cy="768240"/>
                  </a:xfrm>
                  <a:prstGeom prst="rect">
                    <a:avLst/>
                  </a:prstGeom>
                  <a:ln w="12600">
                    <a:solidFill>
                      <a:srgbClr val="f35b1b"/>
                    </a:solidFill>
                    <a:miter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7000" y="1371600"/>
            <a:ext cx="85280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ngenieursvaardig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esen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Presentatie opbouw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6160" y="1523880"/>
            <a:ext cx="3705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bleemst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46160" y="2084400"/>
            <a:ext cx="4181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6160" y="2571840"/>
            <a:ext cx="4181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65800" y="1467000"/>
            <a:ext cx="2701800" cy="1238040"/>
            <a:chOff x="5365800" y="1467000"/>
            <a:chExt cx="2701800" cy="1238040"/>
          </a:xfrm>
        </p:grpSpPr>
        <p:sp>
          <p:nvSpPr>
            <p:cNvPr id="113" name=""/>
            <p:cNvSpPr/>
            <p:nvPr/>
          </p:nvSpPr>
          <p:spPr>
            <a:xfrm>
              <a:off x="5365800" y="1467000"/>
              <a:ext cx="1847880" cy="1238040"/>
            </a:xfrm>
            <a:prstGeom prst="wedgeEllipseCallout">
              <a:avLst>
                <a:gd name="adj1" fmla="val -46907"/>
                <a:gd name="adj2" fmla="val 59870"/>
              </a:avLst>
            </a:prstGeom>
            <a:solidFill>
              <a:srgbClr val="ffff8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19600" y="1866960"/>
              <a:ext cx="24480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e rote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046160" y="3238560"/>
            <a:ext cx="418140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92b1f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structuree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ar climax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46160" y="4476600"/>
            <a:ext cx="418140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54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sl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menva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 onthouden gegev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65800" y="3162240"/>
            <a:ext cx="1847880" cy="1238400"/>
            <a:chOff x="5365800" y="3162240"/>
            <a:chExt cx="1847880" cy="1238400"/>
          </a:xfrm>
        </p:grpSpPr>
        <p:sp>
          <p:nvSpPr>
            <p:cNvPr id="118" name=""/>
            <p:cNvSpPr/>
            <p:nvPr/>
          </p:nvSpPr>
          <p:spPr>
            <a:xfrm>
              <a:off x="5365800" y="3162240"/>
              <a:ext cx="1847880" cy="1238400"/>
            </a:xfrm>
            <a:prstGeom prst="wedgeEllipseCallout">
              <a:avLst>
                <a:gd name="adj1" fmla="val -46907"/>
                <a:gd name="adj2" fmla="val 59870"/>
              </a:avLst>
            </a:prstGeom>
            <a:solidFill>
              <a:srgbClr val="92b1f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10440" y="3314520"/>
              <a:ext cx="172368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genda herne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Technieken en hulpmiddel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1240" y="1523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oorbere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3840" y="213372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bliek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3840" y="266688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t bereiken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3840" y="327672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ofdpunten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3840" y="3905280"/>
            <a:ext cx="7191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eilijke punten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gument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3840" y="4476600"/>
            <a:ext cx="7191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eveel tijd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3840" y="5010120"/>
            <a:ext cx="7191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lke ondersteuningsmiddelen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Technieken en hulpmiddel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1240" y="1523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jdscontro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3840" y="238140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t ik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zegg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840" y="308628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3840" y="373392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OU  KU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259680" y="2081160"/>
            <a:ext cx="2212920" cy="22734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1809720" y="5010120"/>
            <a:ext cx="6496200" cy="609480"/>
            <a:chOff x="1809720" y="5010120"/>
            <a:chExt cx="6496200" cy="609480"/>
          </a:xfrm>
        </p:grpSpPr>
        <p:sp>
          <p:nvSpPr>
            <p:cNvPr id="137" name=""/>
            <p:cNvSpPr/>
            <p:nvPr/>
          </p:nvSpPr>
          <p:spPr>
            <a:xfrm>
              <a:off x="1809720" y="5010120"/>
              <a:ext cx="6496200" cy="609480"/>
            </a:xfrm>
            <a:prstGeom prst="rect">
              <a:avLst/>
            </a:prstGeom>
            <a:solidFill>
              <a:srgbClr val="3bd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96840" y="5124240"/>
              <a:ext cx="629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! vergt extra voorbereiding voor onervaren spreker 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Technieken en hulpmiddel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1240" y="1523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ogcontac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3840" y="217188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reek tegen perso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3840" y="287640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op zaal af in W-vor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3840" y="3524400"/>
            <a:ext cx="50007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wijg zoveel mogelijk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e bewe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ere handeling do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Technieken en hulpmiddel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1240" y="1523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dersteun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5680" y="217188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projecti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5680" y="287640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paranten - dia’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55680" y="352440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5680" y="4133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lip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55680" y="48196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38760" y="5067360"/>
            <a:ext cx="3524040" cy="609480"/>
            <a:chOff x="4838760" y="5067360"/>
            <a:chExt cx="3524040" cy="609480"/>
          </a:xfrm>
        </p:grpSpPr>
        <p:sp>
          <p:nvSpPr>
            <p:cNvPr id="154" name=""/>
            <p:cNvSpPr/>
            <p:nvPr/>
          </p:nvSpPr>
          <p:spPr>
            <a:xfrm>
              <a:off x="4838760" y="5067360"/>
              <a:ext cx="3524040" cy="609480"/>
            </a:xfrm>
            <a:prstGeom prst="rect">
              <a:avLst/>
            </a:prstGeom>
            <a:solidFill>
              <a:srgbClr val="3bd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15520" y="5181480"/>
              <a:ext cx="319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! Zorg dat je het beheerst 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Technieken en hulpmiddel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1240" y="1523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TT ( touch, turn, talk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3840" y="266688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ak scherm 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3840" y="3314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aai je om - kijk iemand 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3840" y="40384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r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562200" y="5010120"/>
            <a:ext cx="4952880" cy="609480"/>
            <a:chOff x="3562200" y="5010120"/>
            <a:chExt cx="4952880" cy="609480"/>
          </a:xfrm>
        </p:grpSpPr>
        <p:sp>
          <p:nvSpPr>
            <p:cNvPr id="163" name=""/>
            <p:cNvSpPr/>
            <p:nvPr/>
          </p:nvSpPr>
          <p:spPr>
            <a:xfrm>
              <a:off x="3562200" y="5010120"/>
              <a:ext cx="4952880" cy="609480"/>
            </a:xfrm>
            <a:prstGeom prst="rect">
              <a:avLst/>
            </a:prstGeom>
            <a:solidFill>
              <a:srgbClr val="3bd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77480" y="5124240"/>
              <a:ext cx="4524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! Zorg ervoor dat iedereen ‘kan zien’ 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Technieken en hulpmiddel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1240" y="1523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e aanduide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3840" y="2171880"/>
            <a:ext cx="500076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enne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envoudig, betrouw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iet voor hoge beeld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3840" y="3676680"/>
            <a:ext cx="500076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ser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ustig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atterij, zaalverlicht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543640" y="5067360"/>
            <a:ext cx="2705040" cy="609480"/>
            <a:chOff x="5543640" y="5067360"/>
            <a:chExt cx="2705040" cy="609480"/>
          </a:xfrm>
        </p:grpSpPr>
        <p:sp>
          <p:nvSpPr>
            <p:cNvPr id="171" name=""/>
            <p:cNvSpPr/>
            <p:nvPr/>
          </p:nvSpPr>
          <p:spPr>
            <a:xfrm>
              <a:off x="5543640" y="5067360"/>
              <a:ext cx="2705040" cy="609480"/>
            </a:xfrm>
            <a:prstGeom prst="rect">
              <a:avLst/>
            </a:prstGeom>
            <a:solidFill>
              <a:srgbClr val="3bd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02760" y="5181480"/>
              <a:ext cx="240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! Speel er niet mee 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Technieken en hulpmiddel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1240" y="1523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fieken bespre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3840" y="217188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3840" y="2724120"/>
            <a:ext cx="5000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literatuur / berekend / experiment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3840" y="356220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t staat op ass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3840" y="419112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3840" y="480060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lu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Technieken en hulpmiddel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1240" y="1523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1240" y="217188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e gewo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3840" y="2724120"/>
            <a:ext cx="500076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len met voorwe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nden in zij of broekz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3840" y="4114800"/>
            <a:ext cx="7610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nden en armen gebruiken voor niet-verbale expres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Technieken en hulpmiddel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1240" y="1523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chaams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1240" y="217188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on emot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3840" y="2724120"/>
            <a:ext cx="755316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ang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eest expressief : zelfzeker, verwonderd, teleurgesteld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3840" y="3733920"/>
            <a:ext cx="7610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pen voor publi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5680" y="4686480"/>
            <a:ext cx="7610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nden, b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let op voor uitingen van zenuwachtig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Inhoud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7280" y="1390680"/>
            <a:ext cx="47725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leiding tot de c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lang, afbakening, doelst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satie van de c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c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ppor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presen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Technieken en hulpmiddel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1240" y="1523880"/>
            <a:ext cx="5000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urf en zenuw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1240" y="2171880"/>
            <a:ext cx="500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es jezel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3840" y="2724120"/>
            <a:ext cx="7553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rtkloppingen’ vóór voordracht = norma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3840" y="3371760"/>
            <a:ext cx="7610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oede voorbereiding is goud w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55680" y="4000680"/>
            <a:ext cx="7610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kst niet uit hoofd 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ip: openingszin(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74760" y="4838760"/>
            <a:ext cx="7610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stpau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rinken, verplaatse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Ideale’ transparant</a:t>
            </a:r>
            <a:br>
              <a:rPr sz="3200"/>
            </a:b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inhoud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1240" y="1314360"/>
            <a:ext cx="370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enkel id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1240" y="1962000"/>
            <a:ext cx="4181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en doorlopende tek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1240" y="2685960"/>
            <a:ext cx="6315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/-  20 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1240" y="3390840"/>
            <a:ext cx="6315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lt;  10 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1240" y="4095720"/>
            <a:ext cx="6315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entueel tekening / schema / f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1240" y="4781520"/>
            <a:ext cx="63151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org voor leidra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a titel, voetnota, numm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Ideale’ transparant</a:t>
            </a:r>
            <a:br>
              <a:rPr sz="3200"/>
            </a:b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vorm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1240" y="1581120"/>
            <a:ext cx="370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uctuur = ‘bull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228760"/>
            <a:ext cx="4181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verdrijf niet met kl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1240" y="2952720"/>
            <a:ext cx="6315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verdrijf niet met lettergro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1240" y="3657600"/>
            <a:ext cx="6315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leine letters duidelijker dan hoofd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1240" y="4362480"/>
            <a:ext cx="6315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bruik schem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1240" y="5048280"/>
            <a:ext cx="6315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ermijd nutteloze verfraai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Ideale’ transparant</a:t>
            </a:r>
            <a:br>
              <a:rPr sz="3200"/>
            </a:b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gebruik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1240" y="2152800"/>
            <a:ext cx="70390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onderste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geen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doel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geen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weergave tek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1240" y="3124080"/>
            <a:ext cx="4181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schema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1240" y="3924360"/>
            <a:ext cx="80107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nelheid = ongeveer 4 minuten / transpa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geldt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voor korte voordracht (&lt; 10 m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703520"/>
            <a:ext cx="8324640" cy="31924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Samenvatting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33480" y="3429000"/>
            <a:ext cx="7182000" cy="17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57200" y="1886040"/>
            <a:ext cx="2420640" cy="1542960"/>
            <a:chOff x="457200" y="1886040"/>
            <a:chExt cx="2420640" cy="1542960"/>
          </a:xfrm>
        </p:grpSpPr>
        <p:grpSp>
          <p:nvGrpSpPr>
            <p:cNvPr id="227" name=""/>
            <p:cNvGrpSpPr/>
            <p:nvPr/>
          </p:nvGrpSpPr>
          <p:grpSpPr>
            <a:xfrm>
              <a:off x="457200" y="1886040"/>
              <a:ext cx="2420640" cy="1219320"/>
              <a:chOff x="457200" y="1886040"/>
              <a:chExt cx="2420640" cy="1219320"/>
            </a:xfrm>
          </p:grpSpPr>
          <p:sp>
            <p:nvSpPr>
              <p:cNvPr id="228" name=""/>
              <p:cNvSpPr/>
              <p:nvPr/>
            </p:nvSpPr>
            <p:spPr>
              <a:xfrm>
                <a:off x="457200" y="1886040"/>
                <a:ext cx="2420640" cy="1219320"/>
              </a:xfrm>
              <a:prstGeom prst="rect">
                <a:avLst/>
              </a:prstGeom>
              <a:solidFill>
                <a:srgbClr val="ffff85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3920" y="2190600"/>
                <a:ext cx="219744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mpact: houding, stem, gebar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598760" y="3114720"/>
              <a:ext cx="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1960" y="3114720"/>
              <a:ext cx="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409920" y="1886040"/>
            <a:ext cx="2421000" cy="1542960"/>
            <a:chOff x="3409920" y="1886040"/>
            <a:chExt cx="2421000" cy="1542960"/>
          </a:xfrm>
        </p:grpSpPr>
        <p:grpSp>
          <p:nvGrpSpPr>
            <p:cNvPr id="233" name=""/>
            <p:cNvGrpSpPr/>
            <p:nvPr/>
          </p:nvGrpSpPr>
          <p:grpSpPr>
            <a:xfrm>
              <a:off x="3409920" y="1886040"/>
              <a:ext cx="2421000" cy="1219320"/>
              <a:chOff x="3409920" y="1886040"/>
              <a:chExt cx="242100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3409920" y="1886040"/>
                <a:ext cx="2421000" cy="1219320"/>
              </a:xfrm>
              <a:prstGeom prst="rect">
                <a:avLst/>
              </a:prstGeom>
              <a:solidFill>
                <a:srgbClr val="ffff85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17920" y="2190600"/>
                <a:ext cx="21970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rplaatsingen: zwijg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4570560" y="3114720"/>
              <a:ext cx="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03760" y="3114720"/>
              <a:ext cx="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305400" y="1886040"/>
            <a:ext cx="2421000" cy="1542960"/>
            <a:chOff x="6305400" y="1886040"/>
            <a:chExt cx="2421000" cy="1542960"/>
          </a:xfrm>
        </p:grpSpPr>
        <p:grpSp>
          <p:nvGrpSpPr>
            <p:cNvPr id="239" name=""/>
            <p:cNvGrpSpPr/>
            <p:nvPr/>
          </p:nvGrpSpPr>
          <p:grpSpPr>
            <a:xfrm>
              <a:off x="6305400" y="1886040"/>
              <a:ext cx="2421000" cy="1218960"/>
              <a:chOff x="6305400" y="1886040"/>
              <a:chExt cx="2421000" cy="1218960"/>
            </a:xfrm>
          </p:grpSpPr>
          <p:sp>
            <p:nvSpPr>
              <p:cNvPr id="240" name=""/>
              <p:cNvSpPr/>
              <p:nvPr/>
            </p:nvSpPr>
            <p:spPr>
              <a:xfrm>
                <a:off x="6305400" y="1886040"/>
                <a:ext cx="2421000" cy="1218960"/>
              </a:xfrm>
              <a:prstGeom prst="rect">
                <a:avLst/>
              </a:prstGeom>
              <a:solidFill>
                <a:srgbClr val="ffff85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94320" y="2312280"/>
                <a:ext cx="2197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ogconta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7342200" y="3114720"/>
              <a:ext cx="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5400" y="3114720"/>
              <a:ext cx="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76200" y="3600360"/>
            <a:ext cx="2421000" cy="1542600"/>
            <a:chOff x="1276200" y="3600360"/>
            <a:chExt cx="2421000" cy="1542600"/>
          </a:xfrm>
        </p:grpSpPr>
        <p:grpSp>
          <p:nvGrpSpPr>
            <p:cNvPr id="245" name=""/>
            <p:cNvGrpSpPr/>
            <p:nvPr/>
          </p:nvGrpSpPr>
          <p:grpSpPr>
            <a:xfrm>
              <a:off x="1276200" y="3924000"/>
              <a:ext cx="2421000" cy="1218960"/>
              <a:chOff x="1276200" y="3924000"/>
              <a:chExt cx="2421000" cy="1218960"/>
            </a:xfrm>
          </p:grpSpPr>
          <p:sp>
            <p:nvSpPr>
              <p:cNvPr id="246" name=""/>
              <p:cNvSpPr/>
              <p:nvPr/>
            </p:nvSpPr>
            <p:spPr>
              <a:xfrm>
                <a:off x="1276200" y="3924000"/>
                <a:ext cx="2421000" cy="1218960"/>
              </a:xfrm>
              <a:prstGeom prst="rect">
                <a:avLst/>
              </a:prstGeom>
              <a:solidFill>
                <a:srgbClr val="ffff85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84200" y="4228560"/>
                <a:ext cx="21970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tructuur: moet, ma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89320" y="3600360"/>
              <a:ext cx="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2520" y="3600360"/>
              <a:ext cx="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4120" y="3600360"/>
            <a:ext cx="2420640" cy="1542600"/>
            <a:chOff x="5334120" y="3600360"/>
            <a:chExt cx="2420640" cy="1542600"/>
          </a:xfrm>
        </p:grpSpPr>
        <p:grpSp>
          <p:nvGrpSpPr>
            <p:cNvPr id="251" name=""/>
            <p:cNvGrpSpPr/>
            <p:nvPr/>
          </p:nvGrpSpPr>
          <p:grpSpPr>
            <a:xfrm>
              <a:off x="5334120" y="3924000"/>
              <a:ext cx="2420640" cy="1218960"/>
              <a:chOff x="5334120" y="3924000"/>
              <a:chExt cx="2420640" cy="1218960"/>
            </a:xfrm>
          </p:grpSpPr>
          <p:sp>
            <p:nvSpPr>
              <p:cNvPr id="252" name=""/>
              <p:cNvSpPr/>
              <p:nvPr/>
            </p:nvSpPr>
            <p:spPr>
              <a:xfrm>
                <a:off x="5334120" y="3924000"/>
                <a:ext cx="2420640" cy="1218960"/>
              </a:xfrm>
              <a:prstGeom prst="rect">
                <a:avLst/>
              </a:prstGeom>
              <a:solidFill>
                <a:srgbClr val="ffff85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60840" y="4167720"/>
                <a:ext cx="21974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isuele steun: TT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494400" y="3600360"/>
              <a:ext cx="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7960" y="3600360"/>
              <a:ext cx="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3520" y="1703520"/>
            <a:ext cx="8324640" cy="3192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483160" y="3498840"/>
            <a:ext cx="1955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00"/>
                </a:solidFill>
                <a:latin typeface="Arial"/>
              </a:rPr>
              <a:t>Vrage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00"/>
                </a:solidFill>
                <a:latin typeface="Arial"/>
              </a:rPr>
              <a:t>Presenter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Inhoud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7280" y="1104840"/>
            <a:ext cx="477252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leiding tot de c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lang, afbakening, doelst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satie van de c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c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ppor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cumen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8f800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ef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47920" y="806400"/>
            <a:ext cx="2900160" cy="4199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160880" y="3765600"/>
            <a:ext cx="43704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k voor de aandacht en suc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3800" y="2513160"/>
            <a:ext cx="3564000" cy="136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Presentere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9440" y="1428840"/>
            <a:ext cx="635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t is een presentati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9440" y="2971800"/>
            <a:ext cx="84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9440" y="3619440"/>
            <a:ext cx="84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eken en hulp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9440" y="2209680"/>
            <a:ext cx="84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9440" y="4400640"/>
            <a:ext cx="84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deale transpa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9440" y="5143680"/>
            <a:ext cx="84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menva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33800" y="455760"/>
            <a:ext cx="3564000" cy="1366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Wat is een presentatie?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1240" y="2286000"/>
            <a:ext cx="76294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en presentatie is het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ultie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iddel om een idee met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vertuiging, belangstelling en toewijd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p een publiek over te brengen, gebruik makend va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echnieken en hulpmiddel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ie als doel hebben om dit ide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estructuree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e verduidelijken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95520" y="112680"/>
            <a:ext cx="3564000" cy="1366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Een presentatie is een vlucht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1240" y="1562040"/>
            <a:ext cx="370548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stijgen = in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eer veel ri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andacht publiek wi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1240" y="2819520"/>
            <a:ext cx="418176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lucht = inh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inig ri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matische pil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andacht publiek 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1240" y="4495680"/>
            <a:ext cx="631512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nding = besl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el ri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langrijkste punten samenva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933800" y="455760"/>
            <a:ext cx="3564000" cy="1366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Vluchtplan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440" y="1562040"/>
            <a:ext cx="37051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andachtig blij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3440" y="2286000"/>
            <a:ext cx="8029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lpmiddelen en technieken aanw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3440" y="3029040"/>
            <a:ext cx="722916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dersteuningsmiddelen goed af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projec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para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3440" y="4762440"/>
            <a:ext cx="8029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Presentatie impact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1240" y="1523880"/>
            <a:ext cx="37054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erb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or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1240" y="2381400"/>
            <a:ext cx="418176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oc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raagwijd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mbuig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il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1240" y="3981600"/>
            <a:ext cx="631512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et-verb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u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weg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res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838760" y="2881440"/>
            <a:ext cx="2357280" cy="2357280"/>
            <a:chOff x="4838760" y="2881440"/>
            <a:chExt cx="2357280" cy="2357280"/>
          </a:xfrm>
        </p:grpSpPr>
        <p:grpSp>
          <p:nvGrpSpPr>
            <p:cNvPr id="77" name=""/>
            <p:cNvGrpSpPr/>
            <p:nvPr/>
          </p:nvGrpSpPr>
          <p:grpSpPr>
            <a:xfrm>
              <a:off x="4838760" y="2881440"/>
              <a:ext cx="2357280" cy="2357280"/>
              <a:chOff x="4838760" y="2881440"/>
              <a:chExt cx="2357280" cy="23572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4838760" y="2881440"/>
                <a:ext cx="2357280" cy="2357280"/>
                <a:chOff x="4838760" y="2881440"/>
                <a:chExt cx="2357280" cy="2357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838760" y="2881440"/>
                  <a:ext cx="2357280" cy="2357280"/>
                </a:xfrm>
                <a:prstGeom prst="ellipse">
                  <a:avLst/>
                </a:prstGeom>
                <a:solidFill>
                  <a:srgbClr val="fdfdfd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92760" y="2936880"/>
                  <a:ext cx="2247840" cy="2247840"/>
                </a:xfrm>
                <a:prstGeom prst="ellipse">
                  <a:avLst/>
                </a:prstGeom>
                <a:solidFill>
                  <a:srgbClr val="618ffd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>
                <a:off x="5389560" y="3430440"/>
                <a:ext cx="1257120" cy="1257480"/>
              </a:xfrm>
              <a:prstGeom prst="ellipse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5740200" y="3784680"/>
              <a:ext cx="552600" cy="552240"/>
            </a:xfrm>
            <a:prstGeom prst="ellipse">
              <a:avLst/>
            </a:prstGeom>
            <a:solidFill>
              <a:srgbClr val="fc012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023520" y="2565000"/>
            <a:ext cx="2286000" cy="1513440"/>
            <a:chOff x="6023520" y="2565000"/>
            <a:chExt cx="2286000" cy="1513440"/>
          </a:xfrm>
        </p:grpSpPr>
        <p:sp>
          <p:nvSpPr>
            <p:cNvPr id="84" name=""/>
            <p:cNvSpPr/>
            <p:nvPr/>
          </p:nvSpPr>
          <p:spPr>
            <a:xfrm flipH="1">
              <a:off x="6023520" y="3583800"/>
              <a:ext cx="791640" cy="49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9624200">
              <a:off x="6924960" y="2930040"/>
              <a:ext cx="142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orden: 7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14320" y="3473640"/>
            <a:ext cx="2237040" cy="1481400"/>
            <a:chOff x="6214320" y="3473640"/>
            <a:chExt cx="2237040" cy="1481400"/>
          </a:xfrm>
        </p:grpSpPr>
        <p:sp>
          <p:nvSpPr>
            <p:cNvPr id="87" name=""/>
            <p:cNvSpPr/>
            <p:nvPr/>
          </p:nvSpPr>
          <p:spPr>
            <a:xfrm flipH="1">
              <a:off x="6214320" y="4460400"/>
              <a:ext cx="791640" cy="49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9624200">
              <a:off x="7174440" y="3806640"/>
              <a:ext cx="130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caal: 3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852160" y="1413360"/>
            <a:ext cx="2591280" cy="1712880"/>
            <a:chOff x="5852160" y="1413360"/>
            <a:chExt cx="2591280" cy="1712880"/>
          </a:xfrm>
        </p:grpSpPr>
        <p:sp>
          <p:nvSpPr>
            <p:cNvPr id="90" name=""/>
            <p:cNvSpPr/>
            <p:nvPr/>
          </p:nvSpPr>
          <p:spPr>
            <a:xfrm flipH="1">
              <a:off x="5852160" y="2631600"/>
              <a:ext cx="791640" cy="49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9624200">
              <a:off x="6641280" y="1901520"/>
              <a:ext cx="187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et-verbaal: 5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Presentatie impact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0280" y="1824120"/>
            <a:ext cx="6846840" cy="439200"/>
            <a:chOff x="800280" y="1824120"/>
            <a:chExt cx="6846840" cy="439200"/>
          </a:xfrm>
        </p:grpSpPr>
        <p:sp>
          <p:nvSpPr>
            <p:cNvPr id="95" name=""/>
            <p:cNvSpPr/>
            <p:nvPr/>
          </p:nvSpPr>
          <p:spPr>
            <a:xfrm>
              <a:off x="1731960" y="1824120"/>
              <a:ext cx="59151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elangstelling en overtuig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1866960"/>
              <a:ext cx="709560" cy="352440"/>
            </a:xfrm>
            <a:prstGeom prst="rightArrow">
              <a:avLst>
                <a:gd name="adj1" fmla="val 50000"/>
                <a:gd name="adj2" fmla="val 50332"/>
              </a:avLst>
            </a:prstGeom>
            <a:solidFill>
              <a:srgbClr val="fafd00"/>
            </a:solidFill>
            <a:ln w="0">
              <a:noFill/>
            </a:ln>
            <a:effectLst>
              <a:outerShdw dist="17819" dir="2700000" blurRad="0" rotWithShape="0">
                <a:srgbClr val="9597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800280" y="2990880"/>
            <a:ext cx="5113080" cy="439200"/>
            <a:chOff x="800280" y="2990880"/>
            <a:chExt cx="5113080" cy="439200"/>
          </a:xfrm>
        </p:grpSpPr>
        <p:sp>
          <p:nvSpPr>
            <p:cNvPr id="98" name=""/>
            <p:cNvSpPr/>
            <p:nvPr/>
          </p:nvSpPr>
          <p:spPr>
            <a:xfrm>
              <a:off x="1731960" y="2990880"/>
              <a:ext cx="41814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oewijding en oprechthe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280" y="3033720"/>
              <a:ext cx="709560" cy="352440"/>
            </a:xfrm>
            <a:prstGeom prst="rightArrow">
              <a:avLst>
                <a:gd name="adj1" fmla="val 50000"/>
                <a:gd name="adj2" fmla="val 50332"/>
              </a:avLst>
            </a:prstGeom>
            <a:solidFill>
              <a:srgbClr val="fafd00"/>
            </a:solidFill>
            <a:ln w="0">
              <a:noFill/>
            </a:ln>
            <a:effectLst>
              <a:outerShdw dist="17819" dir="2700000" blurRad="0" rotWithShape="0">
                <a:srgbClr val="9597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800280" y="4005360"/>
            <a:ext cx="7246800" cy="439200"/>
            <a:chOff x="800280" y="4005360"/>
            <a:chExt cx="7246800" cy="439200"/>
          </a:xfrm>
        </p:grpSpPr>
        <p:sp>
          <p:nvSpPr>
            <p:cNvPr id="101" name=""/>
            <p:cNvSpPr/>
            <p:nvPr/>
          </p:nvSpPr>
          <p:spPr>
            <a:xfrm>
              <a:off x="1731960" y="4005360"/>
              <a:ext cx="63151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eloofwaardighe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280" y="4048200"/>
              <a:ext cx="709560" cy="352440"/>
            </a:xfrm>
            <a:prstGeom prst="rightArrow">
              <a:avLst>
                <a:gd name="adj1" fmla="val 50000"/>
                <a:gd name="adj2" fmla="val 50332"/>
              </a:avLst>
            </a:prstGeom>
            <a:solidFill>
              <a:srgbClr val="fafd00"/>
            </a:solidFill>
            <a:ln w="0">
              <a:noFill/>
            </a:ln>
            <a:effectLst>
              <a:outerShdw dist="17819" dir="2700000" blurRad="0" rotWithShape="0">
                <a:srgbClr val="9597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dfd7"/>
            </a:gs>
            <a:gs pos="100000">
              <a:srgbClr val="1b66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10320" y="390600"/>
            <a:ext cx="1995480" cy="765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8f800"/>
                </a:solidFill>
                <a:latin typeface="Arial"/>
              </a:rPr>
              <a:t>Presentatie opbouw</a:t>
            </a:r>
            <a:endParaRPr b="1" lang="en-US" sz="3200" spc="-1" strike="noStrike">
              <a:solidFill>
                <a:srgbClr val="f8f8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1240" y="1523880"/>
            <a:ext cx="37054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t 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e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zeg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at ik z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e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1240" y="3448080"/>
            <a:ext cx="41817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buClr>
                <a:srgbClr val="f8f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t z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grij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t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4T16:04:11Z</dcterms:created>
  <dc:creator>annick</dc:creator>
  <dc:description/>
  <dc:language>en-US</dc:language>
  <cp:lastModifiedBy>annick hubin</cp:lastModifiedBy>
  <cp:lastPrinted>2001-08-28T12:55:52Z</cp:lastPrinted>
  <dcterms:modified xsi:type="dcterms:W3CDTF">2002-09-30T07:15:43Z</dcterms:modified>
  <cp:revision>226</cp:revision>
  <dc:subject/>
  <dc:title>EIS combined with SERS: a powerful tool to study adsorption phenomena</dc:title>
</cp:coreProperties>
</file>