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26D-B85F-4B0F-81CE-E333F713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3C7-6A7D-4DC3-99B0-FB12342D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140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EC1-00E1-459A-8458-F352010A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340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32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340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32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440-3719-4561-B416-CB6D12E3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7C3-8657-4E42-A422-9B48452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62A-CFE5-410F-B8B9-BEDF82D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42B-FBC8-48BF-BA14-CC812505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264-3DC7-4511-993F-53094B6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D0E-DBD0-462D-9808-39717F1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9E5-7D38-4F5D-85F4-00127D29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140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6B4-C3B9-45B0-BC83-F973A19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1F7-BE89-4FC4-80BB-18C040B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09258B-414C-42C8-9FCC-6B6CC67C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df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304920"/>
            <a:ext cx="8764560" cy="5945040"/>
          </a:xfrm>
          <a:custGeom>
            <a:avLst/>
            <a:gdLst/>
            <a:ahLst/>
            <a:rect l="l" t="t" r="r" b="b"/>
            <a:pathLst>
              <a:path w="5521" h="3745">
                <a:moveTo>
                  <a:pt x="557" y="3744"/>
                </a:moveTo>
                <a:lnTo>
                  <a:pt x="0" y="3744"/>
                </a:lnTo>
                <a:lnTo>
                  <a:pt x="0" y="0"/>
                </a:lnTo>
                <a:lnTo>
                  <a:pt x="5520" y="0"/>
                </a:lnTo>
                <a:lnTo>
                  <a:pt x="5520" y="3600"/>
                </a:lnTo>
                <a:lnTo>
                  <a:pt x="1519" y="3600"/>
                </a:lnTo>
              </a:path>
            </a:pathLst>
          </a:custGeom>
          <a:noFill/>
          <a:ln cap="rnd" w="12600">
            <a:solidFill>
              <a:srgbClr val="618ffd"/>
            </a:solidFill>
            <a:round/>
          </a:ln>
          <a:effectLst>
            <a:outerShdw dist="107932" dir="2700000" blurRad="0" rotWithShape="0">
              <a:srgbClr val="f35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61920" y="6156360"/>
            <a:ext cx="391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9dfd"/>
                </a:solidFill>
                <a:latin typeface="Arial"/>
              </a:rPr>
              <a:t>Communiceren, rapporteren, present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55520" y="643248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B35-27FA-4E96-8653-CF9856DCB36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434960" y="5802480"/>
          <a:ext cx="76860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4960" y="5802480"/>
                    <a:ext cx="768600" cy="768240"/>
                  </a:xfrm>
                  <a:prstGeom prst="rect">
                    <a:avLst/>
                  </a:prstGeom>
                  <a:ln w="12600">
                    <a:solidFill>
                      <a:srgbClr val="f35b1b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7000" y="1371600"/>
            <a:ext cx="85280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dfd"/>
                </a:solidFill>
                <a:latin typeface="Arial"/>
              </a:rPr>
              <a:t>Ingenieursvaar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dfd"/>
                </a:solidFill>
                <a:latin typeface="Arial"/>
              </a:rPr>
              <a:t>Communiceren, rapporteren, present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137040"/>
            <a:ext cx="81342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ick  Hu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eit Toegepaste Wetenschappen, Opleiding Scheikunde/Materiaal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kgroep Metallurgie, Elektrochemie, Materialenken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leiding tot de cursus - afbaken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70080" y="1542960"/>
            <a:ext cx="635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aspecten van </a:t>
            </a:r>
            <a:r>
              <a:rPr b="1" lang="en-GB" sz="2400" spc="-1" strike="noStrike">
                <a:solidFill>
                  <a:srgbClr val="f46932"/>
                </a:solidFill>
                <a:latin typeface="Arial"/>
              </a:rPr>
              <a:t>‘zich uitdrukke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8520" y="2438280"/>
            <a:ext cx="6353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sprek, nota, persbericht, publiciteit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8520" y="3257640"/>
            <a:ext cx="844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ppor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sultaten van laboproef, van een project, verslag van een studiereis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8520" y="4095720"/>
            <a:ext cx="844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ndeling examen, voordracht, toespraak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9440" y="4896000"/>
            <a:ext cx="844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ch docum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formatie verzamelen voor bovensta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leiding tot de cursus - doelstell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1504800"/>
            <a:ext cx="30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helpen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9440" y="1981080"/>
            <a:ext cx="63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ren examens te structureren om vlotter te s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440" y="261000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is leggen voor het uitdrukken van ideeë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440" y="320040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ren spreken voor publ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9440" y="377208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kenkoorts te overwi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360" y="4457880"/>
            <a:ext cx="30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met behulp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9440" y="5029200"/>
            <a:ext cx="7496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eken om te communiceren, rapporteren, presenteren, zich te docum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leiding tot de cursus - organisatie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9440" y="1695600"/>
            <a:ext cx="63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u hoor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9440" y="268596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u ( = 4 x 4u ) oef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440" y="375300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n van een rapport, geven van een presentatie van enkele m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4896000"/>
            <a:ext cx="551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verdergezet in volgende ja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9440" y="5334120"/>
            <a:ext cx="749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verslagen, werkcolleges, eindwerk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1257480"/>
            <a:ext cx="30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dit j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4120" y="2025720"/>
            <a:ext cx="522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communiceren, rapporteren, presenteren: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86000" y="3092400"/>
            <a:ext cx="5702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communiceren, rapporteren, presenteren: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(documenteren: 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2240" y="4159080"/>
            <a:ext cx="570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779dfd"/>
                </a:solidFill>
                <a:latin typeface="Arial"/>
              </a:rPr>
              <a:t>JULLI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abab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78680" y="1123920"/>
            <a:ext cx="221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Black"/>
              </a:rPr>
              <a:t>Take it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3040" y="2505240"/>
            <a:ext cx="408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 Black"/>
              </a:rPr>
              <a:t>Not for me, but for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7040" y="3905280"/>
            <a:ext cx="740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 Black"/>
              </a:rPr>
              <a:t>Sell yourself, and you sell the mo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400200" y="1670040"/>
            <a:ext cx="182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618ffd"/>
                </a:solidFill>
                <a:latin typeface="Arial"/>
              </a:rPr>
              <a:t>Vrag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38760" y="3517920"/>
            <a:ext cx="2818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46932"/>
                </a:solidFill>
                <a:latin typeface="Arial"/>
              </a:rPr>
              <a:t>Antwoorde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Wie ben ik?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47880" y="2324160"/>
            <a:ext cx="6594840" cy="2000160"/>
            <a:chOff x="1847880" y="2324160"/>
            <a:chExt cx="6594840" cy="2000160"/>
          </a:xfrm>
        </p:grpSpPr>
        <p:sp>
          <p:nvSpPr>
            <p:cNvPr id="50" name=""/>
            <p:cNvSpPr/>
            <p:nvPr/>
          </p:nvSpPr>
          <p:spPr>
            <a:xfrm>
              <a:off x="1847880" y="2324160"/>
              <a:ext cx="5448240" cy="200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41200" y="2476440"/>
              <a:ext cx="640152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UB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r.sch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UB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r.me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UB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r.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UB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f.dr.ir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Opleidingsonderdeel Ingenieursvaardigheden I</a:t>
            </a:r>
            <a:br>
              <a:rPr sz="3200"/>
            </a:b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(1</a:t>
            </a:r>
            <a:r>
              <a:rPr b="1" lang="en-GB" sz="3200" spc="-1" strike="noStrike" baseline="30000">
                <a:solidFill>
                  <a:srgbClr val="779dfd"/>
                </a:solidFill>
                <a:latin typeface="Arial"/>
              </a:rPr>
              <a:t>ste</a:t>
            </a: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 semester)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83320" y="2395080"/>
            <a:ext cx="897408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skundige techniek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. Caenepee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utervaardighed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. Tiberghi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0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en en experimenter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.Vanheerze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Communiceren, rapporteren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 Hub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4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 studiepu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Opleidingsonderdeel Ingenieursvaardigheden II</a:t>
            </a:r>
            <a:br>
              <a:rPr sz="3200"/>
            </a:b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(2</a:t>
            </a:r>
            <a:r>
              <a:rPr b="1" lang="en-GB" sz="3200" spc="-1" strike="noStrike" baseline="30000">
                <a:solidFill>
                  <a:srgbClr val="779dfd"/>
                </a:solidFill>
                <a:latin typeface="Arial"/>
              </a:rPr>
              <a:t>de</a:t>
            </a: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 semester)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82320" y="2801160"/>
            <a:ext cx="9487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emisch experimenter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. Bieseman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/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. Caenepee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sch tekenen met de compu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. Koo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studiepu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houd van de cursus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7280" y="1390680"/>
            <a:ext cx="47725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leiding tot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ang, afbakening, doel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e van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ppor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houd van deze les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8200" y="1352520"/>
            <a:ext cx="477252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35b1b"/>
                </a:solidFill>
                <a:latin typeface="Arial"/>
              </a:rPr>
              <a:t>inleiding tot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5b1b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35b1b"/>
                </a:solidFill>
                <a:latin typeface="Arial"/>
              </a:rPr>
              <a:t>belang, afbakening, doel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organisatie van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communic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46932"/>
                </a:solidFill>
                <a:latin typeface="Arial"/>
              </a:rPr>
              <a:t>rappor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19191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19191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leiding tot de cursus - bela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2160" y="1352520"/>
            <a:ext cx="2086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ls ingen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76000" y="1962000"/>
            <a:ext cx="5487120" cy="2256480"/>
            <a:chOff x="1476000" y="1962000"/>
            <a:chExt cx="5487120" cy="2256480"/>
          </a:xfrm>
        </p:grpSpPr>
        <p:sp>
          <p:nvSpPr>
            <p:cNvPr id="63" name=""/>
            <p:cNvSpPr/>
            <p:nvPr/>
          </p:nvSpPr>
          <p:spPr>
            <a:xfrm>
              <a:off x="1476000" y="1962000"/>
              <a:ext cx="5487120" cy="22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elgische industrie nadruk op tertiaire s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elangrij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zich uitdruk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67120" y="2381400"/>
              <a:ext cx="381240" cy="766440"/>
            </a:xfrm>
            <a:prstGeom prst="downArrow">
              <a:avLst>
                <a:gd name="adj1" fmla="val 50000"/>
                <a:gd name="adj2" fmla="val 50260"/>
              </a:avLst>
            </a:prstGeom>
            <a:solidFill>
              <a:srgbClr val="f46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144240" y="4000680"/>
            <a:ext cx="21495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deeën ‘verkope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selijk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Q versus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leiding tot de cursus - bela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2160" y="1352520"/>
            <a:ext cx="2810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ls ingenieurs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975400" y="1962000"/>
            <a:ext cx="2743920" cy="2256480"/>
            <a:chOff x="2975400" y="1962000"/>
            <a:chExt cx="2743920" cy="2256480"/>
          </a:xfrm>
        </p:grpSpPr>
        <p:sp>
          <p:nvSpPr>
            <p:cNvPr id="69" name=""/>
            <p:cNvSpPr/>
            <p:nvPr/>
          </p:nvSpPr>
          <p:spPr>
            <a:xfrm>
              <a:off x="2975400" y="1962000"/>
              <a:ext cx="2743920" cy="22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ploma ha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elangrij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zich uitdruk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65040" y="2381400"/>
              <a:ext cx="408600" cy="766440"/>
            </a:xfrm>
            <a:prstGeom prst="downArrow">
              <a:avLst>
                <a:gd name="adj1" fmla="val 50000"/>
                <a:gd name="adj2" fmla="val 46894"/>
              </a:avLst>
            </a:prstGeom>
            <a:solidFill>
              <a:srgbClr val="f46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480040" y="4057560"/>
            <a:ext cx="3734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spraken mak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antonen dat cursus gekend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leiding tot de cursus - bela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2160" y="1352520"/>
            <a:ext cx="6353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an ingenieursstudent naar ingen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50080" y="1962000"/>
            <a:ext cx="2743920" cy="2256480"/>
            <a:chOff x="3250080" y="1962000"/>
            <a:chExt cx="2743920" cy="2256480"/>
          </a:xfrm>
        </p:grpSpPr>
        <p:sp>
          <p:nvSpPr>
            <p:cNvPr id="75" name=""/>
            <p:cNvSpPr/>
            <p:nvPr/>
          </p:nvSpPr>
          <p:spPr>
            <a:xfrm>
              <a:off x="3250080" y="1962000"/>
              <a:ext cx="2743920" cy="22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ollicite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elangrij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zich uitdruk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29280" y="2381400"/>
              <a:ext cx="408600" cy="766440"/>
            </a:xfrm>
            <a:prstGeom prst="downArrow">
              <a:avLst>
                <a:gd name="adj1" fmla="val 50000"/>
                <a:gd name="adj2" fmla="val 46894"/>
              </a:avLst>
            </a:prstGeom>
            <a:solidFill>
              <a:srgbClr val="f46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46120" y="4514760"/>
            <a:ext cx="6353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tuigen dat je de geschikte kandidaat b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4T16:04:11Z</dcterms:created>
  <dc:creator>annick</dc:creator>
  <dc:description/>
  <dc:language>en-US</dc:language>
  <cp:lastModifiedBy>annick hubin</cp:lastModifiedBy>
  <cp:lastPrinted>2001-08-28T12:55:52Z</cp:lastPrinted>
  <dcterms:modified xsi:type="dcterms:W3CDTF">2002-09-23T07:57:54Z</dcterms:modified>
  <cp:revision>192</cp:revision>
  <dc:subject/>
  <dc:title>EIS combined with SERS: a powerful tool to study adsorption phenomena</dc:title>
</cp:coreProperties>
</file>