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665-B33F-4EE7-B90C-1BF03996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F50-B6E0-4EF3-B103-A3D39A5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D51-389E-4EFB-AAF8-43087999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29D-1647-469A-AD6D-BD550D0D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AEA-154B-4635-B4B5-96389CB6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5C7-527D-4A1B-9661-4965E201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9D9-0461-463A-BF27-FC26422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5D5-CFA5-4EFB-A027-EF01DD2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EF7-A30E-4C6C-BF3B-9F331EF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D5A-B081-4C4E-BB13-E1D06AA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214-8E2E-4E7C-B47E-49EB18C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69C-7F97-4292-8610-FF04D8E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38C-1F53-4BC9-8CA7-DBA81E237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 vs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268280"/>
            <a:ext cx="3672000" cy="548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Sho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 PI = 3.1415926535897932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PointRc =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,y :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eed 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gle 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 a,b : PointR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.x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.y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.speed := 12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.angle := PI/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.x :=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.y := 1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.speed := 5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.angle := 3*PI/4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how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1268280"/>
            <a:ext cx="4321080" cy="542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,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e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w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in(String args[]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a,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speed = 12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angle = Math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/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x =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y = 1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speed = 5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angle = 3*Math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 /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s Priv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1557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,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g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peed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ee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wSpeed &gt; spee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println("we gaan sneller!"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newSpe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Spe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2133720"/>
            <a:ext cx="64944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2133720"/>
            <a:ext cx="64944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68280"/>
            <a:ext cx="6265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,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e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,y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eed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l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x =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y =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speed = spe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angle = ang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tSpeed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Speed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newSpeed &gt; speed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println("we gaan snelle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newSpe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1341360"/>
            <a:ext cx="3745080" cy="2225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w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in(String args[]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a,b,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0, 0, 12.5, 0.5*Math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100, 150, 5.0, 0.75*Math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nt(200, 4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1125360"/>
            <a:ext cx="18734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ertu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1486080"/>
            <a:ext cx="18734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2565360"/>
            <a:ext cx="1584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2925720"/>
            <a:ext cx="1584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g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565360"/>
            <a:ext cx="17272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achtw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2925720"/>
            <a:ext cx="17272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le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14414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le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25720"/>
            <a:ext cx="14414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8080"/>
            <a:ext cx="1584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078440"/>
            <a:ext cx="1584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1413000"/>
            <a:ext cx="345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ng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reed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ssagi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legg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ist goeder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rachtwag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legger oplegg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uitOpleggerAan(Oplegger o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legger = 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erwijderOplegger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legger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042920" y="2133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124000" y="2133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27280" y="2133360"/>
            <a:ext cx="1657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2764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268280"/>
            <a:ext cx="3059280" cy="2651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g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g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g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82920" y="1235160"/>
            <a:ext cx="5761080" cy="5635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rachtwag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oertuig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legger opleg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uitOpleggerAan(Oplegger o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legger =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rwijderOplegge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legger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g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plegger =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leng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lengte()+oplegger.leng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plegger =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breed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th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breedte(),oplegger.breed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89000"/>
            <a:ext cx="53276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lWachtrij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&lt;Voertuig&gt; rij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rayList&lt;Voertuig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 = 2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reedtefactor = 1.2 , lengtefactor = 1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boole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oegtoe(Voertuig v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v.breedte() * breedtefactor &gt; breed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println("deze rij is te smal voor dit voertuig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j.add(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rwijder(Voertuig v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j.remove(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gteRij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=0; i&lt;rij.size();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ertuig v = rij.get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 += v.lengte() * lengtefa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7:31:33Z</dcterms:created>
  <dc:creator>joris</dc:creator>
  <dc:description/>
  <dc:language>en-US</dc:language>
  <cp:lastModifiedBy>joris</cp:lastModifiedBy>
  <dcterms:modified xsi:type="dcterms:W3CDTF">2007-10-02T10:57:37Z</dcterms:modified>
  <cp:revision>20</cp:revision>
  <dc:subject/>
  <dc:title>Slide 1</dc:title>
</cp:coreProperties>
</file>