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D524-8AB1-46A7-860F-9890F6763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35D2-25AD-44DE-82CA-DC09F36D4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9925-6CBD-477B-821A-11F540263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8A7D-B717-4A0B-81AB-C2A0C82C2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F2DA-941B-468A-808A-64B618E48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749D-3AFE-4421-91AB-C45EEE0E7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6D6-1B32-40C4-8AAC-340C03AA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291C-6D2A-4C34-85C7-D8C12200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F7EA-BBAB-44A5-AB2E-140311AE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876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08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876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08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B24-3AA2-4AA5-9BD7-F7B18EC1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400" y="838080"/>
            <a:ext cx="73152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F8BD-ABDA-44C8-9151-EABE3AF7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876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608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876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608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B4D-EDEE-4D28-A9D0-0FCA64A0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4B1-8D5E-46FD-8E7E-FCF8275C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0CE-A3FD-47F3-8E77-65A97A3C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838080"/>
            <a:ext cx="73152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31C-49AB-44DD-A2FC-C3DBDC7F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645-505A-4217-93CA-49B4C8E1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FAF-3876-402D-9352-DB6D7663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EA1-A0EB-4951-A7A4-0D3789E5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"/>
          <p:cNvGrpSpPr/>
          <p:nvPr/>
        </p:nvGrpSpPr>
        <p:grpSpPr>
          <a:xfrm>
            <a:off x="0" y="-1440"/>
            <a:ext cx="9144000" cy="6858000"/>
            <a:chOff x="0" y="-1440"/>
            <a:chExt cx="9144000" cy="6858000"/>
          </a:xfrm>
        </p:grpSpPr>
        <p:sp>
          <p:nvSpPr>
            <p:cNvPr id="1" name="Rectangle 6"/>
            <p:cNvSpPr/>
            <p:nvPr/>
          </p:nvSpPr>
          <p:spPr>
            <a:xfrm>
              <a:off x="0" y="-1440"/>
              <a:ext cx="9144000" cy="6858000"/>
            </a:xfrm>
            <a:prstGeom prst="rect">
              <a:avLst/>
            </a:prstGeom>
            <a:solidFill>
              <a:srgbClr val="442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2" name="Rectangle 7"/>
            <p:cNvGrpSpPr/>
            <p:nvPr/>
          </p:nvGrpSpPr>
          <p:grpSpPr>
            <a:xfrm>
              <a:off x="444960" y="408600"/>
              <a:ext cx="8254080" cy="5968080"/>
              <a:chOff x="444960" y="408600"/>
              <a:chExt cx="8254080" cy="5968080"/>
            </a:xfrm>
          </p:grpSpPr>
          <p:pic>
            <p:nvPicPr>
              <p:cNvPr id="3" name="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44960" y="408600"/>
                <a:ext cx="8254080" cy="59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456840" y="418320"/>
                <a:ext cx="8229960" cy="59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5" name="Rectangle 8"/>
            <p:cNvSpPr/>
            <p:nvPr/>
          </p:nvSpPr>
          <p:spPr>
            <a:xfrm>
              <a:off x="761760" y="723960"/>
              <a:ext cx="7620120" cy="5334120"/>
            </a:xfrm>
            <a:prstGeom prst="rect">
              <a:avLst/>
            </a:prstGeom>
            <a:gradFill rotWithShape="0">
              <a:gsLst>
                <a:gs pos="0">
                  <a:srgbClr val="c2d2ad"/>
                </a:gs>
                <a:gs pos="50000">
                  <a:srgbClr val="edf1e8"/>
                </a:gs>
                <a:gs pos="100000">
                  <a:srgbClr val="c2d2ad"/>
                </a:gs>
              </a:gsLst>
              <a:lin ang="2700000"/>
            </a:gradFill>
            <a:ln cap="sq" w="76320">
              <a:solidFill>
                <a:srgbClr val="ffffff"/>
              </a:solidFill>
              <a:miter/>
            </a:ln>
            <a:effectLst>
              <a:outerShdw dist="50911" dir="81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4421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A56E-523F-4BFD-9107-856D0978E1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9"/>
          <p:cNvGrpSpPr/>
          <p:nvPr/>
        </p:nvGrpSpPr>
        <p:grpSpPr>
          <a:xfrm>
            <a:off x="0" y="-1440"/>
            <a:ext cx="9144000" cy="6858000"/>
            <a:chOff x="0" y="-1440"/>
            <a:chExt cx="9144000" cy="6858000"/>
          </a:xfrm>
        </p:grpSpPr>
        <p:sp>
          <p:nvSpPr>
            <p:cNvPr id="48" name="Rectangle 6"/>
            <p:cNvSpPr/>
            <p:nvPr/>
          </p:nvSpPr>
          <p:spPr>
            <a:xfrm>
              <a:off x="0" y="-1440"/>
              <a:ext cx="9144000" cy="6858000"/>
            </a:xfrm>
            <a:prstGeom prst="rect">
              <a:avLst/>
            </a:prstGeom>
            <a:solidFill>
              <a:srgbClr val="442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9" name="Rectangle 7"/>
            <p:cNvGrpSpPr/>
            <p:nvPr/>
          </p:nvGrpSpPr>
          <p:grpSpPr>
            <a:xfrm>
              <a:off x="444960" y="408600"/>
              <a:ext cx="8254080" cy="5968080"/>
              <a:chOff x="444960" y="408600"/>
              <a:chExt cx="8254080" cy="5968080"/>
            </a:xfrm>
          </p:grpSpPr>
          <p:pic>
            <p:nvPicPr>
              <p:cNvPr id="50" name="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44960" y="408600"/>
                <a:ext cx="8254080" cy="59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456840" y="418320"/>
                <a:ext cx="8229960" cy="59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52" name="Rectangle 8"/>
            <p:cNvSpPr/>
            <p:nvPr/>
          </p:nvSpPr>
          <p:spPr>
            <a:xfrm>
              <a:off x="761760" y="723960"/>
              <a:ext cx="7620120" cy="5334120"/>
            </a:xfrm>
            <a:prstGeom prst="rect">
              <a:avLst/>
            </a:prstGeom>
            <a:gradFill rotWithShape="0">
              <a:gsLst>
                <a:gs pos="0">
                  <a:srgbClr val="c2d2ad"/>
                </a:gs>
                <a:gs pos="50000">
                  <a:srgbClr val="edf1e8"/>
                </a:gs>
                <a:gs pos="100000">
                  <a:srgbClr val="c2d2ad"/>
                </a:gs>
              </a:gsLst>
              <a:lin ang="2700000"/>
            </a:gradFill>
            <a:ln cap="sq" w="76320">
              <a:solidFill>
                <a:srgbClr val="ffffff"/>
              </a:solidFill>
              <a:miter/>
            </a:ln>
            <a:effectLst>
              <a:outerShdw dist="50911" dir="81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Straight Connector 17"/>
          <p:cNvSpPr/>
          <p:nvPr/>
        </p:nvSpPr>
        <p:spPr>
          <a:xfrm>
            <a:off x="2705040" y="5638680"/>
            <a:ext cx="3733920" cy="1800"/>
          </a:xfrm>
          <a:prstGeom prst="line">
            <a:avLst/>
          </a:prstGeom>
          <a:ln cap="rnd" w="648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4421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vub_schild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170028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315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wordt hierbij toegekend aan: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4737240"/>
            <a:ext cx="7315200" cy="20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Corbel"/>
              </a:rPr>
              <a:t>wegens bijzondere verdiensten met het project:</a:t>
            </a:r>
            <a:endParaRPr b="0" lang="en-US" sz="9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00000" y="4869000"/>
            <a:ext cx="73152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rbel"/>
              </a:rPr>
              <a:t>Trolls vs Snakes</a:t>
            </a:r>
            <a:endParaRPr b="0" lang="en-US" sz="18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rbel"/>
              </a:rPr>
              <a:t>Oorkonde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4" name="Text Placeholder 7"/>
          <p:cNvSpPr/>
          <p:nvPr/>
        </p:nvSpPr>
        <p:spPr>
          <a:xfrm>
            <a:off x="900000" y="2781360"/>
            <a:ext cx="731520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ries Peuman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Anders Delien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Maik Van der Auwera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5" name="Picture 8" descr="VUB_logo"/>
          <p:cNvPicPr/>
          <p:nvPr/>
        </p:nvPicPr>
        <p:blipFill>
          <a:blip r:embed="rId2"/>
          <a:stretch/>
        </p:blipFill>
        <p:spPr>
          <a:xfrm>
            <a:off x="826920" y="765000"/>
            <a:ext cx="3167280" cy="638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900000" y="1773360"/>
            <a:ext cx="73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Bradley Hand ITC"/>
              </a:rPr>
              <a:t>Most Complete Game of 2011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5364000" y="765000"/>
            <a:ext cx="2953080" cy="863280"/>
            <a:chOff x="5364000" y="765000"/>
            <a:chExt cx="2953080" cy="863280"/>
          </a:xfrm>
        </p:grpSpPr>
        <p:pic>
          <p:nvPicPr>
            <p:cNvPr id="108" name="Picture 12" descr=""/>
            <p:cNvPicPr/>
            <p:nvPr/>
          </p:nvPicPr>
          <p:blipFill>
            <a:blip r:embed="rId3"/>
            <a:stretch/>
          </p:blipFill>
          <p:spPr>
            <a:xfrm>
              <a:off x="7413480" y="869400"/>
              <a:ext cx="7844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3" descr="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295308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Text Placeholder 5"/>
          <p:cNvSpPr/>
          <p:nvPr/>
        </p:nvSpPr>
        <p:spPr>
          <a:xfrm>
            <a:off x="900000" y="5311800"/>
            <a:ext cx="73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Toegekend: juni 2011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Door het Modula-2 Team: Wesley &amp; Isabe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vub_schild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170028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315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wordt hierbij toegekend aan: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4737240"/>
            <a:ext cx="7315200" cy="20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Corbel"/>
              </a:rPr>
              <a:t>wegens bijzondere verdiensten met het project:</a:t>
            </a:r>
            <a:endParaRPr b="0" lang="en-US" sz="9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00000" y="4869000"/>
            <a:ext cx="73152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rbel"/>
              </a:rPr>
              <a:t>Mappy - TibiSpecial</a:t>
            </a:r>
            <a:endParaRPr b="0" lang="en-US" sz="18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rbel"/>
              </a:rPr>
              <a:t>Oorkonde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6" name="Text Placeholder 7"/>
          <p:cNvSpPr/>
          <p:nvPr/>
        </p:nvSpPr>
        <p:spPr>
          <a:xfrm>
            <a:off x="900000" y="2781360"/>
            <a:ext cx="731520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ram vanden Berghe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Johan Nguye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Kurt Homa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7" name="Picture 8" descr="VUB_logo"/>
          <p:cNvPicPr/>
          <p:nvPr/>
        </p:nvPicPr>
        <p:blipFill>
          <a:blip r:embed="rId2"/>
          <a:stretch/>
        </p:blipFill>
        <p:spPr>
          <a:xfrm>
            <a:off x="826920" y="765000"/>
            <a:ext cx="3167280" cy="6382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900000" y="177336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Bradley Hand ITC"/>
              </a:rPr>
              <a:t>Best Arcade Game of 2011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19" name="Group 11"/>
          <p:cNvGrpSpPr/>
          <p:nvPr/>
        </p:nvGrpSpPr>
        <p:grpSpPr>
          <a:xfrm>
            <a:off x="5364000" y="765000"/>
            <a:ext cx="2953080" cy="863280"/>
            <a:chOff x="5364000" y="765000"/>
            <a:chExt cx="2953080" cy="863280"/>
          </a:xfrm>
        </p:grpSpPr>
        <p:pic>
          <p:nvPicPr>
            <p:cNvPr id="120" name="Picture 12" descr=""/>
            <p:cNvPicPr/>
            <p:nvPr/>
          </p:nvPicPr>
          <p:blipFill>
            <a:blip r:embed="rId3"/>
            <a:stretch/>
          </p:blipFill>
          <p:spPr>
            <a:xfrm>
              <a:off x="7413480" y="869400"/>
              <a:ext cx="7844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3" descr="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295308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Text Placeholder 5"/>
          <p:cNvSpPr/>
          <p:nvPr/>
        </p:nvSpPr>
        <p:spPr>
          <a:xfrm>
            <a:off x="900000" y="5311800"/>
            <a:ext cx="73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Toegekend: juni 2011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Door het Modula-2 Team: Wesley &amp; Isabe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" descr="vub_schild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170028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315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wordt hierbij toegekend aan: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4737240"/>
            <a:ext cx="7315200" cy="20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Corbel"/>
              </a:rPr>
              <a:t>wegens bijzondere verdiensten  met het project:</a:t>
            </a:r>
            <a:endParaRPr b="0" lang="en-US" sz="9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00000" y="4869000"/>
            <a:ext cx="73152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rbel"/>
              </a:rPr>
              <a:t>Bond vs Alien</a:t>
            </a:r>
            <a:endParaRPr b="0" lang="en-US" sz="18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rbel"/>
              </a:rPr>
              <a:t>Oorkonde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8" name="Text Placeholder 7"/>
          <p:cNvSpPr/>
          <p:nvPr/>
        </p:nvSpPr>
        <p:spPr>
          <a:xfrm>
            <a:off x="900000" y="2781360"/>
            <a:ext cx="731520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Gert Berckman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Tom Christiaen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9" name="Picture 8" descr="VUB_logo"/>
          <p:cNvPicPr/>
          <p:nvPr/>
        </p:nvPicPr>
        <p:blipFill>
          <a:blip r:embed="rId2"/>
          <a:stretch/>
        </p:blipFill>
        <p:spPr>
          <a:xfrm>
            <a:off x="826920" y="765000"/>
            <a:ext cx="3167280" cy="638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900000" y="177336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2884"/>
                </a:solidFill>
                <a:latin typeface="Bradley Hand ITC"/>
              </a:rPr>
              <a:t>Best Game Featuring 007 of 2011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5364000" y="765000"/>
            <a:ext cx="2953080" cy="863280"/>
            <a:chOff x="5364000" y="765000"/>
            <a:chExt cx="2953080" cy="863280"/>
          </a:xfrm>
        </p:grpSpPr>
        <p:pic>
          <p:nvPicPr>
            <p:cNvPr id="132" name="Picture 12" descr=""/>
            <p:cNvPicPr/>
            <p:nvPr/>
          </p:nvPicPr>
          <p:blipFill>
            <a:blip r:embed="rId3"/>
            <a:stretch/>
          </p:blipFill>
          <p:spPr>
            <a:xfrm>
              <a:off x="7413480" y="869400"/>
              <a:ext cx="7844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3" descr="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295308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Placeholder 5"/>
          <p:cNvSpPr/>
          <p:nvPr/>
        </p:nvSpPr>
        <p:spPr>
          <a:xfrm>
            <a:off x="900000" y="5311800"/>
            <a:ext cx="73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Toegekend: juni 2011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Door het Modula-2 Team: Wesley &amp; Isabe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vub_schild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170028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315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wordt hierbij toegekend aan: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00000" y="4737240"/>
            <a:ext cx="7315200" cy="20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Corbel"/>
              </a:rPr>
              <a:t>wegens bijzondere verdiensten met het project:</a:t>
            </a:r>
            <a:endParaRPr b="0" lang="en-US" sz="9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900000" y="4869000"/>
            <a:ext cx="73152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rbel"/>
              </a:rPr>
              <a:t>Pearl Harbor</a:t>
            </a:r>
            <a:endParaRPr b="0" lang="en-US" sz="18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rbel"/>
              </a:rPr>
              <a:t>Oorkonde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40" name="Text Placeholder 7"/>
          <p:cNvSpPr/>
          <p:nvPr/>
        </p:nvSpPr>
        <p:spPr>
          <a:xfrm>
            <a:off x="900000" y="2781360"/>
            <a:ext cx="731520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Gregory Longé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Robin Govaert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Jan Van der Perr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1" name="Picture 8" descr="VUB_logo"/>
          <p:cNvPicPr/>
          <p:nvPr/>
        </p:nvPicPr>
        <p:blipFill>
          <a:blip r:embed="rId2"/>
          <a:stretch/>
        </p:blipFill>
        <p:spPr>
          <a:xfrm>
            <a:off x="826920" y="765000"/>
            <a:ext cx="3167280" cy="638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900000" y="1773360"/>
            <a:ext cx="73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Bradley Hand ITC"/>
              </a:rPr>
              <a:t>Best Flight Simulator of 2011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43" name="Group 11"/>
          <p:cNvGrpSpPr/>
          <p:nvPr/>
        </p:nvGrpSpPr>
        <p:grpSpPr>
          <a:xfrm>
            <a:off x="5364000" y="765000"/>
            <a:ext cx="2953080" cy="863280"/>
            <a:chOff x="5364000" y="765000"/>
            <a:chExt cx="2953080" cy="863280"/>
          </a:xfrm>
        </p:grpSpPr>
        <p:pic>
          <p:nvPicPr>
            <p:cNvPr id="144" name="Picture 12" descr=""/>
            <p:cNvPicPr/>
            <p:nvPr/>
          </p:nvPicPr>
          <p:blipFill>
            <a:blip r:embed="rId3"/>
            <a:stretch/>
          </p:blipFill>
          <p:spPr>
            <a:xfrm>
              <a:off x="7413480" y="869400"/>
              <a:ext cx="7844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3" descr="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295308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Text Placeholder 5"/>
          <p:cNvSpPr/>
          <p:nvPr/>
        </p:nvSpPr>
        <p:spPr>
          <a:xfrm>
            <a:off x="900000" y="5311800"/>
            <a:ext cx="73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Toegekend: juni 2011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Door het Modula-2 Team: Wesley &amp; Isabe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0" descr="vub_schild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170028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315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wordt hierbij toegekend aan:</a:t>
            </a:r>
            <a:endParaRPr b="0" lang="en-US" sz="1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4737240"/>
            <a:ext cx="7315200" cy="20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Corbel"/>
              </a:rPr>
              <a:t>wegens bijzondere verdiensten met het project:</a:t>
            </a:r>
            <a:endParaRPr b="0" lang="en-US" sz="9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00000" y="4869000"/>
            <a:ext cx="73152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rbel"/>
              </a:rPr>
              <a:t>Bart’s Quest</a:t>
            </a:r>
            <a:endParaRPr b="0" lang="en-US" sz="18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rbel"/>
              </a:rPr>
              <a:t>Oorkonde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52" name="Text Placeholder 7"/>
          <p:cNvSpPr/>
          <p:nvPr/>
        </p:nvSpPr>
        <p:spPr>
          <a:xfrm>
            <a:off x="900000" y="2781360"/>
            <a:ext cx="731520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Eline Maeckelbergh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Elien Haube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Elien O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53" name="Picture 8" descr="VUB_logo"/>
          <p:cNvPicPr/>
          <p:nvPr/>
        </p:nvPicPr>
        <p:blipFill>
          <a:blip r:embed="rId2"/>
          <a:stretch/>
        </p:blipFill>
        <p:spPr>
          <a:xfrm>
            <a:off x="826920" y="765000"/>
            <a:ext cx="3167280" cy="6382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9"/>
          <p:cNvSpPr/>
          <p:nvPr/>
        </p:nvSpPr>
        <p:spPr>
          <a:xfrm>
            <a:off x="900000" y="1773360"/>
            <a:ext cx="73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1617"/>
                </a:solidFill>
                <a:latin typeface="Bradley Hand ITC"/>
              </a:rPr>
              <a:t>Most Communally Loaded Game of 201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55" name="Group 11"/>
          <p:cNvGrpSpPr/>
          <p:nvPr/>
        </p:nvGrpSpPr>
        <p:grpSpPr>
          <a:xfrm>
            <a:off x="5364000" y="765000"/>
            <a:ext cx="2953080" cy="863280"/>
            <a:chOff x="5364000" y="765000"/>
            <a:chExt cx="2953080" cy="863280"/>
          </a:xfrm>
        </p:grpSpPr>
        <p:pic>
          <p:nvPicPr>
            <p:cNvPr id="156" name="Picture 12" descr=""/>
            <p:cNvPicPr/>
            <p:nvPr/>
          </p:nvPicPr>
          <p:blipFill>
            <a:blip r:embed="rId3"/>
            <a:stretch/>
          </p:blipFill>
          <p:spPr>
            <a:xfrm>
              <a:off x="7413480" y="869400"/>
              <a:ext cx="7844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3" descr="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295308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Text Placeholder 5"/>
          <p:cNvSpPr/>
          <p:nvPr/>
        </p:nvSpPr>
        <p:spPr>
          <a:xfrm>
            <a:off x="900000" y="5311800"/>
            <a:ext cx="73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Toegekend: juni 2011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rbel"/>
              </a:rPr>
              <a:t>Door het Modula-2 Team: Wesley &amp; Isabe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8:00:25Z</dcterms:created>
  <dc:creator/>
  <dc:description/>
  <dc:language>en-US</dc:language>
  <cp:lastModifiedBy/>
  <dcterms:modified xsi:type="dcterms:W3CDTF">2011-06-10T13:45:41Z</dcterms:modified>
  <cp:revision>41</cp:revision>
  <dc:subject/>
  <dc:title>Oorkon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3</vt:lpwstr>
  </property>
  <property fmtid="{D5CDD505-2E9C-101B-9397-08002B2CF9AE}" pid="3" name="_TemplateID">
    <vt:lpwstr>TC101641881043</vt:lpwstr>
  </property>
</Properties>
</file>