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117"/>
                </a:solidFill>
                <a:latin typeface="Corbel"/>
              </a:rPr>
              <a:t>Click to move the slide</a:t>
            </a: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08DE-D3F0-4E3B-BE70-EB757E6BA0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ADCB-2337-4C24-A6C7-0F2707B4CE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B5FF-781C-4E37-8232-F26E58ED8D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67C6-8153-48F9-8EDA-E81F8F28DD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37FA-05BE-450B-89DB-EE2660D132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8E0B-25B6-4ABC-B8B0-D606FFAED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8685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A889-DCF9-43FC-9012-4407BEB2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308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ADE6-73CD-4D12-8952-DBB1C6C73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876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08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876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08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6B52-9438-48F2-AE93-2AFF7E8D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14400" y="838080"/>
            <a:ext cx="73152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1707-06D3-4F39-9E21-5FC1FD61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308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14400" y="38685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308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876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8608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144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876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8608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753B-86E9-4032-9C76-14F7B16C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4F59-AC93-406F-8CCA-20EA86FB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962B-D0D7-4821-AD92-F4A5E3D8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838080"/>
            <a:ext cx="73152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A5AE-E9E5-486C-BCA9-FFB1C69D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7C2B-CFD7-4151-BFDD-EFC3BD26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308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AA02-9F54-4794-929E-375174DE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2BEE-898F-40C4-9CD3-CFC778EC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"/>
          <p:cNvGrpSpPr/>
          <p:nvPr/>
        </p:nvGrpSpPr>
        <p:grpSpPr>
          <a:xfrm>
            <a:off x="0" y="-1440"/>
            <a:ext cx="9144000" cy="6858000"/>
            <a:chOff x="0" y="-1440"/>
            <a:chExt cx="9144000" cy="6858000"/>
          </a:xfrm>
        </p:grpSpPr>
        <p:sp>
          <p:nvSpPr>
            <p:cNvPr id="1" name="Rectangle 6"/>
            <p:cNvSpPr/>
            <p:nvPr/>
          </p:nvSpPr>
          <p:spPr>
            <a:xfrm>
              <a:off x="0" y="-1440"/>
              <a:ext cx="9144000" cy="6858000"/>
            </a:xfrm>
            <a:prstGeom prst="rect">
              <a:avLst/>
            </a:prstGeom>
            <a:solidFill>
              <a:srgbClr val="4421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2" name="Rectangle 7"/>
            <p:cNvGrpSpPr/>
            <p:nvPr/>
          </p:nvGrpSpPr>
          <p:grpSpPr>
            <a:xfrm>
              <a:off x="438840" y="402480"/>
              <a:ext cx="8266320" cy="5980320"/>
              <a:chOff x="438840" y="402480"/>
              <a:chExt cx="8266320" cy="5980320"/>
            </a:xfrm>
          </p:grpSpPr>
          <p:pic>
            <p:nvPicPr>
              <p:cNvPr id="3" name="Rectangl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438840" y="402480"/>
                <a:ext cx="8266320" cy="598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456840" y="418320"/>
                <a:ext cx="8229960" cy="594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sp>
          <p:nvSpPr>
            <p:cNvPr id="5" name="Rectangle 8"/>
            <p:cNvSpPr/>
            <p:nvPr/>
          </p:nvSpPr>
          <p:spPr>
            <a:xfrm>
              <a:off x="761760" y="723960"/>
              <a:ext cx="7620120" cy="5334120"/>
            </a:xfrm>
            <a:prstGeom prst="rect">
              <a:avLst/>
            </a:prstGeom>
            <a:gradFill rotWithShape="0">
              <a:gsLst>
                <a:gs pos="0">
                  <a:srgbClr val="c2d2ad"/>
                </a:gs>
                <a:gs pos="50000">
                  <a:srgbClr val="edf1e8"/>
                </a:gs>
                <a:gs pos="100000">
                  <a:srgbClr val="c2d2ad"/>
                </a:gs>
              </a:gsLst>
              <a:lin ang="2700000"/>
            </a:gradFill>
            <a:ln cap="sq" w="76320">
              <a:solidFill>
                <a:srgbClr val="ffffff"/>
              </a:solidFill>
              <a:miter/>
            </a:ln>
            <a:effectLst>
              <a:outerShdw dist="50911" dir="81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3152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11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4421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421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44211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94B5-7577-47D4-A0C7-1A4DBEF0DE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9"/>
          <p:cNvGrpSpPr/>
          <p:nvPr/>
        </p:nvGrpSpPr>
        <p:grpSpPr>
          <a:xfrm>
            <a:off x="0" y="-1440"/>
            <a:ext cx="9144000" cy="6858000"/>
            <a:chOff x="0" y="-1440"/>
            <a:chExt cx="9144000" cy="6858000"/>
          </a:xfrm>
        </p:grpSpPr>
        <p:sp>
          <p:nvSpPr>
            <p:cNvPr id="48" name="Rectangle 6"/>
            <p:cNvSpPr/>
            <p:nvPr/>
          </p:nvSpPr>
          <p:spPr>
            <a:xfrm>
              <a:off x="0" y="-1440"/>
              <a:ext cx="9144000" cy="6858000"/>
            </a:xfrm>
            <a:prstGeom prst="rect">
              <a:avLst/>
            </a:prstGeom>
            <a:solidFill>
              <a:srgbClr val="4421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49" name="Rectangle 7"/>
            <p:cNvGrpSpPr/>
            <p:nvPr/>
          </p:nvGrpSpPr>
          <p:grpSpPr>
            <a:xfrm>
              <a:off x="438840" y="402480"/>
              <a:ext cx="8266320" cy="5980320"/>
              <a:chOff x="438840" y="402480"/>
              <a:chExt cx="8266320" cy="5980320"/>
            </a:xfrm>
          </p:grpSpPr>
          <p:pic>
            <p:nvPicPr>
              <p:cNvPr id="50" name="Rectangl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438840" y="402480"/>
                <a:ext cx="8266320" cy="598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456840" y="418320"/>
                <a:ext cx="8229960" cy="594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sp>
          <p:nvSpPr>
            <p:cNvPr id="52" name="Rectangle 8"/>
            <p:cNvSpPr/>
            <p:nvPr/>
          </p:nvSpPr>
          <p:spPr>
            <a:xfrm>
              <a:off x="761760" y="723960"/>
              <a:ext cx="7620120" cy="5334120"/>
            </a:xfrm>
            <a:prstGeom prst="rect">
              <a:avLst/>
            </a:prstGeom>
            <a:gradFill rotWithShape="0">
              <a:gsLst>
                <a:gs pos="0">
                  <a:srgbClr val="c2d2ad"/>
                </a:gs>
                <a:gs pos="50000">
                  <a:srgbClr val="edf1e8"/>
                </a:gs>
                <a:gs pos="100000">
                  <a:srgbClr val="c2d2ad"/>
                </a:gs>
              </a:gsLst>
              <a:lin ang="2700000"/>
            </a:gradFill>
            <a:ln cap="sq" w="76320">
              <a:solidFill>
                <a:srgbClr val="ffffff"/>
              </a:solidFill>
              <a:miter/>
            </a:ln>
            <a:effectLst>
              <a:outerShdw dist="50911" dir="81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Straight Connector 17"/>
          <p:cNvSpPr/>
          <p:nvPr/>
        </p:nvSpPr>
        <p:spPr>
          <a:xfrm>
            <a:off x="2705040" y="5638680"/>
            <a:ext cx="3733920" cy="1800"/>
          </a:xfrm>
          <a:prstGeom prst="line">
            <a:avLst/>
          </a:prstGeom>
          <a:ln cap="rnd" w="648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3152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11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4421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421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44211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0" descr="vub_schild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059280" y="1700280"/>
            <a:ext cx="3168360" cy="3168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00000" y="2421000"/>
            <a:ext cx="73152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wordt hierbij toegekend aan:</a:t>
            </a:r>
            <a:endParaRPr b="0" lang="en-US" sz="1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4737240"/>
            <a:ext cx="7315200" cy="20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Corbel"/>
              </a:rPr>
              <a:t>wegens bijzondere verdiensten  met het project:</a:t>
            </a:r>
            <a:endParaRPr b="0" lang="en-US" sz="9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900000" y="4869000"/>
            <a:ext cx="73152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rbel"/>
              </a:rPr>
              <a:t>Domination</a:t>
            </a:r>
            <a:endParaRPr b="0" lang="en-US" sz="18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title"/>
          </p:nvPr>
        </p:nvSpPr>
        <p:spPr>
          <a:xfrm>
            <a:off x="914400" y="12952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rbel"/>
              </a:rPr>
              <a:t>Oorkonde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04" name="Text Placeholder 7"/>
          <p:cNvSpPr/>
          <p:nvPr/>
        </p:nvSpPr>
        <p:spPr>
          <a:xfrm>
            <a:off x="900000" y="2781360"/>
            <a:ext cx="731520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Piet Bronder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Joran Cormond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Kevin Langloi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5" name="Picture 8" descr="VUB_logo"/>
          <p:cNvPicPr/>
          <p:nvPr/>
        </p:nvPicPr>
        <p:blipFill>
          <a:blip r:embed="rId2"/>
          <a:stretch/>
        </p:blipFill>
        <p:spPr>
          <a:xfrm>
            <a:off x="826920" y="765000"/>
            <a:ext cx="3167280" cy="6382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9"/>
          <p:cNvSpPr/>
          <p:nvPr/>
        </p:nvSpPr>
        <p:spPr>
          <a:xfrm>
            <a:off x="900000" y="1773360"/>
            <a:ext cx="73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Bradley Hand ITC"/>
              </a:rPr>
              <a:t>Most</a:t>
            </a:r>
            <a:r>
              <a:rPr b="1" lang="en-US" sz="3600" spc="-1" strike="noStrike">
                <a:solidFill>
                  <a:srgbClr val="cc0000"/>
                </a:solidFill>
                <a:latin typeface="Bradley Hand ITC"/>
              </a:rPr>
              <a:t> Excellent Game of </a:t>
            </a:r>
            <a:r>
              <a:rPr b="1" lang="en-US" sz="4000" spc="-1" strike="noStrike">
                <a:solidFill>
                  <a:srgbClr val="cc0000"/>
                </a:solidFill>
                <a:latin typeface="Bradley Hand ITC"/>
              </a:rPr>
              <a:t>2010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7" name="Group 11"/>
          <p:cNvGrpSpPr/>
          <p:nvPr/>
        </p:nvGrpSpPr>
        <p:grpSpPr>
          <a:xfrm>
            <a:off x="5364000" y="765000"/>
            <a:ext cx="2953080" cy="863280"/>
            <a:chOff x="5364000" y="765000"/>
            <a:chExt cx="2953080" cy="863280"/>
          </a:xfrm>
        </p:grpSpPr>
        <p:pic>
          <p:nvPicPr>
            <p:cNvPr id="108" name="Picture 12" descr=""/>
            <p:cNvPicPr/>
            <p:nvPr/>
          </p:nvPicPr>
          <p:blipFill>
            <a:blip r:embed="rId3"/>
            <a:stretch/>
          </p:blipFill>
          <p:spPr>
            <a:xfrm>
              <a:off x="7413480" y="869400"/>
              <a:ext cx="78444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13" descr=""/>
            <p:cNvPicPr/>
            <p:nvPr/>
          </p:nvPicPr>
          <p:blipFill>
            <a:blip r:embed="rId4"/>
            <a:stretch/>
          </p:blipFill>
          <p:spPr>
            <a:xfrm>
              <a:off x="5364000" y="765000"/>
              <a:ext cx="2953080" cy="46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Text Placeholder 5"/>
          <p:cNvSpPr/>
          <p:nvPr/>
        </p:nvSpPr>
        <p:spPr>
          <a:xfrm>
            <a:off x="900000" y="5311800"/>
            <a:ext cx="7315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Toegekend: juli 2010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Door het Modula-2 Team: Wesley, Joris &amp; Ja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0" descr="vub_schild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059280" y="1700280"/>
            <a:ext cx="3168360" cy="31687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00000" y="2421000"/>
            <a:ext cx="73152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wordt hierbij toegekend aan:</a:t>
            </a:r>
            <a:endParaRPr b="0" lang="en-US" sz="1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00000" y="4737240"/>
            <a:ext cx="7315200" cy="20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Corbel"/>
              </a:rPr>
              <a:t>wegens bijzondere verdiensten  met het project:</a:t>
            </a:r>
            <a:endParaRPr b="0" lang="en-US" sz="9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900000" y="4869000"/>
            <a:ext cx="73152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rbel"/>
              </a:rPr>
              <a:t>Antratek Cyborg</a:t>
            </a:r>
            <a:endParaRPr b="0" lang="en-US" sz="18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title"/>
          </p:nvPr>
        </p:nvSpPr>
        <p:spPr>
          <a:xfrm>
            <a:off x="914400" y="12952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rbel"/>
              </a:rPr>
              <a:t>Oorkonde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16" name="Text Placeholder 7"/>
          <p:cNvSpPr/>
          <p:nvPr/>
        </p:nvSpPr>
        <p:spPr>
          <a:xfrm>
            <a:off x="900000" y="2781360"/>
            <a:ext cx="731520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Johan Baijo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Sander Vaeck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Michael El Kadi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7" name="Picture 8" descr="VUB_logo"/>
          <p:cNvPicPr/>
          <p:nvPr/>
        </p:nvPicPr>
        <p:blipFill>
          <a:blip r:embed="rId2"/>
          <a:stretch/>
        </p:blipFill>
        <p:spPr>
          <a:xfrm>
            <a:off x="826920" y="765000"/>
            <a:ext cx="3167280" cy="6382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9"/>
          <p:cNvSpPr/>
          <p:nvPr/>
        </p:nvSpPr>
        <p:spPr>
          <a:xfrm>
            <a:off x="900000" y="1773360"/>
            <a:ext cx="73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Bradley Hand ITC"/>
              </a:rPr>
              <a:t>Best Action Game of 2010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19" name="Group 11"/>
          <p:cNvGrpSpPr/>
          <p:nvPr/>
        </p:nvGrpSpPr>
        <p:grpSpPr>
          <a:xfrm>
            <a:off x="5364000" y="765000"/>
            <a:ext cx="2953080" cy="863280"/>
            <a:chOff x="5364000" y="765000"/>
            <a:chExt cx="2953080" cy="863280"/>
          </a:xfrm>
        </p:grpSpPr>
        <p:pic>
          <p:nvPicPr>
            <p:cNvPr id="120" name="Picture 12" descr=""/>
            <p:cNvPicPr/>
            <p:nvPr/>
          </p:nvPicPr>
          <p:blipFill>
            <a:blip r:embed="rId3"/>
            <a:stretch/>
          </p:blipFill>
          <p:spPr>
            <a:xfrm>
              <a:off x="7413480" y="869400"/>
              <a:ext cx="78444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13" descr=""/>
            <p:cNvPicPr/>
            <p:nvPr/>
          </p:nvPicPr>
          <p:blipFill>
            <a:blip r:embed="rId4"/>
            <a:stretch/>
          </p:blipFill>
          <p:spPr>
            <a:xfrm>
              <a:off x="5364000" y="765000"/>
              <a:ext cx="2953080" cy="46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Text Placeholder 5"/>
          <p:cNvSpPr/>
          <p:nvPr/>
        </p:nvSpPr>
        <p:spPr>
          <a:xfrm>
            <a:off x="900000" y="5311800"/>
            <a:ext cx="7315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Toegekend: juli 2010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Door het Modula-2 Team: Wesley, Joris &amp; Ja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vub_schild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059280" y="1700280"/>
            <a:ext cx="3168360" cy="3168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00000" y="2421000"/>
            <a:ext cx="73152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wordt hierbij toegekend aan:</a:t>
            </a:r>
            <a:endParaRPr b="0" lang="en-US" sz="1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00000" y="4737240"/>
            <a:ext cx="7315200" cy="20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Corbel"/>
              </a:rPr>
              <a:t>wegens bijzondere verdiensten  met het project:</a:t>
            </a:r>
            <a:endParaRPr b="0" lang="en-US" sz="9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00000" y="4869000"/>
            <a:ext cx="73152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rbel"/>
              </a:rPr>
              <a:t>Diatrizzz</a:t>
            </a:r>
            <a:endParaRPr b="0" lang="en-US" sz="18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title"/>
          </p:nvPr>
        </p:nvSpPr>
        <p:spPr>
          <a:xfrm>
            <a:off x="914400" y="12952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rbel"/>
              </a:rPr>
              <a:t>Oorkonde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8" name="Text Placeholder 7"/>
          <p:cNvSpPr/>
          <p:nvPr/>
        </p:nvSpPr>
        <p:spPr>
          <a:xfrm>
            <a:off x="900000" y="2708280"/>
            <a:ext cx="7315200" cy="19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42117"/>
                </a:solidFill>
                <a:latin typeface="Corbel"/>
              </a:rPr>
              <a:t>Stijn Betten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42117"/>
                </a:solidFill>
                <a:latin typeface="Corbel"/>
              </a:rPr>
              <a:t>Nick Derom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42117"/>
                </a:solidFill>
                <a:latin typeface="Corbel"/>
              </a:rPr>
              <a:t> </a:t>
            </a:r>
            <a:r>
              <a:rPr b="0" lang="nl-NL" sz="4000" spc="-1" strike="noStrike">
                <a:solidFill>
                  <a:srgbClr val="442117"/>
                </a:solidFill>
                <a:latin typeface="Corbel"/>
              </a:rPr>
              <a:t>Nicolas Delay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9" name="Picture 9" descr="VUB_logo"/>
          <p:cNvPicPr/>
          <p:nvPr/>
        </p:nvPicPr>
        <p:blipFill>
          <a:blip r:embed="rId2"/>
          <a:stretch/>
        </p:blipFill>
        <p:spPr>
          <a:xfrm>
            <a:off x="826920" y="765000"/>
            <a:ext cx="3167280" cy="6382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0"/>
          <p:cNvSpPr/>
          <p:nvPr/>
        </p:nvSpPr>
        <p:spPr>
          <a:xfrm>
            <a:off x="900000" y="1773360"/>
            <a:ext cx="73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Bradley Hand ITC"/>
              </a:rPr>
              <a:t>Most original Game of 2010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31" name="Group 11"/>
          <p:cNvGrpSpPr/>
          <p:nvPr/>
        </p:nvGrpSpPr>
        <p:grpSpPr>
          <a:xfrm>
            <a:off x="5364000" y="765000"/>
            <a:ext cx="2953080" cy="863280"/>
            <a:chOff x="5364000" y="765000"/>
            <a:chExt cx="2953080" cy="863280"/>
          </a:xfrm>
        </p:grpSpPr>
        <p:pic>
          <p:nvPicPr>
            <p:cNvPr id="132" name="Picture 12" descr=""/>
            <p:cNvPicPr/>
            <p:nvPr/>
          </p:nvPicPr>
          <p:blipFill>
            <a:blip r:embed="rId3"/>
            <a:stretch/>
          </p:blipFill>
          <p:spPr>
            <a:xfrm>
              <a:off x="7413480" y="869400"/>
              <a:ext cx="78444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13" descr=""/>
            <p:cNvPicPr/>
            <p:nvPr/>
          </p:nvPicPr>
          <p:blipFill>
            <a:blip r:embed="rId4"/>
            <a:stretch/>
          </p:blipFill>
          <p:spPr>
            <a:xfrm>
              <a:off x="5364000" y="765000"/>
              <a:ext cx="2953080" cy="46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Text Placeholder 5"/>
          <p:cNvSpPr/>
          <p:nvPr/>
        </p:nvSpPr>
        <p:spPr>
          <a:xfrm>
            <a:off x="900000" y="5311800"/>
            <a:ext cx="7315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Toegekend: juli 2010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Door het Modula-2 Team: Wesley, Joris &amp; Ja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vub_schild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059280" y="1700280"/>
            <a:ext cx="3168360" cy="31687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00000" y="2421000"/>
            <a:ext cx="73152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wordt hierbij toegekend aan:</a:t>
            </a:r>
            <a:endParaRPr b="0" lang="en-US" sz="1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00000" y="4737240"/>
            <a:ext cx="7315200" cy="20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Corbel"/>
              </a:rPr>
              <a:t>wegens bijzondere verdiensten  met het project:</a:t>
            </a:r>
            <a:endParaRPr b="0" lang="en-US" sz="9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900000" y="4869000"/>
            <a:ext cx="73152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rbel"/>
              </a:rPr>
              <a:t>Ultimate Cartoon Clash</a:t>
            </a:r>
            <a:endParaRPr b="0" lang="en-US" sz="18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title"/>
          </p:nvPr>
        </p:nvSpPr>
        <p:spPr>
          <a:xfrm>
            <a:off x="914400" y="12952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rbel"/>
              </a:rPr>
              <a:t>Oorkonde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40" name="Text Placeholder 7"/>
          <p:cNvSpPr/>
          <p:nvPr/>
        </p:nvSpPr>
        <p:spPr>
          <a:xfrm>
            <a:off x="900000" y="2781360"/>
            <a:ext cx="731520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Sil Joseph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Darko Hundge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Simon Becker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41" name="Picture 8" descr="VUB_logo"/>
          <p:cNvPicPr/>
          <p:nvPr/>
        </p:nvPicPr>
        <p:blipFill>
          <a:blip r:embed="rId2"/>
          <a:stretch/>
        </p:blipFill>
        <p:spPr>
          <a:xfrm>
            <a:off x="826920" y="765000"/>
            <a:ext cx="3167280" cy="6382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9"/>
          <p:cNvSpPr/>
          <p:nvPr/>
        </p:nvSpPr>
        <p:spPr>
          <a:xfrm>
            <a:off x="214200" y="1773360"/>
            <a:ext cx="871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d2884"/>
                </a:solidFill>
                <a:latin typeface="Bradley Hand ITC"/>
              </a:rPr>
              <a:t>Best game featuring pr0f. Tiberghien of 2010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43" name="Group 10"/>
          <p:cNvGrpSpPr/>
          <p:nvPr/>
        </p:nvGrpSpPr>
        <p:grpSpPr>
          <a:xfrm>
            <a:off x="5364000" y="765000"/>
            <a:ext cx="2953080" cy="863280"/>
            <a:chOff x="5364000" y="765000"/>
            <a:chExt cx="2953080" cy="863280"/>
          </a:xfrm>
        </p:grpSpPr>
        <p:pic>
          <p:nvPicPr>
            <p:cNvPr id="144" name="Picture 11" descr=""/>
            <p:cNvPicPr/>
            <p:nvPr/>
          </p:nvPicPr>
          <p:blipFill>
            <a:blip r:embed="rId3"/>
            <a:stretch/>
          </p:blipFill>
          <p:spPr>
            <a:xfrm>
              <a:off x="7413480" y="869400"/>
              <a:ext cx="78444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12" descr=""/>
            <p:cNvPicPr/>
            <p:nvPr/>
          </p:nvPicPr>
          <p:blipFill>
            <a:blip r:embed="rId4"/>
            <a:stretch/>
          </p:blipFill>
          <p:spPr>
            <a:xfrm>
              <a:off x="5364000" y="765000"/>
              <a:ext cx="2953080" cy="46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Text Placeholder 5"/>
          <p:cNvSpPr/>
          <p:nvPr/>
        </p:nvSpPr>
        <p:spPr>
          <a:xfrm>
            <a:off x="900000" y="5311800"/>
            <a:ext cx="7315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Toegekend: juli 2010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Door het Modula-2 Team: Wesley, Joris &amp; Ja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4T08:00:25Z</dcterms:created>
  <dc:creator/>
  <dc:description/>
  <dc:language>en-US</dc:language>
  <cp:lastModifiedBy/>
  <dcterms:modified xsi:type="dcterms:W3CDTF">2010-06-14T08:25:33Z</dcterms:modified>
  <cp:revision>41</cp:revision>
  <dc:subject/>
  <dc:title>Oorkond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lpwstr>1043</vt:lpwstr>
  </property>
  <property fmtid="{D5CDD505-2E9C-101B-9397-08002B2CF9AE}" pid="3" name="_TemplateID">
    <vt:lpwstr>TC101641881043</vt:lpwstr>
  </property>
</Properties>
</file>