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809B-7E25-4225-84D4-7238E284B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A62D-1A13-444D-9B9D-C2A15B94A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EE52-2F67-419A-B3D0-89B3918BB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C985-945E-49AF-850C-64FDA0C83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5CD8-AFE0-4045-AF4A-78F593955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08D7-656F-446F-AE2B-E160F98CD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DD73-1147-4F8A-858E-CDBD6ECDD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94D-6AE1-48D1-9729-AD4BE2F4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78B-C867-491A-9F3E-3BE0C93A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5D9-B636-4306-99C7-7C8B7109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43F-FDE1-40B3-82F2-47B5BF69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9A7-7B02-41CA-9464-F2E849C5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B0C-8832-475C-AC76-7BDB21B5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336-72DB-4FB6-B626-0549C9B5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FF7-5020-47D6-9B4E-1FB53C78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7E5-E89E-4B25-9372-C10D9781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3D7-69DF-484D-AD51-718FA0EE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69E-A8A4-41D5-8654-07BF3A15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DB6-6D11-461C-AE74-0F41496A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1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2" name="Rectangle 7"/>
            <p:cNvGrpSpPr/>
            <p:nvPr/>
          </p:nvGrpSpPr>
          <p:grpSpPr>
            <a:xfrm>
              <a:off x="438840" y="401400"/>
              <a:ext cx="8266320" cy="5980320"/>
              <a:chOff x="438840" y="401400"/>
              <a:chExt cx="8266320" cy="5980320"/>
            </a:xfrm>
          </p:grpSpPr>
          <p:pic>
            <p:nvPicPr>
              <p:cNvPr id="3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140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456840" y="41796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" name="Rectangle 8"/>
            <p:cNvSpPr/>
            <p:nvPr/>
          </p:nvSpPr>
          <p:spPr>
            <a:xfrm>
              <a:off x="761760" y="72324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FB0C-B3C2-4BBB-A322-C73384E51F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48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9" name="Rectangle 7"/>
            <p:cNvGrpSpPr/>
            <p:nvPr/>
          </p:nvGrpSpPr>
          <p:grpSpPr>
            <a:xfrm>
              <a:off x="438840" y="401400"/>
              <a:ext cx="8266320" cy="5980320"/>
              <a:chOff x="438840" y="401400"/>
              <a:chExt cx="8266320" cy="5980320"/>
            </a:xfrm>
          </p:grpSpPr>
          <p:pic>
            <p:nvPicPr>
              <p:cNvPr id="50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140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456840" y="41796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2" name="Rectangle 8"/>
            <p:cNvSpPr/>
            <p:nvPr/>
          </p:nvSpPr>
          <p:spPr>
            <a:xfrm>
              <a:off x="761760" y="72324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Straight Connector 17"/>
          <p:cNvSpPr/>
          <p:nvPr/>
        </p:nvSpPr>
        <p:spPr>
          <a:xfrm>
            <a:off x="2705040" y="5638680"/>
            <a:ext cx="3733920" cy="1800"/>
          </a:xfrm>
          <a:prstGeom prst="line">
            <a:avLst/>
          </a:prstGeom>
          <a:ln cap="rnd" w="64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490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4723920"/>
            <a:ext cx="74901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TETRoCUBE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00000" y="5311440"/>
            <a:ext cx="7315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3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09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amuel Van Erp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Jens Coorema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77472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1773360"/>
            <a:ext cx="74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Bradley Hand ITC"/>
              </a:rPr>
              <a:t>Most Excellent Game of 2009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Aginor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6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Jens Depelsmaek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Glenn Sev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art Vouch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17733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Bradley Hand ITC"/>
              </a:rPr>
              <a:t>Best Action Game of 2009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09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Dragon Hunter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8" name="Text Placeholder 7"/>
          <p:cNvSpPr/>
          <p:nvPr/>
        </p:nvSpPr>
        <p:spPr>
          <a:xfrm>
            <a:off x="900000" y="2708280"/>
            <a:ext cx="731520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42117"/>
                </a:solidFill>
                <a:latin typeface="Corbel"/>
              </a:rPr>
              <a:t>Sascha Hamelyck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42117"/>
                </a:solidFill>
                <a:latin typeface="Corbel"/>
              </a:rPr>
              <a:t> </a:t>
            </a:r>
            <a:r>
              <a:rPr b="0" lang="nl-NL" sz="4000" spc="-1" strike="noStrike">
                <a:solidFill>
                  <a:srgbClr val="442117"/>
                </a:solidFill>
                <a:latin typeface="Corbel"/>
              </a:rPr>
              <a:t>David Blind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00000" y="17733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Bradley Hand ITC"/>
              </a:rPr>
              <a:t>Best 3D Shooter of 2009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09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Wiezen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0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illem Sterckx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Gerrit Pierreux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Karel Fleurbae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00000" y="177336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Bradley Hand ITC"/>
              </a:rPr>
              <a:t>Best Artificial Intelligence of 2009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09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IRW Mission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52" name="Text Placeholder 7"/>
          <p:cNvSpPr/>
          <p:nvPr/>
        </p:nvSpPr>
        <p:spPr>
          <a:xfrm>
            <a:off x="900000" y="2708280"/>
            <a:ext cx="731520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Damien Loteri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om Ghenn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Robbie Crap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elia Gryspeir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00000" y="17733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7400"/>
                </a:solidFill>
                <a:latin typeface="Bradley Hand ITC"/>
              </a:rPr>
              <a:t>Best Puzzle Game of 2009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09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Operation Ponderosa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64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ven Boulang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Frank Vanbev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ilke Verbrugg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773360"/>
            <a:ext cx="73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Bradley Hand ITC"/>
              </a:rPr>
              <a:t>Most Complete 3D Game Engine of 200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li 2009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, Joris &amp; Ja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8:00:25Z</dcterms:created>
  <dc:creator/>
  <dc:description/>
  <dc:language>en-US</dc:language>
  <cp:lastModifiedBy/>
  <dcterms:modified xsi:type="dcterms:W3CDTF">2009-06-03T12:16:11Z</dcterms:modified>
  <cp:revision>41</cp:revision>
  <dc:subject/>
  <dc:title>Oorkon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3</vt:lpwstr>
  </property>
  <property fmtid="{D5CDD505-2E9C-101B-9397-08002B2CF9AE}" pid="3" name="_TemplateID">
    <vt:lpwstr>TC101641881043</vt:lpwstr>
  </property>
</Properties>
</file>