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C6C-E0AF-4764-9B88-F3CBDDD47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CBE-67E0-4D19-A878-ABBCA412E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8A0-A2D0-453B-A28B-885609A3E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0E1-1CF1-4ABC-929C-34D653F5F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0A10-4BAD-4F84-B0E9-495B0747F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65D-3C76-4867-95CF-A3056749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AC5-5C0C-4AF2-A258-62C4F09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FA8-DEDF-4BF6-B444-14673F12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E69-0F2F-4FE0-91F5-AD88496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F4D-E931-42A7-9E0D-9245513E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E8B-71A6-4065-B03A-492DC54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2FE-8FB7-4426-B516-5FB62FCD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B7-0669-4D8A-858E-BB6EB3E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A43-3E1B-4B05-8542-1C9CCFF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B9F-4C17-47FC-8D2D-9144B57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7FC-D79B-4212-A749-DC16E0C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7BF-2364-4F0B-B43C-03DB2C1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5AB-9496-49D5-A803-7CD49594C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1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490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4723920"/>
            <a:ext cx="7490160" cy="2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Tanks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00000" y="5311440"/>
            <a:ext cx="7315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8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orne Lat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eroen De Geeter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lexander De Co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Picture 16" descr="VUB_logo"/>
          <p:cNvPicPr/>
          <p:nvPr/>
        </p:nvPicPr>
        <p:blipFill>
          <a:blip r:embed="rId2"/>
          <a:stretch/>
        </p:blipFill>
        <p:spPr>
          <a:xfrm>
            <a:off x="826920" y="77472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826920" y="177336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radley Hand ITC"/>
              </a:rPr>
              <a:t>Most Excellent Game of 2008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8" name="Group 29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09" name="Picture 27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8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Raging Rabbits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6" name="Text Placeholder 7"/>
          <p:cNvSpPr/>
          <p:nvPr/>
        </p:nvSpPr>
        <p:spPr>
          <a:xfrm>
            <a:off x="900000" y="2708280"/>
            <a:ext cx="731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ens Boeckx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lain De Herto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ele Van Muyl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7400"/>
                </a:solidFill>
                <a:latin typeface="Bradley Hand ITC"/>
              </a:rPr>
              <a:t>Best Animal Game of 2008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20" name="Picture 13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4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8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DMA Spiegels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8" name="Text Placeholder 7"/>
          <p:cNvSpPr/>
          <p:nvPr/>
        </p:nvSpPr>
        <p:spPr>
          <a:xfrm>
            <a:off x="900000" y="2708280"/>
            <a:ext cx="731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rini Kelmendi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ushim Koum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Picture 9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900000" y="1773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Bradley Hand ITC"/>
              </a:rPr>
              <a:t>Best Intellectual Game of 2008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32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8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Wimdows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0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m Devess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1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900000" y="177336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radley Hand ITC"/>
              </a:rPr>
              <a:t>Best Game Supporting Softwar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44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8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8:00:25Z</dcterms:created>
  <dc:creator/>
  <dc:description/>
  <dc:language>en-US</dc:language>
  <cp:lastModifiedBy/>
  <dcterms:modified xsi:type="dcterms:W3CDTF">2008-07-07T15:11:39Z</dcterms:modified>
  <cp:revision>23</cp:revision>
  <dc:subject/>
  <dc:title>Oorkon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3</vt:lpwstr>
  </property>
  <property fmtid="{D5CDD505-2E9C-101B-9397-08002B2CF9AE}" pid="3" name="_TemplateID">
    <vt:lpwstr>TC101641881043</vt:lpwstr>
  </property>
</Properties>
</file>