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907588" cy="6858000"/>
  <p:notesSz cx="10234613" cy="7099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119400" y="-9720"/>
            <a:ext cx="6786720" cy="16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07600" y="1628640"/>
            <a:ext cx="89139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604a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7600" y="4073040"/>
            <a:ext cx="89139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604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119400" y="-9720"/>
            <a:ext cx="6786720" cy="16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7600" y="1628640"/>
            <a:ext cx="43498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604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75280" y="1628640"/>
            <a:ext cx="43498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604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7600" y="4073040"/>
            <a:ext cx="43498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604a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75280" y="4073040"/>
            <a:ext cx="43498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604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119400" y="-9720"/>
            <a:ext cx="6786720" cy="16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07600" y="1628640"/>
            <a:ext cx="286992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604a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21520" y="1628640"/>
            <a:ext cx="286992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604a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35080" y="1628640"/>
            <a:ext cx="286992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604a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7600" y="4073040"/>
            <a:ext cx="286992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604a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21520" y="4073040"/>
            <a:ext cx="286992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604a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35080" y="4073040"/>
            <a:ext cx="286992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604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119400" y="-9720"/>
            <a:ext cx="6786720" cy="16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07600" y="1628640"/>
            <a:ext cx="891396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604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19400" y="-9720"/>
            <a:ext cx="6786720" cy="16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7600" y="1628640"/>
            <a:ext cx="891396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604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19400" y="-9720"/>
            <a:ext cx="6786720" cy="16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7600" y="1628640"/>
            <a:ext cx="43498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604a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75280" y="1628640"/>
            <a:ext cx="43498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604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119400" y="-9720"/>
            <a:ext cx="6786720" cy="16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119400" y="-9720"/>
            <a:ext cx="6786720" cy="74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604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19400" y="-9720"/>
            <a:ext cx="6786720" cy="16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7600" y="1628640"/>
            <a:ext cx="43498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604a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75280" y="1628640"/>
            <a:ext cx="43498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604a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7600" y="4073040"/>
            <a:ext cx="43498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604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19400" y="-9720"/>
            <a:ext cx="6786720" cy="16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07600" y="1628640"/>
            <a:ext cx="891396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604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119400" y="-9720"/>
            <a:ext cx="6786720" cy="16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7600" y="1628640"/>
            <a:ext cx="43498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604a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75280" y="1628640"/>
            <a:ext cx="43498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604a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75280" y="4073040"/>
            <a:ext cx="43498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604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19400" y="-9720"/>
            <a:ext cx="6786720" cy="16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7600" y="1628640"/>
            <a:ext cx="43498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604a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75280" y="1628640"/>
            <a:ext cx="43498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604a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7600" y="4073040"/>
            <a:ext cx="89139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604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119400" y="-9720"/>
            <a:ext cx="6786720" cy="16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7600" y="1628640"/>
            <a:ext cx="89139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604a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7600" y="4073040"/>
            <a:ext cx="89139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604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119400" y="-9720"/>
            <a:ext cx="6786720" cy="16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07600" y="1628640"/>
            <a:ext cx="43498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604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75280" y="1628640"/>
            <a:ext cx="43498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604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7600" y="4073040"/>
            <a:ext cx="43498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604a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75280" y="4073040"/>
            <a:ext cx="43498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604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119400" y="-9720"/>
            <a:ext cx="6786720" cy="16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07600" y="1628640"/>
            <a:ext cx="286992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604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21520" y="1628640"/>
            <a:ext cx="286992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604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535080" y="1628640"/>
            <a:ext cx="286992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604a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7600" y="4073040"/>
            <a:ext cx="286992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604a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21520" y="4073040"/>
            <a:ext cx="286992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604a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535080" y="4073040"/>
            <a:ext cx="286992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604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19400" y="-9720"/>
            <a:ext cx="6786720" cy="16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7600" y="1628640"/>
            <a:ext cx="891396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604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119400" y="-9720"/>
            <a:ext cx="6786720" cy="16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7600" y="1628640"/>
            <a:ext cx="43498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604a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75280" y="1628640"/>
            <a:ext cx="43498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604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19400" y="-9720"/>
            <a:ext cx="6786720" cy="16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119400" y="-9720"/>
            <a:ext cx="6786720" cy="74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604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119400" y="-9720"/>
            <a:ext cx="6786720" cy="16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7600" y="1628640"/>
            <a:ext cx="43498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604a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75280" y="1628640"/>
            <a:ext cx="43498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604a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07600" y="4073040"/>
            <a:ext cx="43498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604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119400" y="-9720"/>
            <a:ext cx="6786720" cy="16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07600" y="1628640"/>
            <a:ext cx="43498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604a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75280" y="1628640"/>
            <a:ext cx="43498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604a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75280" y="4073040"/>
            <a:ext cx="43498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604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119400" y="-9720"/>
            <a:ext cx="6786720" cy="16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7600" y="1628640"/>
            <a:ext cx="43498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604a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75280" y="1628640"/>
            <a:ext cx="43498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604a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7600" y="4073040"/>
            <a:ext cx="89139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604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6524640"/>
            <a:ext cx="9906120" cy="360360"/>
          </a:xfrm>
          <a:prstGeom prst="rect">
            <a:avLst/>
          </a:prstGeom>
          <a:solidFill>
            <a:srgbClr val="abb2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2300400" y="6524640"/>
            <a:ext cx="7605720" cy="17928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0" y="6351480"/>
            <a:ext cx="2887560" cy="354240"/>
          </a:xfrm>
          <a:prstGeom prst="rect">
            <a:avLst/>
          </a:prstGeom>
          <a:solidFill>
            <a:srgbClr val="abb2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507600" y="1628640"/>
            <a:ext cx="891396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60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604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604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604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7f73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604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7f735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604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7f735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604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604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604a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3119400" y="-9720"/>
            <a:ext cx="6786720" cy="160812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-360" y="6443280"/>
            <a:ext cx="2971800" cy="3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ffffff"/>
                </a:solidFill>
                <a:latin typeface="Arial"/>
              </a:rPr>
              <a:t>http://www.computerwetenschappen.b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nl-BE" sz="1000" spc="-1" strike="noStrike">
                <a:solidFill>
                  <a:srgbClr val="ffffff"/>
                </a:solidFill>
                <a:latin typeface="Arial"/>
              </a:rPr>
              <a:t>|   pag. </a:t>
            </a:r>
            <a:fld id="{98232C5E-D63E-40A0-8BFB-6E508846CAF8}" type="slidenum">
              <a:rPr b="0" lang="nl-B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8" descr="logoPPTp[4]"/>
          <p:cNvPicPr/>
          <p:nvPr/>
        </p:nvPicPr>
        <p:blipFill>
          <a:blip r:embed="rId2"/>
          <a:stretch/>
        </p:blipFill>
        <p:spPr>
          <a:xfrm>
            <a:off x="0" y="7920"/>
            <a:ext cx="3119400" cy="1444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0" y="2349360"/>
            <a:ext cx="9906120" cy="4508640"/>
          </a:xfrm>
          <a:prstGeom prst="rect">
            <a:avLst/>
          </a:prstGeom>
          <a:solidFill>
            <a:srgbClr val="8c82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7061040" y="1488960"/>
            <a:ext cx="2845080" cy="863640"/>
          </a:xfrm>
          <a:prstGeom prst="rect">
            <a:avLst/>
          </a:prstGeom>
          <a:solidFill>
            <a:srgbClr val="8c82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1996920" y="2349360"/>
            <a:ext cx="5064120" cy="216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8" descr="logoPPTp[3]"/>
          <p:cNvPicPr/>
          <p:nvPr/>
        </p:nvPicPr>
        <p:blipFill>
          <a:blip r:embed="rId2"/>
          <a:stretch/>
        </p:blipFill>
        <p:spPr>
          <a:xfrm>
            <a:off x="442800" y="162000"/>
            <a:ext cx="6589800" cy="19429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507600" y="1628640"/>
            <a:ext cx="891396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60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604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604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604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7f73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604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7f735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604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7f735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604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604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604a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3119400" y="-9720"/>
            <a:ext cx="6786720" cy="160812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2"/>
          </p:nvPr>
        </p:nvSpPr>
        <p:spPr>
          <a:xfrm>
            <a:off x="-5040" y="6557760"/>
            <a:ext cx="223812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nl-BE" sz="1000" spc="-1" strike="noStrike">
                <a:solidFill>
                  <a:srgbClr val="ffffff"/>
                </a:solidFill>
                <a:latin typeface="Arial"/>
              </a:rPr>
              <a:t>|   pag.  </a:t>
            </a:r>
            <a:fld id="{90E3B290-695B-4CCC-ABF0-4CF46092011A}" type="slidenum">
              <a:rPr b="0" lang="nl-B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nl-BE" sz="1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parallel.vub.ac.be/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parallel.vub.ac.be/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parallel.vub.ac.be/" TargetMode="Externa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parallel.vub.ac.be/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parallel.vub.ac.be/" TargetMode="Externa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parallel.vub.ac.be/" TargetMode="Externa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parallel.vub.ac.be/" TargetMode="Externa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parallel.vub.ac.be/" TargetMode="Externa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parallel.vub.ac.be/" TargetMode="External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parallel.vub.ac.be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parallel.vub.ac.be/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parallel.vub.ac.be/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parallel.vub.ac.be/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parallel.vub.ac.be/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parallel.vub.ac.be/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parallel.vub.ac.be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119400" y="-9720"/>
            <a:ext cx="6786720" cy="160812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TOPIC O: Pointer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Date Placeholder 2"/>
          <p:cNvSpPr/>
          <p:nvPr/>
        </p:nvSpPr>
        <p:spPr>
          <a:xfrm>
            <a:off x="0" y="6443640"/>
            <a:ext cx="29718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parallel.vub.ac.be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ffffff"/>
                </a:solidFill>
                <a:latin typeface="Arial"/>
              </a:rPr>
              <a:t>|   pag. </a:t>
            </a:r>
            <a:fld id="{A3B0CCBE-B624-477C-806F-B36EBCD108E3}" type="slidenum">
              <a:rPr b="0" lang="nl-B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Box 28"/>
          <p:cNvSpPr/>
          <p:nvPr/>
        </p:nvSpPr>
        <p:spPr>
          <a:xfrm>
            <a:off x="488880" y="1989000"/>
            <a:ext cx="8280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er = adres in het geheugen, is zelf geen geheuge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iciet geheugen aanvrage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óó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gebruik &amp; Expliciet geheugen vrijmake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gebruik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ordel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ynamisch aanmaken van geheugen voor bvb array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Recursieve definitie van gegevens, bvb voor lijsten, binaire bomen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119400" y="-9720"/>
            <a:ext cx="6786720" cy="160812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TOPIC O: Pointer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Box 3"/>
          <p:cNvSpPr/>
          <p:nvPr/>
        </p:nvSpPr>
        <p:spPr>
          <a:xfrm>
            <a:off x="468360" y="1989000"/>
            <a:ext cx="900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Date Placeholder 2"/>
          <p:cNvSpPr/>
          <p:nvPr/>
        </p:nvSpPr>
        <p:spPr>
          <a:xfrm>
            <a:off x="0" y="6443640"/>
            <a:ext cx="29718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parallel.vub.ac.be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ffffff"/>
                </a:solidFill>
                <a:latin typeface="Arial"/>
              </a:rPr>
              <a:t>|   pag. </a:t>
            </a:r>
            <a:fld id="{32750005-FEAB-4709-99F8-38FA33D2352B}" type="slidenum">
              <a:rPr b="0" lang="nl-B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9"/>
          <p:cNvSpPr/>
          <p:nvPr/>
        </p:nvSpPr>
        <p:spPr>
          <a:xfrm>
            <a:off x="631800" y="1544760"/>
            <a:ext cx="9074160" cy="50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00000"/>
                </a:solidFill>
                <a:latin typeface="Times New Roman"/>
              </a:rPr>
              <a:t>MODULE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PointerIntro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* M2EXTENSIONS + *&gt; &lt;* STORAGE + *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c00000"/>
                </a:solidFill>
                <a:latin typeface="Times New Roman"/>
              </a:rPr>
              <a:t>TYP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type = </a:t>
            </a:r>
            <a:r>
              <a:rPr b="1" lang="en-US" sz="1000" spc="-1" strike="noStrike">
                <a:solidFill>
                  <a:srgbClr val="c00000"/>
                </a:solidFill>
                <a:latin typeface="Times New Roman"/>
              </a:rPr>
              <a:t>POINTER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c00000"/>
                </a:solidFill>
                <a:latin typeface="Times New Roman"/>
              </a:rPr>
              <a:t>TO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c00000"/>
                </a:solidFill>
                <a:latin typeface="Times New Roman"/>
              </a:rPr>
              <a:t>RECORD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eerste: CARDINAL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weede: </a:t>
            </a:r>
            <a:r>
              <a:rPr b="1" lang="en-US" sz="1000" spc="-1" strike="noStrike">
                <a:solidFill>
                  <a:srgbClr val="c00000"/>
                </a:solidFill>
                <a:latin typeface="Times New Roman"/>
              </a:rPr>
              <a:t>ARRAY[1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.10],[1..10] </a:t>
            </a:r>
            <a:r>
              <a:rPr b="1" lang="en-US" sz="1000" spc="-1" strike="noStrike">
                <a:solidFill>
                  <a:srgbClr val="c00000"/>
                </a:solidFill>
                <a:latin typeface="Times New Roman"/>
              </a:rPr>
              <a:t>OF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c00000"/>
                </a:solidFill>
                <a:latin typeface="Times New Roman"/>
              </a:rPr>
              <a:t>RECORD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knal: CARDINAL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oem: </a:t>
            </a:r>
            <a:r>
              <a:rPr b="1" lang="en-US" sz="1000" spc="-1" strike="noStrike">
                <a:solidFill>
                  <a:srgbClr val="c00000"/>
                </a:solidFill>
                <a:latin typeface="Times New Roman"/>
              </a:rPr>
              <a:t>POINTER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c00000"/>
                </a:solidFill>
                <a:latin typeface="Times New Roman"/>
              </a:rPr>
              <a:t>TO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c00000"/>
                </a:solidFill>
                <a:latin typeface="Times New Roman"/>
              </a:rPr>
              <a:t>ARRAY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c00000"/>
                </a:solidFill>
                <a:latin typeface="Times New Roman"/>
              </a:rPr>
              <a:t>OF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CARDINAL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1000" spc="-1" strike="noStrike">
                <a:solidFill>
                  <a:srgbClr val="c00000"/>
                </a:solidFill>
                <a:latin typeface="Times New Roman"/>
              </a:rPr>
              <a:t>END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1000" spc="-1" strike="noStrike">
                <a:solidFill>
                  <a:srgbClr val="c00000"/>
                </a:solidFill>
                <a:latin typeface="Times New Roman"/>
              </a:rPr>
              <a:t>END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00000"/>
                </a:solidFill>
                <a:latin typeface="Times New Roman"/>
              </a:rPr>
              <a:t>V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: mytype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,j: INTEGER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00000"/>
                </a:solidFill>
                <a:latin typeface="Times New Roman"/>
              </a:rPr>
              <a:t>BEG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(p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^.eerste := 101;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^.tweede[5][8].knal := 102;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(p^.tweede[5][8].boem,15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^.tweede[5][8].boem^[10] := 103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rCard(p^.eerste,2);WrLn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rCard(p^.tweede[5][8].knal,2);WrLn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rCard(p^.tweede[5][8].boem^[10],2);WrLn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ISPOSE(p^.tweede[5][8].boem);  (* ALLE dynamisch aangemaakte variabelen (dmv NEW()) moeten gedisposed worden! *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ISPOSE(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00000"/>
                </a:solidFill>
                <a:latin typeface="Times New Roman"/>
              </a:rPr>
              <a:t>END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PointerIntr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Box 5"/>
          <p:cNvSpPr/>
          <p:nvPr/>
        </p:nvSpPr>
        <p:spPr>
          <a:xfrm>
            <a:off x="4049640" y="2833560"/>
            <a:ext cx="5656320" cy="2104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ointers zijn adressen, geen geheugen!!!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Open Array: VOORDEL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ynamisch aanmaken van geheu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Mogelijk voor elke  array een verschillende grootte te gev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Oval 1"/>
          <p:cNvSpPr/>
          <p:nvPr/>
        </p:nvSpPr>
        <p:spPr>
          <a:xfrm>
            <a:off x="1496880" y="3700440"/>
            <a:ext cx="863640" cy="287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Oval 2"/>
          <p:cNvSpPr/>
          <p:nvPr/>
        </p:nvSpPr>
        <p:spPr>
          <a:xfrm>
            <a:off x="1531800" y="4508640"/>
            <a:ext cx="2125800" cy="2095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119400" y="-9720"/>
            <a:ext cx="6786720" cy="160812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TOPIC O: Pointer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468360" y="1989000"/>
            <a:ext cx="900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Date Placeholder 2"/>
          <p:cNvSpPr/>
          <p:nvPr/>
        </p:nvSpPr>
        <p:spPr>
          <a:xfrm>
            <a:off x="0" y="6443640"/>
            <a:ext cx="29718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parallel.vub.ac.be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ffffff"/>
                </a:solidFill>
                <a:latin typeface="Arial"/>
              </a:rPr>
              <a:t>|   pag. </a:t>
            </a:r>
            <a:fld id="{23BD1806-7B45-40CD-A1D6-2A679E667E73}" type="slidenum">
              <a:rPr b="0" lang="nl-B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9"/>
          <p:cNvSpPr/>
          <p:nvPr/>
        </p:nvSpPr>
        <p:spPr>
          <a:xfrm>
            <a:off x="631800" y="1544760"/>
            <a:ext cx="9074160" cy="50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00000"/>
                </a:solidFill>
                <a:latin typeface="Times New Roman"/>
              </a:rPr>
              <a:t>MODULE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PointerIntro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* M2EXTENSIONS + *&gt; &lt;* STORAGE + *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c00000"/>
                </a:solidFill>
                <a:latin typeface="Times New Roman"/>
              </a:rPr>
              <a:t>TYP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type = </a:t>
            </a:r>
            <a:r>
              <a:rPr b="1" lang="en-US" sz="1000" spc="-1" strike="noStrike">
                <a:solidFill>
                  <a:srgbClr val="c00000"/>
                </a:solidFill>
                <a:latin typeface="Times New Roman"/>
              </a:rPr>
              <a:t>POINTER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c00000"/>
                </a:solidFill>
                <a:latin typeface="Times New Roman"/>
              </a:rPr>
              <a:t>TO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c00000"/>
                </a:solidFill>
                <a:latin typeface="Times New Roman"/>
              </a:rPr>
              <a:t>RECORD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eerste: CARDINAL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weede: </a:t>
            </a:r>
            <a:r>
              <a:rPr b="1" lang="en-US" sz="1000" spc="-1" strike="noStrike">
                <a:solidFill>
                  <a:srgbClr val="c00000"/>
                </a:solidFill>
                <a:latin typeface="Times New Roman"/>
              </a:rPr>
              <a:t>ARRAY[1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.10],[1..10] </a:t>
            </a:r>
            <a:r>
              <a:rPr b="1" lang="en-US" sz="1000" spc="-1" strike="noStrike">
                <a:solidFill>
                  <a:srgbClr val="c00000"/>
                </a:solidFill>
                <a:latin typeface="Times New Roman"/>
              </a:rPr>
              <a:t>OF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c00000"/>
                </a:solidFill>
                <a:latin typeface="Times New Roman"/>
              </a:rPr>
              <a:t>RECORD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knal: CARDINAL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oem: </a:t>
            </a:r>
            <a:r>
              <a:rPr b="1" lang="en-US" sz="1000" spc="-1" strike="noStrike">
                <a:solidFill>
                  <a:srgbClr val="c00000"/>
                </a:solidFill>
                <a:latin typeface="Times New Roman"/>
              </a:rPr>
              <a:t>POINTER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c00000"/>
                </a:solidFill>
                <a:latin typeface="Times New Roman"/>
              </a:rPr>
              <a:t>TO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c00000"/>
                </a:solidFill>
                <a:latin typeface="Times New Roman"/>
              </a:rPr>
              <a:t>ARRAY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c00000"/>
                </a:solidFill>
                <a:latin typeface="Times New Roman"/>
              </a:rPr>
              <a:t>OF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CARDINAL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1000" spc="-1" strike="noStrike">
                <a:solidFill>
                  <a:srgbClr val="c00000"/>
                </a:solidFill>
                <a:latin typeface="Times New Roman"/>
              </a:rPr>
              <a:t>END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1000" spc="-1" strike="noStrike">
                <a:solidFill>
                  <a:srgbClr val="c00000"/>
                </a:solidFill>
                <a:latin typeface="Times New Roman"/>
              </a:rPr>
              <a:t>END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00000"/>
                </a:solidFill>
                <a:latin typeface="Times New Roman"/>
              </a:rPr>
              <a:t>V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: mytype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,j: INTEGER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00000"/>
                </a:solidFill>
                <a:latin typeface="Times New Roman"/>
              </a:rPr>
              <a:t>BEG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(p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^.eerste := 101;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^.tweede[5][8].knal := 102;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(p^.tweede[5][8].boem,15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^.tweede[5][8].boem^[10] := 103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rCard(p^.eerste,2);WrLn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rCard(p^.tweede[5][8].knal,2);WrLn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rCard(p^.tweede[5][8].boem^[10],2);WrLn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ISPOSE(p^.tweede[5][8].boem);  (* ALLE dynamisch aangemaakte variabelen (dmv NEW()) moeten gedisposed worden! *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ISPOSE(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00000"/>
                </a:solidFill>
                <a:latin typeface="Times New Roman"/>
              </a:rPr>
              <a:t>END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PointerIntr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Box 5"/>
          <p:cNvSpPr/>
          <p:nvPr/>
        </p:nvSpPr>
        <p:spPr>
          <a:xfrm>
            <a:off x="4049640" y="2833560"/>
            <a:ext cx="5656320" cy="1769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ointers zijn adressen, geen geheugen!!!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LET OP!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- Gereserveerd geheugen moet vrijgegeven worden: DISPOSE(..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Oval 1"/>
          <p:cNvSpPr/>
          <p:nvPr/>
        </p:nvSpPr>
        <p:spPr>
          <a:xfrm>
            <a:off x="1496880" y="5942160"/>
            <a:ext cx="863640" cy="287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Oval 2"/>
          <p:cNvSpPr/>
          <p:nvPr/>
        </p:nvSpPr>
        <p:spPr>
          <a:xfrm>
            <a:off x="1449360" y="5732640"/>
            <a:ext cx="2124000" cy="2095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119400" y="-9720"/>
            <a:ext cx="6786720" cy="160812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TOPIC O: Pointer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TextBox 3"/>
          <p:cNvSpPr/>
          <p:nvPr/>
        </p:nvSpPr>
        <p:spPr>
          <a:xfrm>
            <a:off x="468360" y="1989000"/>
            <a:ext cx="900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Date Placeholder 2"/>
          <p:cNvSpPr/>
          <p:nvPr/>
        </p:nvSpPr>
        <p:spPr>
          <a:xfrm>
            <a:off x="0" y="6443640"/>
            <a:ext cx="29718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parallel.vub.ac.be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ffffff"/>
                </a:solidFill>
                <a:latin typeface="Arial"/>
              </a:rPr>
              <a:t>|   pag. </a:t>
            </a:r>
            <a:fld id="{2D1A646C-DF3F-49E6-BF59-DC0CF02D86D2}" type="slidenum">
              <a:rPr b="0" lang="nl-B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9"/>
          <p:cNvSpPr/>
          <p:nvPr/>
        </p:nvSpPr>
        <p:spPr>
          <a:xfrm>
            <a:off x="468360" y="2181960"/>
            <a:ext cx="9074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Box 5"/>
          <p:cNvSpPr/>
          <p:nvPr/>
        </p:nvSpPr>
        <p:spPr>
          <a:xfrm>
            <a:off x="272880" y="1549440"/>
            <a:ext cx="5654880" cy="2104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ointers zijn adressen, geen geheugen!!!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Geheugen moet gereserveerd worden: NEW(…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Geheugen moet vrijgegeven worde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ISPOSE(…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Box 10"/>
          <p:cNvSpPr/>
          <p:nvPr/>
        </p:nvSpPr>
        <p:spPr>
          <a:xfrm>
            <a:off x="1424160" y="4076640"/>
            <a:ext cx="64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OGELIJKE PROBLEM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119400" y="-9720"/>
            <a:ext cx="6786720" cy="160812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TOPIC O: Pointer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Box 3"/>
          <p:cNvSpPr/>
          <p:nvPr/>
        </p:nvSpPr>
        <p:spPr>
          <a:xfrm>
            <a:off x="468360" y="1989000"/>
            <a:ext cx="900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Date Placeholder 2"/>
          <p:cNvSpPr/>
          <p:nvPr/>
        </p:nvSpPr>
        <p:spPr>
          <a:xfrm>
            <a:off x="0" y="6443640"/>
            <a:ext cx="29718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parallel.vub.ac.be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ffffff"/>
                </a:solidFill>
                <a:latin typeface="Arial"/>
              </a:rPr>
              <a:t>|   pag. </a:t>
            </a:r>
            <a:fld id="{2817B3D9-68EB-4649-9A53-B5C8BAC47B3E}" type="slidenum">
              <a:rPr b="0" lang="nl-B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468360" y="2181960"/>
            <a:ext cx="9074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Box 5"/>
          <p:cNvSpPr/>
          <p:nvPr/>
        </p:nvSpPr>
        <p:spPr>
          <a:xfrm>
            <a:off x="272880" y="1549440"/>
            <a:ext cx="5654880" cy="2104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ointers zijn adressen, geen geheugen!!!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Geheugen moet gereserveerd worden: NEW(…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Geheugen moet vrijgegeven worde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ISPOSE(…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Box 1"/>
          <p:cNvSpPr/>
          <p:nvPr/>
        </p:nvSpPr>
        <p:spPr>
          <a:xfrm>
            <a:off x="1424160" y="407664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OGELIJKE PROBLEM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EMORY LEAKS: de volgorde van vrijgeven is belangrijk + zorg steeds dat je aan het stukje geheugen kan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119400" y="-9720"/>
            <a:ext cx="6786720" cy="160812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TOPIC O: Pointer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Box 3"/>
          <p:cNvSpPr/>
          <p:nvPr/>
        </p:nvSpPr>
        <p:spPr>
          <a:xfrm>
            <a:off x="468360" y="1989000"/>
            <a:ext cx="900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Date Placeholder 2"/>
          <p:cNvSpPr/>
          <p:nvPr/>
        </p:nvSpPr>
        <p:spPr>
          <a:xfrm>
            <a:off x="0" y="6443640"/>
            <a:ext cx="29718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parallel.vub.ac.be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ffffff"/>
                </a:solidFill>
                <a:latin typeface="Arial"/>
              </a:rPr>
              <a:t>|   pag. </a:t>
            </a:r>
            <a:fld id="{410BAE74-9D8B-4489-AA14-DAF174C079C9}" type="slidenum">
              <a:rPr b="0" lang="nl-B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9"/>
          <p:cNvSpPr/>
          <p:nvPr/>
        </p:nvSpPr>
        <p:spPr>
          <a:xfrm>
            <a:off x="468360" y="2181960"/>
            <a:ext cx="9074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Box 5"/>
          <p:cNvSpPr/>
          <p:nvPr/>
        </p:nvSpPr>
        <p:spPr>
          <a:xfrm>
            <a:off x="272880" y="1549440"/>
            <a:ext cx="5654880" cy="2104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ointers zijn adressen, geen geheugen!!!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Geheugen moet gereserveerd worden: NEW(…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Geheugen moet vrijgegeven worde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ISPOSE(…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Box 1"/>
          <p:cNvSpPr/>
          <p:nvPr/>
        </p:nvSpPr>
        <p:spPr>
          <a:xfrm>
            <a:off x="1424160" y="4076640"/>
            <a:ext cx="777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OGELIJKE PROBLEM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EMORY LEAKS: de volgorde van vrijgeven is belangrijk + zorg steeds dat je aan het stukje geheugen ka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EMORY CORRUPTIE: Vrijgegeven geheugen mag geen link meer hebben in statische variabel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119400" y="-9720"/>
            <a:ext cx="6786720" cy="160812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TOPIC O: Pointer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Box 3"/>
          <p:cNvSpPr/>
          <p:nvPr/>
        </p:nvSpPr>
        <p:spPr>
          <a:xfrm>
            <a:off x="468360" y="1989000"/>
            <a:ext cx="900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Date Placeholder 2"/>
          <p:cNvSpPr/>
          <p:nvPr/>
        </p:nvSpPr>
        <p:spPr>
          <a:xfrm>
            <a:off x="0" y="6443640"/>
            <a:ext cx="29718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parallel.vub.ac.be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ffffff"/>
                </a:solidFill>
                <a:latin typeface="Arial"/>
              </a:rPr>
              <a:t>|   pag. </a:t>
            </a:r>
            <a:fld id="{3B53740E-FD8A-4252-96EA-337236E0ACB4}" type="slidenum">
              <a:rPr b="0" lang="nl-B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9"/>
          <p:cNvSpPr/>
          <p:nvPr/>
        </p:nvSpPr>
        <p:spPr>
          <a:xfrm>
            <a:off x="468360" y="1786320"/>
            <a:ext cx="907416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SPOSE(p^.tweede[5][8].boem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SPOSE(p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Box 3"/>
          <p:cNvSpPr/>
          <p:nvPr/>
        </p:nvSpPr>
        <p:spPr>
          <a:xfrm>
            <a:off x="4737240" y="2133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K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Box 7"/>
          <p:cNvSpPr/>
          <p:nvPr/>
        </p:nvSpPr>
        <p:spPr>
          <a:xfrm>
            <a:off x="3657600" y="4076640"/>
            <a:ext cx="5654520" cy="1099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EMORY LEAK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ISPOSE(…)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in de juiste volgorde!!!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119400" y="-9720"/>
            <a:ext cx="6786720" cy="160812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TOPIC O: Pointer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Box 3"/>
          <p:cNvSpPr/>
          <p:nvPr/>
        </p:nvSpPr>
        <p:spPr>
          <a:xfrm>
            <a:off x="468360" y="1989000"/>
            <a:ext cx="900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Date Placeholder 2"/>
          <p:cNvSpPr/>
          <p:nvPr/>
        </p:nvSpPr>
        <p:spPr>
          <a:xfrm>
            <a:off x="0" y="6443640"/>
            <a:ext cx="29718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parallel.vub.ac.be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ffffff"/>
                </a:solidFill>
                <a:latin typeface="Arial"/>
              </a:rPr>
              <a:t>|   pag. </a:t>
            </a:r>
            <a:fld id="{4E7667F4-EF6D-4649-AFBD-04FFB32DEAD2}" type="slidenum">
              <a:rPr b="0" lang="nl-B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9"/>
          <p:cNvSpPr/>
          <p:nvPr/>
        </p:nvSpPr>
        <p:spPr>
          <a:xfrm>
            <a:off x="468360" y="1755720"/>
            <a:ext cx="9074160" cy="12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ISPOSE(p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SPOSE(p^.tweede[5][8].boem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Box 3"/>
          <p:cNvSpPr/>
          <p:nvPr/>
        </p:nvSpPr>
        <p:spPr>
          <a:xfrm>
            <a:off x="3600360" y="1619280"/>
            <a:ext cx="6321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IET OK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 is niet meer toegangelijk na DISP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oem kan niet meer verwijderd worden, want link is verdwe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EMORY LEAK!!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Box 7"/>
          <p:cNvSpPr/>
          <p:nvPr/>
        </p:nvSpPr>
        <p:spPr>
          <a:xfrm>
            <a:off x="4251240" y="4292640"/>
            <a:ext cx="5654880" cy="1099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EMORY LEAK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ISPOSE(…)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in de juiste volgorde!!!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119400" y="-9720"/>
            <a:ext cx="6786720" cy="160812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TOPIC O: Pointer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Box 3"/>
          <p:cNvSpPr/>
          <p:nvPr/>
        </p:nvSpPr>
        <p:spPr>
          <a:xfrm>
            <a:off x="468360" y="1989000"/>
            <a:ext cx="900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Date Placeholder 2"/>
          <p:cNvSpPr/>
          <p:nvPr/>
        </p:nvSpPr>
        <p:spPr>
          <a:xfrm>
            <a:off x="0" y="6443640"/>
            <a:ext cx="29718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ffffff"/>
                </a:solidFill>
                <a:latin typeface="Arial"/>
              </a:rPr>
              <a:t>http://parallel.vub.ac.be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ffffff"/>
                </a:solidFill>
                <a:latin typeface="Arial"/>
              </a:rPr>
              <a:t>|   pag. </a:t>
            </a:r>
            <a:fld id="{B7FB3676-B9B3-41B4-94F9-4829256E90BB}" type="slidenum">
              <a:rPr b="0" lang="nl-B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9"/>
          <p:cNvSpPr/>
          <p:nvPr/>
        </p:nvSpPr>
        <p:spPr>
          <a:xfrm>
            <a:off x="395280" y="1970640"/>
            <a:ext cx="9074160" cy="29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Times New Roman"/>
              </a:rPr>
              <a:t>PROCEDUR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addToList(myList: ptrList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cc3300"/>
                </a:solidFill>
                <a:latin typeface="Times New Roman"/>
              </a:rPr>
              <a:t>VAR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emp: ptrLis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Times New Roman"/>
              </a:rPr>
              <a:t>BEG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EW(temp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.next := myLis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Times New Roman"/>
              </a:rPr>
              <a:t>EN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addToLis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Times New Roman"/>
              </a:rPr>
              <a:t>VAR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funnyList: ptrLis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Times New Roman"/>
              </a:rPr>
              <a:t>BEG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ddToList(funnyList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Box 7"/>
          <p:cNvSpPr/>
          <p:nvPr/>
        </p:nvSpPr>
        <p:spPr>
          <a:xfrm>
            <a:off x="4251240" y="4292640"/>
            <a:ext cx="5654880" cy="1099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EMORY LEAK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NEW()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Zorg dat de link niet verdwij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119400" y="-9720"/>
            <a:ext cx="6786720" cy="160812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TOPIC O: Pointer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Date Placeholder 2"/>
          <p:cNvSpPr/>
          <p:nvPr/>
        </p:nvSpPr>
        <p:spPr>
          <a:xfrm>
            <a:off x="0" y="6443640"/>
            <a:ext cx="29718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ffffff"/>
                </a:solidFill>
                <a:latin typeface="Arial"/>
              </a:rPr>
              <a:t>http://parallel.vub.ac.be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ffffff"/>
                </a:solidFill>
                <a:latin typeface="Arial"/>
              </a:rPr>
              <a:t>|   pag. </a:t>
            </a:r>
            <a:fld id="{5A93F847-3871-45FB-B998-E9ECC850A48A}" type="slidenum">
              <a:rPr b="0" lang="nl-B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9"/>
          <p:cNvSpPr/>
          <p:nvPr/>
        </p:nvSpPr>
        <p:spPr>
          <a:xfrm>
            <a:off x="395280" y="1970640"/>
            <a:ext cx="9074160" cy="29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Times New Roman"/>
              </a:rPr>
              <a:t>PROCEDUR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addToList(myList: ptrList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cc3300"/>
                </a:solidFill>
                <a:latin typeface="Times New Roman"/>
              </a:rPr>
              <a:t>VAR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emp: ptrLis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Times New Roman"/>
              </a:rPr>
              <a:t>BEG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EW(temp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.next := myLis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Times New Roman"/>
              </a:rPr>
              <a:t>EN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addToLis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Times New Roman"/>
              </a:rPr>
              <a:t>VAR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funnyList: ptrLis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Times New Roman"/>
              </a:rPr>
              <a:t>BEG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ddToList(funnyList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Box 7"/>
          <p:cNvSpPr/>
          <p:nvPr/>
        </p:nvSpPr>
        <p:spPr>
          <a:xfrm>
            <a:off x="4251240" y="4292640"/>
            <a:ext cx="5654880" cy="1099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EMORY LEAK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NEW()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Zorg dat de link niet verdwij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Oval 1"/>
          <p:cNvSpPr/>
          <p:nvPr/>
        </p:nvSpPr>
        <p:spPr>
          <a:xfrm>
            <a:off x="468360" y="2637000"/>
            <a:ext cx="1171440" cy="287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8" name="Straight Arrow Connector 3"/>
          <p:cNvCxnSpPr>
            <a:stCxn id="197" idx="6"/>
          </p:cNvCxnSpPr>
          <p:nvPr/>
        </p:nvCxnSpPr>
        <p:spPr>
          <a:xfrm>
            <a:off x="1639440" y="2781000"/>
            <a:ext cx="2305440" cy="10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99" name="TextBox 5"/>
          <p:cNvSpPr/>
          <p:nvPr/>
        </p:nvSpPr>
        <p:spPr>
          <a:xfrm>
            <a:off x="3944880" y="2637000"/>
            <a:ext cx="31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heugen reserv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119400" y="-9720"/>
            <a:ext cx="6786720" cy="160812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TOPIC O: Pointer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Date Placeholder 2"/>
          <p:cNvSpPr/>
          <p:nvPr/>
        </p:nvSpPr>
        <p:spPr>
          <a:xfrm>
            <a:off x="0" y="6443640"/>
            <a:ext cx="29718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ffffff"/>
                </a:solidFill>
                <a:latin typeface="Arial"/>
              </a:rPr>
              <a:t>http://parallel.vub.ac.be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ffffff"/>
                </a:solidFill>
                <a:latin typeface="Arial"/>
              </a:rPr>
              <a:t>|   pag. </a:t>
            </a:r>
            <a:fld id="{6D9D6C53-21B0-4E50-B933-D46D8B71B260}" type="slidenum">
              <a:rPr b="0" lang="nl-B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9"/>
          <p:cNvSpPr/>
          <p:nvPr/>
        </p:nvSpPr>
        <p:spPr>
          <a:xfrm>
            <a:off x="395280" y="1970640"/>
            <a:ext cx="9074160" cy="29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Times New Roman"/>
              </a:rPr>
              <a:t>PROCEDUR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addToList(myList: ptrList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cc3300"/>
                </a:solidFill>
                <a:latin typeface="Times New Roman"/>
              </a:rPr>
              <a:t>VAR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emp: ptrLis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Times New Roman"/>
              </a:rPr>
              <a:t>BEG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EW(temp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.next := myLis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Times New Roman"/>
              </a:rPr>
              <a:t>EN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addToLis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Times New Roman"/>
              </a:rPr>
              <a:t>VAR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funnyList: ptrLis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Times New Roman"/>
              </a:rPr>
              <a:t>BEG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ddToList(funnyList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Box 7"/>
          <p:cNvSpPr/>
          <p:nvPr/>
        </p:nvSpPr>
        <p:spPr>
          <a:xfrm>
            <a:off x="4195800" y="5365800"/>
            <a:ext cx="5654520" cy="1099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EMORY LEAK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NEW()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Zorg dat de link niet verdwij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Oval 1"/>
          <p:cNvSpPr/>
          <p:nvPr/>
        </p:nvSpPr>
        <p:spPr>
          <a:xfrm>
            <a:off x="468360" y="2637000"/>
            <a:ext cx="1171440" cy="287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5" name="Straight Arrow Connector 3"/>
          <p:cNvCxnSpPr>
            <a:stCxn id="204" idx="6"/>
          </p:cNvCxnSpPr>
          <p:nvPr/>
        </p:nvCxnSpPr>
        <p:spPr>
          <a:xfrm>
            <a:off x="1639440" y="2781000"/>
            <a:ext cx="2305440" cy="10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06" name="TextBox 5"/>
          <p:cNvSpPr/>
          <p:nvPr/>
        </p:nvSpPr>
        <p:spPr>
          <a:xfrm>
            <a:off x="3944880" y="2637000"/>
            <a:ext cx="31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heugen reserv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7" name="Straight Arrow Connector 6"/>
          <p:cNvCxnSpPr/>
          <p:nvPr/>
        </p:nvCxnSpPr>
        <p:spPr>
          <a:xfrm flipV="1">
            <a:off x="2144520" y="3644280"/>
            <a:ext cx="2788200" cy="64836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08" name="TextBox 8"/>
          <p:cNvSpPr/>
          <p:nvPr/>
        </p:nvSpPr>
        <p:spPr>
          <a:xfrm>
            <a:off x="5313240" y="3508200"/>
            <a:ext cx="3743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 oproep, funnyList = N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en link naar gereserveerd geheugen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EMORY LE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119400" y="-9720"/>
            <a:ext cx="6786720" cy="160812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TOPIC O: Pointer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Box 3"/>
          <p:cNvSpPr/>
          <p:nvPr/>
        </p:nvSpPr>
        <p:spPr>
          <a:xfrm>
            <a:off x="468360" y="1989000"/>
            <a:ext cx="900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Date Placeholder 2"/>
          <p:cNvSpPr/>
          <p:nvPr/>
        </p:nvSpPr>
        <p:spPr>
          <a:xfrm>
            <a:off x="0" y="6443640"/>
            <a:ext cx="29718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parallel.vub.ac.be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ffffff"/>
                </a:solidFill>
                <a:latin typeface="Arial"/>
              </a:rPr>
              <a:t>|   pag. </a:t>
            </a:r>
            <a:fld id="{F7481CA2-0817-4C28-B4A8-5687C1646FEF}" type="slidenum">
              <a:rPr b="0" lang="nl-B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9"/>
          <p:cNvSpPr/>
          <p:nvPr/>
        </p:nvSpPr>
        <p:spPr>
          <a:xfrm>
            <a:off x="631800" y="1575000"/>
            <a:ext cx="9074160" cy="49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00000"/>
                </a:solidFill>
                <a:latin typeface="Times New Roman"/>
              </a:rPr>
              <a:t>MODULE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PointerIntro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* M2EXTENSIONS + *&gt; &lt;* STORAGE + *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c00000"/>
                </a:solidFill>
                <a:latin typeface="Times New Roman"/>
              </a:rPr>
              <a:t>TYP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type = </a:t>
            </a:r>
            <a:r>
              <a:rPr b="1" lang="en-US" sz="1000" spc="-1" strike="noStrike">
                <a:solidFill>
                  <a:srgbClr val="c00000"/>
                </a:solidFill>
                <a:latin typeface="Times New Roman"/>
              </a:rPr>
              <a:t>POINTER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c00000"/>
                </a:solidFill>
                <a:latin typeface="Times New Roman"/>
              </a:rPr>
              <a:t>TO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c00000"/>
                </a:solidFill>
                <a:latin typeface="Times New Roman"/>
              </a:rPr>
              <a:t>RECORD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eerste: CARDINAL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weede: </a:t>
            </a:r>
            <a:r>
              <a:rPr b="1" lang="en-US" sz="1000" spc="-1" strike="noStrike">
                <a:solidFill>
                  <a:srgbClr val="c00000"/>
                </a:solidFill>
                <a:latin typeface="Times New Roman"/>
              </a:rPr>
              <a:t>ARRAY[1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.10],[1..10] </a:t>
            </a:r>
            <a:r>
              <a:rPr b="1" lang="en-US" sz="1000" spc="-1" strike="noStrike">
                <a:solidFill>
                  <a:srgbClr val="c00000"/>
                </a:solidFill>
                <a:latin typeface="Times New Roman"/>
              </a:rPr>
              <a:t>OF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c00000"/>
                </a:solidFill>
                <a:latin typeface="Times New Roman"/>
              </a:rPr>
              <a:t>RECORD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knal: CARDINAL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oem: </a:t>
            </a:r>
            <a:r>
              <a:rPr b="1" lang="en-US" sz="1000" spc="-1" strike="noStrike">
                <a:solidFill>
                  <a:srgbClr val="c00000"/>
                </a:solidFill>
                <a:latin typeface="Times New Roman"/>
              </a:rPr>
              <a:t>POINTER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c00000"/>
                </a:solidFill>
                <a:latin typeface="Times New Roman"/>
              </a:rPr>
              <a:t>TO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c00000"/>
                </a:solidFill>
                <a:latin typeface="Times New Roman"/>
              </a:rPr>
              <a:t>ARRAY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c00000"/>
                </a:solidFill>
                <a:latin typeface="Times New Roman"/>
              </a:rPr>
              <a:t>OF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CARDINAL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1000" spc="-1" strike="noStrike">
                <a:solidFill>
                  <a:srgbClr val="c00000"/>
                </a:solidFill>
                <a:latin typeface="Times New Roman"/>
              </a:rPr>
              <a:t>END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1000" spc="-1" strike="noStrike">
                <a:solidFill>
                  <a:srgbClr val="c00000"/>
                </a:solidFill>
                <a:latin typeface="Times New Roman"/>
              </a:rPr>
              <a:t>END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00000"/>
                </a:solidFill>
                <a:latin typeface="Times New Roman"/>
              </a:rPr>
              <a:t>V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: mytype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,j: INTEGER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00000"/>
                </a:solidFill>
                <a:latin typeface="Times New Roman"/>
              </a:rPr>
              <a:t>BEG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NEW(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^.eerste := 101;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^.tweede[5][8].knal := 102;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NEW(p^.tweede[5][8].boem,15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^.tweede[5][8].boem^[10] := 103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rCard(p^.eerste,2);WrLn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rCard(p^.tweede[5][8].knal,2);WrLn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rCard(p^.tweede[5][8].boem^[10],2);WrLn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ISPOSE(p^.tweede[5][8].boem);  (* ALLE dynamisch aangemaakte variabelen (dmv NEW()) moeten gedisposed worden! *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ISPOSE(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00000"/>
                </a:solidFill>
                <a:latin typeface="Times New Roman"/>
              </a:rPr>
              <a:t>END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PointerIntr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Box 1"/>
          <p:cNvSpPr/>
          <p:nvPr/>
        </p:nvSpPr>
        <p:spPr>
          <a:xfrm>
            <a:off x="4521240" y="3357720"/>
            <a:ext cx="439272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ntax: definit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" name="Elbow Connector 3"/>
          <p:cNvCxnSpPr/>
          <p:nvPr/>
        </p:nvCxnSpPr>
        <p:spPr>
          <a:xfrm flipH="1" flipV="1" rot="5400000">
            <a:off x="6669360" y="2999880"/>
            <a:ext cx="815040" cy="361080"/>
          </a:xfrm>
          <a:prstGeom prst="bentConnector3">
            <a:avLst>
              <a:gd name="adj1" fmla="val 49977"/>
            </a:avLst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95" name="Elbow Connector 22"/>
          <p:cNvCxnSpPr/>
          <p:nvPr/>
        </p:nvCxnSpPr>
        <p:spPr>
          <a:xfrm rot="10800000">
            <a:off x="2649600" y="3180600"/>
            <a:ext cx="4248360" cy="407160"/>
          </a:xfrm>
          <a:prstGeom prst="bentConnector3">
            <a:avLst>
              <a:gd name="adj1" fmla="val 135"/>
            </a:avLst>
          </a:prstGeom>
          <a:ln w="25560">
            <a:solidFill>
              <a:srgbClr val="ff0000"/>
            </a:solidFill>
            <a:miter/>
          </a:ln>
        </p:spPr>
      </p:cxnSp>
      <p:cxnSp>
        <p:nvCxnSpPr>
          <p:cNvPr id="96" name="Straight Arrow Connector 25"/>
          <p:cNvCxnSpPr/>
          <p:nvPr/>
        </p:nvCxnSpPr>
        <p:spPr>
          <a:xfrm flipV="1">
            <a:off x="2649240" y="2381040"/>
            <a:ext cx="1080" cy="80064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97" name="Oval 26"/>
          <p:cNvSpPr/>
          <p:nvPr/>
        </p:nvSpPr>
        <p:spPr>
          <a:xfrm>
            <a:off x="2144880" y="2133720"/>
            <a:ext cx="936360" cy="2476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Oval 27"/>
          <p:cNvSpPr/>
          <p:nvPr/>
        </p:nvSpPr>
        <p:spPr>
          <a:xfrm>
            <a:off x="6481800" y="2487600"/>
            <a:ext cx="1008000" cy="2811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119400" y="-9720"/>
            <a:ext cx="6786720" cy="160812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TOPIC O: Pointer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TextBox 3"/>
          <p:cNvSpPr/>
          <p:nvPr/>
        </p:nvSpPr>
        <p:spPr>
          <a:xfrm>
            <a:off x="468360" y="1989000"/>
            <a:ext cx="900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Date Placeholder 2"/>
          <p:cNvSpPr/>
          <p:nvPr/>
        </p:nvSpPr>
        <p:spPr>
          <a:xfrm>
            <a:off x="0" y="6443640"/>
            <a:ext cx="29718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ffffff"/>
                </a:solidFill>
                <a:latin typeface="Arial"/>
              </a:rPr>
              <a:t>http://parallel.vub.ac.be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ffffff"/>
                </a:solidFill>
                <a:latin typeface="Arial"/>
              </a:rPr>
              <a:t>|   pag. </a:t>
            </a:r>
            <a:fld id="{5360FEC6-F804-428F-9912-B24DCD181F69}" type="slidenum">
              <a:rPr b="0" lang="nl-B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Box 7"/>
          <p:cNvSpPr/>
          <p:nvPr/>
        </p:nvSpPr>
        <p:spPr>
          <a:xfrm>
            <a:off x="272880" y="1549440"/>
            <a:ext cx="5654880" cy="2104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ointers zijn adressen, geen geheugen!!!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Geheugen moet gereserveerd worden: NEW(…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Geheugen moet vrijgegeven worde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ISPOSE(…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Box 8"/>
          <p:cNvSpPr/>
          <p:nvPr/>
        </p:nvSpPr>
        <p:spPr>
          <a:xfrm>
            <a:off x="1424160" y="4076640"/>
            <a:ext cx="792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OGELIJKE PROBLEM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EMORY CORRUPTIE: Vrijgegeven geheugen mag geen link meer hebben in statische variabel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119400" y="-9720"/>
            <a:ext cx="6786720" cy="160812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TOPIC O: Pointer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TextBox 3"/>
          <p:cNvSpPr/>
          <p:nvPr/>
        </p:nvSpPr>
        <p:spPr>
          <a:xfrm>
            <a:off x="468360" y="1989000"/>
            <a:ext cx="900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Date Placeholder 2"/>
          <p:cNvSpPr/>
          <p:nvPr/>
        </p:nvSpPr>
        <p:spPr>
          <a:xfrm>
            <a:off x="0" y="6443640"/>
            <a:ext cx="29718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ffffff"/>
                </a:solidFill>
                <a:latin typeface="Arial"/>
              </a:rPr>
              <a:t>http://parallel.vub.ac.be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ffffff"/>
                </a:solidFill>
                <a:latin typeface="Arial"/>
              </a:rPr>
              <a:t>|   pag. </a:t>
            </a:r>
            <a:fld id="{FF6BE626-A6C8-490E-9D15-D49A6D15B4B3}" type="slidenum">
              <a:rPr b="0" lang="nl-B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Box 7"/>
          <p:cNvSpPr/>
          <p:nvPr/>
        </p:nvSpPr>
        <p:spPr>
          <a:xfrm>
            <a:off x="4251240" y="4365720"/>
            <a:ext cx="5654880" cy="2104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ointers zijn adressen, geen geheugen!!!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Geheugen moet gereserveerd worden: NEW(…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Geheugen moet vrijgegeven worde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ISPOSE(…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Box 1"/>
          <p:cNvSpPr/>
          <p:nvPr/>
        </p:nvSpPr>
        <p:spPr>
          <a:xfrm>
            <a:off x="431640" y="1471680"/>
            <a:ext cx="88776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PROCEDUR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disposeList(myList: ptrList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VA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temp: ptrLis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BEG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WHI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myList # NIL </a:t>
            </a: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mp = myLis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yList = myList.nex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POSE(temp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EN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EN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disposeLis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VA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funnyList: ptrLis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BEG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poseList(funnyList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119400" y="-9720"/>
            <a:ext cx="6786720" cy="160812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TOPIC O: Pointer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extBox 3"/>
          <p:cNvSpPr/>
          <p:nvPr/>
        </p:nvSpPr>
        <p:spPr>
          <a:xfrm>
            <a:off x="468360" y="1989000"/>
            <a:ext cx="900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Date Placeholder 2"/>
          <p:cNvSpPr/>
          <p:nvPr/>
        </p:nvSpPr>
        <p:spPr>
          <a:xfrm>
            <a:off x="0" y="6443640"/>
            <a:ext cx="29718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ffffff"/>
                </a:solidFill>
                <a:latin typeface="Arial"/>
              </a:rPr>
              <a:t>http://parallel.vub.ac.be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ffffff"/>
                </a:solidFill>
                <a:latin typeface="Arial"/>
              </a:rPr>
              <a:t>|   pag. </a:t>
            </a:r>
            <a:fld id="{3DDF4054-96B7-49EE-A4EB-2F9AE0085FF7}" type="slidenum">
              <a:rPr b="0" lang="nl-B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Box 1"/>
          <p:cNvSpPr/>
          <p:nvPr/>
        </p:nvSpPr>
        <p:spPr>
          <a:xfrm>
            <a:off x="431640" y="1471680"/>
            <a:ext cx="88776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PROCEDUR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disposeList(myList: ptrList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VA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temp: ptrLis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BEG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WHI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myList # NIL </a:t>
            </a: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mp = myLis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yList = myList.nex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POSE(temp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EN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EN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disposeLis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VA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funnyList: ptrLis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BEG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poseList(funnyList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2"/>
          <p:cNvSpPr/>
          <p:nvPr/>
        </p:nvSpPr>
        <p:spPr>
          <a:xfrm>
            <a:off x="3657600" y="4470480"/>
            <a:ext cx="647640" cy="2887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bcbcbc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em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8"/>
          <p:cNvSpPr/>
          <p:nvPr/>
        </p:nvSpPr>
        <p:spPr>
          <a:xfrm>
            <a:off x="4884840" y="4467240"/>
            <a:ext cx="647640" cy="287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bcbcbc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em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9"/>
          <p:cNvSpPr/>
          <p:nvPr/>
        </p:nvSpPr>
        <p:spPr>
          <a:xfrm>
            <a:off x="6105600" y="4454640"/>
            <a:ext cx="647640" cy="287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bcbcbc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em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10"/>
          <p:cNvSpPr/>
          <p:nvPr/>
        </p:nvSpPr>
        <p:spPr>
          <a:xfrm>
            <a:off x="7184880" y="4454640"/>
            <a:ext cx="648000" cy="287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bcbcbc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em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7" name="Straight Arrow Connector 4"/>
          <p:cNvCxnSpPr>
            <a:stCxn id="223" idx="3"/>
            <a:endCxn id="224" idx="1"/>
          </p:cNvCxnSpPr>
          <p:nvPr/>
        </p:nvCxnSpPr>
        <p:spPr>
          <a:xfrm flipV="1">
            <a:off x="4305240" y="4609440"/>
            <a:ext cx="58032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28" name="Straight Arrow Connector 12"/>
          <p:cNvCxnSpPr>
            <a:endCxn id="226" idx="1"/>
          </p:cNvCxnSpPr>
          <p:nvPr/>
        </p:nvCxnSpPr>
        <p:spPr>
          <a:xfrm flipV="1">
            <a:off x="6752880" y="4596840"/>
            <a:ext cx="432360" cy="13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29" name="Straight Arrow Connector 13"/>
          <p:cNvCxnSpPr>
            <a:stCxn id="224" idx="3"/>
            <a:endCxn id="225" idx="1"/>
          </p:cNvCxnSpPr>
          <p:nvPr/>
        </p:nvCxnSpPr>
        <p:spPr>
          <a:xfrm flipV="1">
            <a:off x="5532480" y="4596840"/>
            <a:ext cx="573840" cy="13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aphicFrame>
        <p:nvGraphicFramePr>
          <p:cNvPr id="230" name=""/>
          <p:cNvGraphicFramePr/>
          <p:nvPr/>
        </p:nvGraphicFramePr>
        <p:xfrm>
          <a:off x="8459640" y="4235400"/>
          <a:ext cx="1008360" cy="1484280"/>
        </p:xfrm>
        <a:graphic>
          <a:graphicData uri="http://schemas.openxmlformats.org/drawingml/2006/table">
            <a:tbl>
              <a:tblPr/>
              <a:tblGrid>
                <a:gridCol w="100836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em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em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em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em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</a:tr>
            </a:tbl>
          </a:graphicData>
        </a:graphic>
      </p:graphicFrame>
      <p:sp>
        <p:nvSpPr>
          <p:cNvPr id="231" name="TextBox 19"/>
          <p:cNvSpPr/>
          <p:nvPr/>
        </p:nvSpPr>
        <p:spPr>
          <a:xfrm>
            <a:off x="8193240" y="3716280"/>
            <a:ext cx="1368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Geheugen gereserveer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2" name="Elbow Connector 23"/>
          <p:cNvCxnSpPr/>
          <p:nvPr/>
        </p:nvCxnSpPr>
        <p:spPr>
          <a:xfrm>
            <a:off x="1496880" y="4147920"/>
            <a:ext cx="2485440" cy="322920"/>
          </a:xfrm>
          <a:prstGeom prst="bentConnector2">
            <a:avLst/>
          </a:prstGeom>
          <a:ln w="25560">
            <a:solidFill>
              <a:srgbClr val="00b0f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119400" y="-9720"/>
            <a:ext cx="6786720" cy="160812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TOPIC O: Pointer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TextBox 3"/>
          <p:cNvSpPr/>
          <p:nvPr/>
        </p:nvSpPr>
        <p:spPr>
          <a:xfrm>
            <a:off x="468360" y="1989000"/>
            <a:ext cx="900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Date Placeholder 2"/>
          <p:cNvSpPr/>
          <p:nvPr/>
        </p:nvSpPr>
        <p:spPr>
          <a:xfrm>
            <a:off x="0" y="6443640"/>
            <a:ext cx="29718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ffffff"/>
                </a:solidFill>
                <a:latin typeface="Arial"/>
              </a:rPr>
              <a:t>http://parallel.vub.ac.be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ffffff"/>
                </a:solidFill>
                <a:latin typeface="Arial"/>
              </a:rPr>
              <a:t>|   pag. </a:t>
            </a:r>
            <a:fld id="{6182ADFC-BF03-4A5A-8D95-FFF6649DA83D}" type="slidenum">
              <a:rPr b="0" lang="nl-B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Box 1"/>
          <p:cNvSpPr/>
          <p:nvPr/>
        </p:nvSpPr>
        <p:spPr>
          <a:xfrm>
            <a:off x="431640" y="1471680"/>
            <a:ext cx="88776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PROCEDUR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disposeList(myList: ptrList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VA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temp: ptrLis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BEG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WHI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myList # NIL </a:t>
            </a: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mp = myLis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yList = myList.nex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POSE(temp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EN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EN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disposeLis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VA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funnyList: ptrLis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BEG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poseList(funnyList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2"/>
          <p:cNvSpPr/>
          <p:nvPr/>
        </p:nvSpPr>
        <p:spPr>
          <a:xfrm>
            <a:off x="3657600" y="4470480"/>
            <a:ext cx="647640" cy="2887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bcbcbc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em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8"/>
          <p:cNvSpPr/>
          <p:nvPr/>
        </p:nvSpPr>
        <p:spPr>
          <a:xfrm>
            <a:off x="4884840" y="4467240"/>
            <a:ext cx="647640" cy="287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bcbcbc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em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9"/>
          <p:cNvSpPr/>
          <p:nvPr/>
        </p:nvSpPr>
        <p:spPr>
          <a:xfrm>
            <a:off x="6105600" y="4454640"/>
            <a:ext cx="647640" cy="287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bcbcbc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em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10"/>
          <p:cNvSpPr/>
          <p:nvPr/>
        </p:nvSpPr>
        <p:spPr>
          <a:xfrm>
            <a:off x="7184880" y="4454640"/>
            <a:ext cx="648000" cy="287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bcbcbc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em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1" name="Straight Arrow Connector 4"/>
          <p:cNvCxnSpPr>
            <a:stCxn id="237" idx="3"/>
            <a:endCxn id="238" idx="1"/>
          </p:cNvCxnSpPr>
          <p:nvPr/>
        </p:nvCxnSpPr>
        <p:spPr>
          <a:xfrm flipV="1">
            <a:off x="4305240" y="4609440"/>
            <a:ext cx="58032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42" name="Straight Arrow Connector 12"/>
          <p:cNvCxnSpPr>
            <a:endCxn id="240" idx="1"/>
          </p:cNvCxnSpPr>
          <p:nvPr/>
        </p:nvCxnSpPr>
        <p:spPr>
          <a:xfrm flipV="1">
            <a:off x="6752880" y="4596840"/>
            <a:ext cx="432360" cy="13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43" name="Straight Arrow Connector 13"/>
          <p:cNvCxnSpPr>
            <a:stCxn id="238" idx="3"/>
            <a:endCxn id="239" idx="1"/>
          </p:cNvCxnSpPr>
          <p:nvPr/>
        </p:nvCxnSpPr>
        <p:spPr>
          <a:xfrm flipV="1">
            <a:off x="5532480" y="4596840"/>
            <a:ext cx="573840" cy="13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aphicFrame>
        <p:nvGraphicFramePr>
          <p:cNvPr id="244" name=""/>
          <p:cNvGraphicFramePr/>
          <p:nvPr/>
        </p:nvGraphicFramePr>
        <p:xfrm>
          <a:off x="8459640" y="4235400"/>
          <a:ext cx="1008360" cy="1484280"/>
        </p:xfrm>
        <a:graphic>
          <a:graphicData uri="http://schemas.openxmlformats.org/drawingml/2006/table">
            <a:tbl>
              <a:tblPr/>
              <a:tblGrid>
                <a:gridCol w="100836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em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eb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em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ebe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em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eb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em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ebe"/>
                    </a:solidFill>
                  </a:tcPr>
                </a:tc>
              </a:tr>
            </a:tbl>
          </a:graphicData>
        </a:graphic>
      </p:graphicFrame>
      <p:cxnSp>
        <p:nvCxnSpPr>
          <p:cNvPr id="245" name="Straight Arrow Connector 5"/>
          <p:cNvCxnSpPr/>
          <p:nvPr/>
        </p:nvCxnSpPr>
        <p:spPr>
          <a:xfrm flipV="1">
            <a:off x="2612880" y="5084280"/>
            <a:ext cx="1045440" cy="28944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46" name="TextBox 15"/>
          <p:cNvSpPr/>
          <p:nvPr/>
        </p:nvSpPr>
        <p:spPr>
          <a:xfrm>
            <a:off x="8193240" y="3716280"/>
            <a:ext cx="1368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Geheugen vrij gegeven!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7" name="Elbow Connector 7"/>
          <p:cNvCxnSpPr>
            <a:endCxn id="237" idx="0"/>
          </p:cNvCxnSpPr>
          <p:nvPr/>
        </p:nvCxnSpPr>
        <p:spPr>
          <a:xfrm>
            <a:off x="1496880" y="4147920"/>
            <a:ext cx="2485440" cy="322920"/>
          </a:xfrm>
          <a:prstGeom prst="bentConnector2">
            <a:avLst/>
          </a:prstGeom>
          <a:ln w="25560">
            <a:solidFill>
              <a:srgbClr val="00b0f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119400" y="-9720"/>
            <a:ext cx="6786720" cy="160812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TOPIC O: Pointer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Box 3"/>
          <p:cNvSpPr/>
          <p:nvPr/>
        </p:nvSpPr>
        <p:spPr>
          <a:xfrm>
            <a:off x="468360" y="1989000"/>
            <a:ext cx="900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Date Placeholder 2"/>
          <p:cNvSpPr/>
          <p:nvPr/>
        </p:nvSpPr>
        <p:spPr>
          <a:xfrm>
            <a:off x="0" y="6443640"/>
            <a:ext cx="29718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ffffff"/>
                </a:solidFill>
                <a:latin typeface="Arial"/>
              </a:rPr>
              <a:t>http://parallel.vub.ac.be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ffffff"/>
                </a:solidFill>
                <a:latin typeface="Arial"/>
              </a:rPr>
              <a:t>|   pag. </a:t>
            </a:r>
            <a:fld id="{716A428E-1969-4C44-A1AF-9B189C4187AB}" type="slidenum">
              <a:rPr b="0" lang="nl-B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Box 1"/>
          <p:cNvSpPr/>
          <p:nvPr/>
        </p:nvSpPr>
        <p:spPr>
          <a:xfrm>
            <a:off x="431640" y="1471680"/>
            <a:ext cx="8877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PROCEDUR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disposeList(myList: ptrList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VA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temp: ptrLis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BEG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WHI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myList # NIL </a:t>
            </a: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mp = myLis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yList = myList.nex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POSE(temp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EN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EN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disposeLis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VA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funnyList: ptrLis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BEG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poseList(funnyList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NewItem(funnyList, newFunnything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ectangle 2"/>
          <p:cNvSpPr/>
          <p:nvPr/>
        </p:nvSpPr>
        <p:spPr>
          <a:xfrm>
            <a:off x="2905200" y="4454640"/>
            <a:ext cx="647640" cy="287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bcbcbc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em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Rectangle 8"/>
          <p:cNvSpPr/>
          <p:nvPr/>
        </p:nvSpPr>
        <p:spPr>
          <a:xfrm>
            <a:off x="4133880" y="4449600"/>
            <a:ext cx="647640" cy="2890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bcbcbc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em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9"/>
          <p:cNvSpPr/>
          <p:nvPr/>
        </p:nvSpPr>
        <p:spPr>
          <a:xfrm>
            <a:off x="5353200" y="4437000"/>
            <a:ext cx="649080" cy="287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bcbcbc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em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10"/>
          <p:cNvSpPr/>
          <p:nvPr/>
        </p:nvSpPr>
        <p:spPr>
          <a:xfrm>
            <a:off x="6434280" y="4437000"/>
            <a:ext cx="647640" cy="287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bcbcbc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em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6" name="Straight Arrow Connector 4"/>
          <p:cNvCxnSpPr>
            <a:stCxn id="252" idx="3"/>
            <a:endCxn id="253" idx="1"/>
          </p:cNvCxnSpPr>
          <p:nvPr/>
        </p:nvCxnSpPr>
        <p:spPr>
          <a:xfrm flipV="1">
            <a:off x="3552840" y="4593600"/>
            <a:ext cx="581400" cy="3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57" name="Straight Arrow Connector 12"/>
          <p:cNvCxnSpPr>
            <a:endCxn id="255" idx="1"/>
          </p:cNvCxnSpPr>
          <p:nvPr/>
        </p:nvCxnSpPr>
        <p:spPr>
          <a:xfrm flipV="1">
            <a:off x="6002280" y="4581000"/>
            <a:ext cx="432720" cy="13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58" name="Straight Arrow Connector 13"/>
          <p:cNvCxnSpPr>
            <a:stCxn id="253" idx="3"/>
            <a:endCxn id="254" idx="1"/>
          </p:cNvCxnSpPr>
          <p:nvPr/>
        </p:nvCxnSpPr>
        <p:spPr>
          <a:xfrm flipV="1">
            <a:off x="4781520" y="4581000"/>
            <a:ext cx="572400" cy="13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aphicFrame>
        <p:nvGraphicFramePr>
          <p:cNvPr id="259" name=""/>
          <p:cNvGraphicFramePr/>
          <p:nvPr/>
        </p:nvGraphicFramePr>
        <p:xfrm>
          <a:off x="8459640" y="4235400"/>
          <a:ext cx="1008360" cy="1484280"/>
        </p:xfrm>
        <a:graphic>
          <a:graphicData uri="http://schemas.openxmlformats.org/drawingml/2006/table">
            <a:tbl>
              <a:tblPr/>
              <a:tblGrid>
                <a:gridCol w="100836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em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eb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em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ebe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em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eb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em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</a:tr>
            </a:tbl>
          </a:graphicData>
        </a:graphic>
      </p:graphicFrame>
      <p:cxnSp>
        <p:nvCxnSpPr>
          <p:cNvPr id="260" name="Straight Arrow Connector 5"/>
          <p:cNvCxnSpPr/>
          <p:nvPr/>
        </p:nvCxnSpPr>
        <p:spPr>
          <a:xfrm flipV="1">
            <a:off x="4362120" y="5157000"/>
            <a:ext cx="1080" cy="64836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61" name="Elbow Connector 16"/>
          <p:cNvCxnSpPr/>
          <p:nvPr/>
        </p:nvCxnSpPr>
        <p:spPr>
          <a:xfrm>
            <a:off x="1496520" y="4147920"/>
            <a:ext cx="1732680" cy="162360"/>
          </a:xfrm>
          <a:prstGeom prst="bentConnector3">
            <a:avLst>
              <a:gd name="adj1" fmla="val 100124"/>
            </a:avLst>
          </a:prstGeom>
          <a:ln w="25560">
            <a:solidFill>
              <a:srgbClr val="00b0f0"/>
            </a:solidFill>
            <a:miter/>
            <a:tailEnd len="med" type="arrow" w="med"/>
          </a:ln>
        </p:spPr>
      </p:cxnSp>
      <p:sp>
        <p:nvSpPr>
          <p:cNvPr id="262" name="Rectangle 22"/>
          <p:cNvSpPr/>
          <p:nvPr/>
        </p:nvSpPr>
        <p:spPr>
          <a:xfrm>
            <a:off x="7529400" y="4454640"/>
            <a:ext cx="647640" cy="287280"/>
          </a:xfrm>
          <a:prstGeom prst="rect">
            <a:avLst/>
          </a:prstGeom>
          <a:solidFill>
            <a:srgbClr val="abb20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Item 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3" name="Straight Arrow Connector 26"/>
          <p:cNvCxnSpPr/>
          <p:nvPr/>
        </p:nvCxnSpPr>
        <p:spPr>
          <a:xfrm flipV="1">
            <a:off x="7081560" y="4568040"/>
            <a:ext cx="432360" cy="13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119400" y="-9720"/>
            <a:ext cx="6786720" cy="160812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TOPIC O: Pointer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TextBox 3"/>
          <p:cNvSpPr/>
          <p:nvPr/>
        </p:nvSpPr>
        <p:spPr>
          <a:xfrm>
            <a:off x="468360" y="1989000"/>
            <a:ext cx="900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Date Placeholder 2"/>
          <p:cNvSpPr/>
          <p:nvPr/>
        </p:nvSpPr>
        <p:spPr>
          <a:xfrm>
            <a:off x="0" y="6443640"/>
            <a:ext cx="29718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ffffff"/>
                </a:solidFill>
                <a:latin typeface="Arial"/>
              </a:rPr>
              <a:t>http://parallel.vub.ac.be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ffffff"/>
                </a:solidFill>
                <a:latin typeface="Arial"/>
              </a:rPr>
              <a:t>|   pag. </a:t>
            </a:r>
            <a:fld id="{252B6918-9859-4940-8287-1F8E04219BA1}" type="slidenum">
              <a:rPr b="0" lang="nl-B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Box 1"/>
          <p:cNvSpPr/>
          <p:nvPr/>
        </p:nvSpPr>
        <p:spPr>
          <a:xfrm>
            <a:off x="431640" y="1471680"/>
            <a:ext cx="8877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PROCEDUR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disposeList(myList: ptrList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VA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temp: ptrLis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BEG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WHI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myList # NIL </a:t>
            </a: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mp = myLis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yList = myList.nex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POSE(temp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EN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EN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disposeLis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VA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funnyList: ptrLis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BEG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poseList(funnyList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NewItem(funnyList, newFunnything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Rectangle 2"/>
          <p:cNvSpPr/>
          <p:nvPr/>
        </p:nvSpPr>
        <p:spPr>
          <a:xfrm>
            <a:off x="2905200" y="4454640"/>
            <a:ext cx="647640" cy="287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bcbcbc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em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Rectangle 8"/>
          <p:cNvSpPr/>
          <p:nvPr/>
        </p:nvSpPr>
        <p:spPr>
          <a:xfrm>
            <a:off x="4133880" y="4449600"/>
            <a:ext cx="647640" cy="2890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bcbcbc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em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Rectangle 9"/>
          <p:cNvSpPr/>
          <p:nvPr/>
        </p:nvSpPr>
        <p:spPr>
          <a:xfrm>
            <a:off x="5353200" y="4437000"/>
            <a:ext cx="649080" cy="287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bcbcbc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em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Rectangle 10"/>
          <p:cNvSpPr/>
          <p:nvPr/>
        </p:nvSpPr>
        <p:spPr>
          <a:xfrm>
            <a:off x="6434280" y="4437000"/>
            <a:ext cx="647640" cy="287280"/>
          </a:xfrm>
          <a:prstGeom prst="rect">
            <a:avLst/>
          </a:prstGeom>
          <a:solidFill>
            <a:srgbClr val="abb20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em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2" name="Straight Arrow Connector 4"/>
          <p:cNvCxnSpPr>
            <a:stCxn id="268" idx="3"/>
            <a:endCxn id="269" idx="1"/>
          </p:cNvCxnSpPr>
          <p:nvPr/>
        </p:nvCxnSpPr>
        <p:spPr>
          <a:xfrm flipV="1">
            <a:off x="3552840" y="4593600"/>
            <a:ext cx="581400" cy="3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73" name="Straight Arrow Connector 12"/>
          <p:cNvCxnSpPr>
            <a:endCxn id="271" idx="1"/>
          </p:cNvCxnSpPr>
          <p:nvPr/>
        </p:nvCxnSpPr>
        <p:spPr>
          <a:xfrm flipV="1">
            <a:off x="6002280" y="4581000"/>
            <a:ext cx="432720" cy="13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74" name="Straight Arrow Connector 13"/>
          <p:cNvCxnSpPr>
            <a:stCxn id="269" idx="3"/>
            <a:endCxn id="270" idx="1"/>
          </p:cNvCxnSpPr>
          <p:nvPr/>
        </p:nvCxnSpPr>
        <p:spPr>
          <a:xfrm flipV="1">
            <a:off x="4781520" y="4581000"/>
            <a:ext cx="572400" cy="13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aphicFrame>
        <p:nvGraphicFramePr>
          <p:cNvPr id="275" name=""/>
          <p:cNvGraphicFramePr/>
          <p:nvPr/>
        </p:nvGraphicFramePr>
        <p:xfrm>
          <a:off x="8459640" y="4235400"/>
          <a:ext cx="1008360" cy="1484280"/>
        </p:xfrm>
        <a:graphic>
          <a:graphicData uri="http://schemas.openxmlformats.org/drawingml/2006/table">
            <a:tbl>
              <a:tblPr/>
              <a:tblGrid>
                <a:gridCol w="100836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em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eb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em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ebe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em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eb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em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</a:tr>
            </a:tbl>
          </a:graphicData>
        </a:graphic>
      </p:graphicFrame>
      <p:cxnSp>
        <p:nvCxnSpPr>
          <p:cNvPr id="276" name="Straight Arrow Connector 5"/>
          <p:cNvCxnSpPr/>
          <p:nvPr/>
        </p:nvCxnSpPr>
        <p:spPr>
          <a:xfrm flipV="1">
            <a:off x="4362120" y="5157000"/>
            <a:ext cx="1080" cy="64836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77" name="Elbow Connector 16"/>
          <p:cNvCxnSpPr/>
          <p:nvPr/>
        </p:nvCxnSpPr>
        <p:spPr>
          <a:xfrm>
            <a:off x="1496520" y="4147920"/>
            <a:ext cx="1732680" cy="162360"/>
          </a:xfrm>
          <a:prstGeom prst="bentConnector3">
            <a:avLst>
              <a:gd name="adj1" fmla="val 100124"/>
            </a:avLst>
          </a:prstGeom>
          <a:ln w="25560">
            <a:solidFill>
              <a:srgbClr val="00b0f0"/>
            </a:solidFill>
            <a:miter/>
            <a:tailEnd len="med" type="arrow" w="med"/>
          </a:ln>
        </p:spPr>
      </p:cxnSp>
      <p:sp>
        <p:nvSpPr>
          <p:cNvPr id="278" name="Rectangle 22"/>
          <p:cNvSpPr/>
          <p:nvPr/>
        </p:nvSpPr>
        <p:spPr>
          <a:xfrm>
            <a:off x="7529400" y="4454640"/>
            <a:ext cx="647640" cy="287280"/>
          </a:xfrm>
          <a:prstGeom prst="rect">
            <a:avLst/>
          </a:prstGeom>
          <a:solidFill>
            <a:srgbClr val="abb20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Item 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9" name="Straight Arrow Connector 26"/>
          <p:cNvCxnSpPr/>
          <p:nvPr/>
        </p:nvCxnSpPr>
        <p:spPr>
          <a:xfrm flipV="1">
            <a:off x="7081560" y="4568040"/>
            <a:ext cx="432360" cy="13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80" name="TextBox 3"/>
          <p:cNvSpPr/>
          <p:nvPr/>
        </p:nvSpPr>
        <p:spPr>
          <a:xfrm>
            <a:off x="5457960" y="2773440"/>
            <a:ext cx="316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ar Item 4 = Item 5 in geheu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119400" y="-9720"/>
            <a:ext cx="6786720" cy="160812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TOPIC O: Pointer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TextBox 3"/>
          <p:cNvSpPr/>
          <p:nvPr/>
        </p:nvSpPr>
        <p:spPr>
          <a:xfrm>
            <a:off x="468360" y="1989000"/>
            <a:ext cx="900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Date Placeholder 2"/>
          <p:cNvSpPr/>
          <p:nvPr/>
        </p:nvSpPr>
        <p:spPr>
          <a:xfrm>
            <a:off x="0" y="6443640"/>
            <a:ext cx="29718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ffffff"/>
                </a:solidFill>
                <a:latin typeface="Arial"/>
              </a:rPr>
              <a:t>http://parallel.vub.ac.be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ffffff"/>
                </a:solidFill>
                <a:latin typeface="Arial"/>
              </a:rPr>
              <a:t>|   pag. </a:t>
            </a:r>
            <a:fld id="{A86E4B2A-CE4D-4EC5-9857-C808B54783FF}" type="slidenum">
              <a:rPr b="0" lang="nl-B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Box 1"/>
          <p:cNvSpPr/>
          <p:nvPr/>
        </p:nvSpPr>
        <p:spPr>
          <a:xfrm>
            <a:off x="431640" y="1471680"/>
            <a:ext cx="8877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PROCEDUR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disposeList(myList: ptrList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VA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temp: ptrLis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BEG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WHI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myList # NIL </a:t>
            </a: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mp = myLis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yList = myList.nex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POSE(temp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EN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EN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disposeLis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VA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funnyList: ptrLis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BEG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poseList(funnyList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NewItem(funnyList, newFunnything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Rectangle 2"/>
          <p:cNvSpPr/>
          <p:nvPr/>
        </p:nvSpPr>
        <p:spPr>
          <a:xfrm>
            <a:off x="2905200" y="4454640"/>
            <a:ext cx="647640" cy="287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bcbcbc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em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Rectangle 8"/>
          <p:cNvSpPr/>
          <p:nvPr/>
        </p:nvSpPr>
        <p:spPr>
          <a:xfrm>
            <a:off x="4133880" y="4449600"/>
            <a:ext cx="647640" cy="2890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bcbcbc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em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Rectangle 9"/>
          <p:cNvSpPr/>
          <p:nvPr/>
        </p:nvSpPr>
        <p:spPr>
          <a:xfrm>
            <a:off x="5353200" y="4437000"/>
            <a:ext cx="649080" cy="287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bcbcbc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em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Rectangle 10"/>
          <p:cNvSpPr/>
          <p:nvPr/>
        </p:nvSpPr>
        <p:spPr>
          <a:xfrm>
            <a:off x="6434280" y="4437000"/>
            <a:ext cx="647640" cy="287280"/>
          </a:xfrm>
          <a:prstGeom prst="rect">
            <a:avLst/>
          </a:prstGeom>
          <a:solidFill>
            <a:srgbClr val="abb20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em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9" name="Straight Arrow Connector 4"/>
          <p:cNvCxnSpPr>
            <a:stCxn id="285" idx="3"/>
            <a:endCxn id="286" idx="1"/>
          </p:cNvCxnSpPr>
          <p:nvPr/>
        </p:nvCxnSpPr>
        <p:spPr>
          <a:xfrm flipV="1">
            <a:off x="3552840" y="4593600"/>
            <a:ext cx="581400" cy="3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90" name="Straight Arrow Connector 12"/>
          <p:cNvCxnSpPr>
            <a:endCxn id="288" idx="1"/>
          </p:cNvCxnSpPr>
          <p:nvPr/>
        </p:nvCxnSpPr>
        <p:spPr>
          <a:xfrm flipV="1">
            <a:off x="6002280" y="4581000"/>
            <a:ext cx="432720" cy="13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91" name="Straight Arrow Connector 13"/>
          <p:cNvCxnSpPr>
            <a:stCxn id="286" idx="3"/>
            <a:endCxn id="287" idx="1"/>
          </p:cNvCxnSpPr>
          <p:nvPr/>
        </p:nvCxnSpPr>
        <p:spPr>
          <a:xfrm flipV="1">
            <a:off x="4781520" y="4581000"/>
            <a:ext cx="572400" cy="13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aphicFrame>
        <p:nvGraphicFramePr>
          <p:cNvPr id="292" name=""/>
          <p:cNvGraphicFramePr/>
          <p:nvPr/>
        </p:nvGraphicFramePr>
        <p:xfrm>
          <a:off x="8459640" y="4235400"/>
          <a:ext cx="1008360" cy="1484280"/>
        </p:xfrm>
        <a:graphic>
          <a:graphicData uri="http://schemas.openxmlformats.org/drawingml/2006/table">
            <a:tbl>
              <a:tblPr/>
              <a:tblGrid>
                <a:gridCol w="100836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em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eb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em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ebe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em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eb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em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</a:tr>
            </a:tbl>
          </a:graphicData>
        </a:graphic>
      </p:graphicFrame>
      <p:cxnSp>
        <p:nvCxnSpPr>
          <p:cNvPr id="293" name="Straight Arrow Connector 5"/>
          <p:cNvCxnSpPr/>
          <p:nvPr/>
        </p:nvCxnSpPr>
        <p:spPr>
          <a:xfrm flipV="1">
            <a:off x="4362120" y="5157000"/>
            <a:ext cx="1080" cy="64836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94" name="Elbow Connector 16"/>
          <p:cNvCxnSpPr/>
          <p:nvPr/>
        </p:nvCxnSpPr>
        <p:spPr>
          <a:xfrm>
            <a:off x="1496520" y="4147920"/>
            <a:ext cx="1732680" cy="162360"/>
          </a:xfrm>
          <a:prstGeom prst="bentConnector3">
            <a:avLst>
              <a:gd name="adj1" fmla="val 100124"/>
            </a:avLst>
          </a:prstGeom>
          <a:ln w="25560">
            <a:solidFill>
              <a:srgbClr val="00b0f0"/>
            </a:solidFill>
            <a:miter/>
            <a:tailEnd len="med" type="arrow" w="med"/>
          </a:ln>
        </p:spPr>
      </p:cxnSp>
      <p:sp>
        <p:nvSpPr>
          <p:cNvPr id="295" name="TextBox 3"/>
          <p:cNvSpPr/>
          <p:nvPr/>
        </p:nvSpPr>
        <p:spPr>
          <a:xfrm>
            <a:off x="5457960" y="2773440"/>
            <a:ext cx="316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ar Item 4 = Item 5 in geheu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6" name="Elbow Connector 7"/>
          <p:cNvCxnSpPr>
            <a:stCxn id="288" idx="2"/>
          </p:cNvCxnSpPr>
          <p:nvPr/>
        </p:nvCxnSpPr>
        <p:spPr>
          <a:xfrm rot="5400000">
            <a:off x="6270480" y="4671000"/>
            <a:ext cx="434160" cy="540360"/>
          </a:xfrm>
          <a:prstGeom prst="bentConnector2">
            <a:avLst/>
          </a:prstGeom>
          <a:ln w="25560">
            <a:solidFill>
              <a:srgbClr val="ff0000"/>
            </a:solidFill>
            <a:miter/>
          </a:ln>
        </p:spPr>
      </p:cxnSp>
      <p:cxnSp>
        <p:nvCxnSpPr>
          <p:cNvPr id="297" name="Elbow Connector 17"/>
          <p:cNvCxnSpPr>
            <a:endCxn id="287" idx="2"/>
          </p:cNvCxnSpPr>
          <p:nvPr/>
        </p:nvCxnSpPr>
        <p:spPr>
          <a:xfrm rot="10800000">
            <a:off x="5676120" y="4723560"/>
            <a:ext cx="542160" cy="434160"/>
          </a:xfrm>
          <a:prstGeom prst="bentConnector2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119400" y="-9720"/>
            <a:ext cx="6786720" cy="160812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TOPIC O: Pointer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TextBox 3"/>
          <p:cNvSpPr/>
          <p:nvPr/>
        </p:nvSpPr>
        <p:spPr>
          <a:xfrm>
            <a:off x="468360" y="1989000"/>
            <a:ext cx="900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Date Placeholder 2"/>
          <p:cNvSpPr/>
          <p:nvPr/>
        </p:nvSpPr>
        <p:spPr>
          <a:xfrm>
            <a:off x="0" y="6443640"/>
            <a:ext cx="29718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ffffff"/>
                </a:solidFill>
                <a:latin typeface="Arial"/>
              </a:rPr>
              <a:t>http://parallel.vub.ac.be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ffffff"/>
                </a:solidFill>
                <a:latin typeface="Arial"/>
              </a:rPr>
              <a:t>|   pag. </a:t>
            </a:r>
            <a:fld id="{2102F449-3A0A-43F0-8652-3094EFDA33B8}" type="slidenum">
              <a:rPr b="0" lang="nl-B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Box 1"/>
          <p:cNvSpPr/>
          <p:nvPr/>
        </p:nvSpPr>
        <p:spPr>
          <a:xfrm>
            <a:off x="431640" y="1471680"/>
            <a:ext cx="8877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PROCEDUR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disposeList(myList: ptrList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VA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temp: ptrLis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BEG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WHI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myList # NIL </a:t>
            </a: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mp = myLis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yList = myList.nex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POSE(temp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EN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EN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disposeLis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VA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funnyList: ptrLis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BEG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poseList(funnyList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NewItem(funnyList, newFunnything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Rectangle 2"/>
          <p:cNvSpPr/>
          <p:nvPr/>
        </p:nvSpPr>
        <p:spPr>
          <a:xfrm>
            <a:off x="3657600" y="4470480"/>
            <a:ext cx="647640" cy="2887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bcbcbc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em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8"/>
          <p:cNvSpPr/>
          <p:nvPr/>
        </p:nvSpPr>
        <p:spPr>
          <a:xfrm>
            <a:off x="4884840" y="4467240"/>
            <a:ext cx="647640" cy="287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bcbcbc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em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Rectangle 9"/>
          <p:cNvSpPr/>
          <p:nvPr/>
        </p:nvSpPr>
        <p:spPr>
          <a:xfrm>
            <a:off x="6105600" y="4454640"/>
            <a:ext cx="647640" cy="287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bcbcbc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em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tangle 10"/>
          <p:cNvSpPr/>
          <p:nvPr/>
        </p:nvSpPr>
        <p:spPr>
          <a:xfrm>
            <a:off x="7184880" y="4454640"/>
            <a:ext cx="648000" cy="287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bcbcbc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em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6" name="Straight Arrow Connector 4"/>
          <p:cNvCxnSpPr>
            <a:stCxn id="302" idx="3"/>
            <a:endCxn id="303" idx="1"/>
          </p:cNvCxnSpPr>
          <p:nvPr/>
        </p:nvCxnSpPr>
        <p:spPr>
          <a:xfrm flipV="1">
            <a:off x="4305240" y="4609440"/>
            <a:ext cx="58032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07" name="Straight Arrow Connector 12"/>
          <p:cNvCxnSpPr>
            <a:endCxn id="305" idx="1"/>
          </p:cNvCxnSpPr>
          <p:nvPr/>
        </p:nvCxnSpPr>
        <p:spPr>
          <a:xfrm flipV="1">
            <a:off x="6752880" y="4596840"/>
            <a:ext cx="432360" cy="13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08" name="Straight Arrow Connector 13"/>
          <p:cNvCxnSpPr>
            <a:stCxn id="303" idx="3"/>
            <a:endCxn id="304" idx="1"/>
          </p:cNvCxnSpPr>
          <p:nvPr/>
        </p:nvCxnSpPr>
        <p:spPr>
          <a:xfrm flipV="1">
            <a:off x="5532480" y="4596840"/>
            <a:ext cx="573840" cy="13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aphicFrame>
        <p:nvGraphicFramePr>
          <p:cNvPr id="309" name=""/>
          <p:cNvGraphicFramePr/>
          <p:nvPr/>
        </p:nvGraphicFramePr>
        <p:xfrm>
          <a:off x="8459640" y="4235400"/>
          <a:ext cx="1008360" cy="1484280"/>
        </p:xfrm>
        <a:graphic>
          <a:graphicData uri="http://schemas.openxmlformats.org/drawingml/2006/table">
            <a:tbl>
              <a:tblPr/>
              <a:tblGrid>
                <a:gridCol w="100836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em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eb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em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ebe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em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eb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em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</a:tr>
            </a:tbl>
          </a:graphicData>
        </a:graphic>
      </p:graphicFrame>
      <p:cxnSp>
        <p:nvCxnSpPr>
          <p:cNvPr id="310" name="Straight Arrow Connector 5"/>
          <p:cNvCxnSpPr/>
          <p:nvPr/>
        </p:nvCxnSpPr>
        <p:spPr>
          <a:xfrm flipV="1">
            <a:off x="4362120" y="5157000"/>
            <a:ext cx="1080" cy="64836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11" name="Elbow Connector 16"/>
          <p:cNvCxnSpPr/>
          <p:nvPr/>
        </p:nvCxnSpPr>
        <p:spPr>
          <a:xfrm>
            <a:off x="1496880" y="4147920"/>
            <a:ext cx="2485440" cy="322920"/>
          </a:xfrm>
          <a:prstGeom prst="bentConnector2">
            <a:avLst/>
          </a:prstGeom>
          <a:ln w="25560">
            <a:solidFill>
              <a:srgbClr val="00b0f0"/>
            </a:solidFill>
            <a:miter/>
            <a:tailEnd len="med" type="arrow" w="med"/>
          </a:ln>
        </p:spPr>
      </p:cxnSp>
      <p:cxnSp>
        <p:nvCxnSpPr>
          <p:cNvPr id="312" name="Elbow Connector 7"/>
          <p:cNvCxnSpPr>
            <a:stCxn id="305" idx="2"/>
          </p:cNvCxnSpPr>
          <p:nvPr/>
        </p:nvCxnSpPr>
        <p:spPr>
          <a:xfrm rot="5400000">
            <a:off x="6922440" y="4571640"/>
            <a:ext cx="416520" cy="756360"/>
          </a:xfrm>
          <a:prstGeom prst="bentConnector2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313" name="Elbow Connector 14"/>
          <p:cNvCxnSpPr>
            <a:endCxn id="304" idx="2"/>
          </p:cNvCxnSpPr>
          <p:nvPr/>
        </p:nvCxnSpPr>
        <p:spPr>
          <a:xfrm flipV="1" rot="16200000">
            <a:off x="6382800" y="4786920"/>
            <a:ext cx="416520" cy="324720"/>
          </a:xfrm>
          <a:prstGeom prst="bentConnector3">
            <a:avLst>
              <a:gd name="adj1" fmla="val -1297"/>
            </a:avLst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14" name="TextBox 3"/>
          <p:cNvSpPr/>
          <p:nvPr/>
        </p:nvSpPr>
        <p:spPr>
          <a:xfrm>
            <a:off x="5384880" y="2773440"/>
            <a:ext cx="40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ORRUPT GEHEUGEN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119400" y="-9720"/>
            <a:ext cx="6786720" cy="160812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TOPIC O: Pointer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Box 3"/>
          <p:cNvSpPr/>
          <p:nvPr/>
        </p:nvSpPr>
        <p:spPr>
          <a:xfrm>
            <a:off x="468360" y="1989000"/>
            <a:ext cx="900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Date Placeholder 2"/>
          <p:cNvSpPr/>
          <p:nvPr/>
        </p:nvSpPr>
        <p:spPr>
          <a:xfrm>
            <a:off x="0" y="6443640"/>
            <a:ext cx="29718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parallel.vub.ac.be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ffffff"/>
                </a:solidFill>
                <a:latin typeface="Arial"/>
              </a:rPr>
              <a:t>|   pag. </a:t>
            </a:r>
            <a:fld id="{EC999495-B4E0-4C69-9675-F72E6542F996}" type="slidenum">
              <a:rPr b="0" lang="nl-B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9"/>
          <p:cNvSpPr/>
          <p:nvPr/>
        </p:nvSpPr>
        <p:spPr>
          <a:xfrm>
            <a:off x="631800" y="1559880"/>
            <a:ext cx="9074160" cy="49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00000"/>
                </a:solidFill>
                <a:latin typeface="Times New Roman"/>
              </a:rPr>
              <a:t>MODULE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PointerIntro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* M2EXTENSIONS + *&gt; &lt;* STORAGE + *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c00000"/>
                </a:solidFill>
                <a:latin typeface="Times New Roman"/>
              </a:rPr>
              <a:t>TYP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type = </a:t>
            </a:r>
            <a:r>
              <a:rPr b="1" lang="en-US" sz="1000" spc="-1" strike="noStrike">
                <a:solidFill>
                  <a:srgbClr val="c00000"/>
                </a:solidFill>
                <a:latin typeface="Times New Roman"/>
              </a:rPr>
              <a:t>POINTER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c00000"/>
                </a:solidFill>
                <a:latin typeface="Times New Roman"/>
              </a:rPr>
              <a:t>TO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c00000"/>
                </a:solidFill>
                <a:latin typeface="Times New Roman"/>
              </a:rPr>
              <a:t>RECORD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eerste: CARDINAL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weede: </a:t>
            </a:r>
            <a:r>
              <a:rPr b="1" lang="en-US" sz="1000" spc="-1" strike="noStrike">
                <a:solidFill>
                  <a:srgbClr val="c00000"/>
                </a:solidFill>
                <a:latin typeface="Times New Roman"/>
              </a:rPr>
              <a:t>ARRAY[1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.10],[1..10] </a:t>
            </a:r>
            <a:r>
              <a:rPr b="1" lang="en-US" sz="1000" spc="-1" strike="noStrike">
                <a:solidFill>
                  <a:srgbClr val="c00000"/>
                </a:solidFill>
                <a:latin typeface="Times New Roman"/>
              </a:rPr>
              <a:t>OF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c00000"/>
                </a:solidFill>
                <a:latin typeface="Times New Roman"/>
              </a:rPr>
              <a:t>RECORD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knal: CARDINAL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oem: </a:t>
            </a:r>
            <a:r>
              <a:rPr b="1" lang="en-US" sz="1000" spc="-1" strike="noStrike">
                <a:solidFill>
                  <a:srgbClr val="c00000"/>
                </a:solidFill>
                <a:latin typeface="Times New Roman"/>
              </a:rPr>
              <a:t>POINTER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c00000"/>
                </a:solidFill>
                <a:latin typeface="Times New Roman"/>
              </a:rPr>
              <a:t>TO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c00000"/>
                </a:solidFill>
                <a:latin typeface="Times New Roman"/>
              </a:rPr>
              <a:t>ARRAY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c00000"/>
                </a:solidFill>
                <a:latin typeface="Times New Roman"/>
              </a:rPr>
              <a:t>OF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CARDINAL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1000" spc="-1" strike="noStrike">
                <a:solidFill>
                  <a:srgbClr val="c00000"/>
                </a:solidFill>
                <a:latin typeface="Times New Roman"/>
              </a:rPr>
              <a:t>END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1000" spc="-1" strike="noStrike">
                <a:solidFill>
                  <a:srgbClr val="c00000"/>
                </a:solidFill>
                <a:latin typeface="Times New Roman"/>
              </a:rPr>
              <a:t>END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00000"/>
                </a:solidFill>
                <a:latin typeface="Times New Roman"/>
              </a:rPr>
              <a:t>V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: mytype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,j: INTEGER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00000"/>
                </a:solidFill>
                <a:latin typeface="Times New Roman"/>
              </a:rPr>
              <a:t>BEG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NEW(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^.eerste := 101;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^.tweede[5][8].knal := 102;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NEW(p^.tweede[5][8].boem,15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^.tweede[5][8].boem^[10] := 103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rCard(p^.eerste,2);WrLn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rCard(p^.tweede[5][8].knal,2);WrLn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rCard(p^.tweede[5][8].boem^[10],2);WrLn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ISPOSE(p^.tweede[5][8].boem);  (* ALLE dynamisch aangemaakte variabelen (dmv NEW()) moeten gedisposed worden! *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ISPOSE(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00000"/>
                </a:solidFill>
                <a:latin typeface="Times New Roman"/>
              </a:rPr>
              <a:t>END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PointerIntr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Box 5"/>
          <p:cNvSpPr/>
          <p:nvPr/>
        </p:nvSpPr>
        <p:spPr>
          <a:xfrm>
            <a:off x="4737240" y="3429000"/>
            <a:ext cx="3671640" cy="825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ers zijn adressen, geen geheugen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119400" y="-9720"/>
            <a:ext cx="6786720" cy="160812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TOPIC O: Pointer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Box 3"/>
          <p:cNvSpPr/>
          <p:nvPr/>
        </p:nvSpPr>
        <p:spPr>
          <a:xfrm>
            <a:off x="468360" y="1989000"/>
            <a:ext cx="900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Date Placeholder 2"/>
          <p:cNvSpPr/>
          <p:nvPr/>
        </p:nvSpPr>
        <p:spPr>
          <a:xfrm>
            <a:off x="0" y="6443640"/>
            <a:ext cx="29718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parallel.vub.ac.be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ffffff"/>
                </a:solidFill>
                <a:latin typeface="Arial"/>
              </a:rPr>
              <a:t>|   pag. </a:t>
            </a:r>
            <a:fld id="{6BF1A403-81F2-458E-BBC0-D1D2FA686BC1}" type="slidenum">
              <a:rPr b="0" lang="nl-B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631800" y="1559880"/>
            <a:ext cx="9074160" cy="49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00000"/>
                </a:solidFill>
                <a:latin typeface="Times New Roman"/>
              </a:rPr>
              <a:t>MODULE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PointerIntro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* M2EXTENSIONS + *&gt; &lt;* STORAGE + *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c00000"/>
                </a:solidFill>
                <a:latin typeface="Times New Roman"/>
              </a:rPr>
              <a:t>TYP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type = </a:t>
            </a:r>
            <a:r>
              <a:rPr b="1" lang="en-US" sz="1000" spc="-1" strike="noStrike">
                <a:solidFill>
                  <a:srgbClr val="c00000"/>
                </a:solidFill>
                <a:latin typeface="Times New Roman"/>
              </a:rPr>
              <a:t>POINTER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c00000"/>
                </a:solidFill>
                <a:latin typeface="Times New Roman"/>
              </a:rPr>
              <a:t>TO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c00000"/>
                </a:solidFill>
                <a:latin typeface="Times New Roman"/>
              </a:rPr>
              <a:t>RECORD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eerste: CARDINAL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weede: </a:t>
            </a:r>
            <a:r>
              <a:rPr b="1" lang="en-US" sz="1000" spc="-1" strike="noStrike">
                <a:solidFill>
                  <a:srgbClr val="c00000"/>
                </a:solidFill>
                <a:latin typeface="Times New Roman"/>
              </a:rPr>
              <a:t>ARRAY[1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.10],[1..10] </a:t>
            </a:r>
            <a:r>
              <a:rPr b="1" lang="en-US" sz="1000" spc="-1" strike="noStrike">
                <a:solidFill>
                  <a:srgbClr val="c00000"/>
                </a:solidFill>
                <a:latin typeface="Times New Roman"/>
              </a:rPr>
              <a:t>OF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c00000"/>
                </a:solidFill>
                <a:latin typeface="Times New Roman"/>
              </a:rPr>
              <a:t>RECORD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knal: CARDINAL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oem: </a:t>
            </a:r>
            <a:r>
              <a:rPr b="1" lang="en-US" sz="1000" spc="-1" strike="noStrike">
                <a:solidFill>
                  <a:srgbClr val="c00000"/>
                </a:solidFill>
                <a:latin typeface="Times New Roman"/>
              </a:rPr>
              <a:t>POINTER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c00000"/>
                </a:solidFill>
                <a:latin typeface="Times New Roman"/>
              </a:rPr>
              <a:t>TO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c00000"/>
                </a:solidFill>
                <a:latin typeface="Times New Roman"/>
              </a:rPr>
              <a:t>ARRAY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c00000"/>
                </a:solidFill>
                <a:latin typeface="Times New Roman"/>
              </a:rPr>
              <a:t>OF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CARDINAL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1000" spc="-1" strike="noStrike">
                <a:solidFill>
                  <a:srgbClr val="c00000"/>
                </a:solidFill>
                <a:latin typeface="Times New Roman"/>
              </a:rPr>
              <a:t>END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1000" spc="-1" strike="noStrike">
                <a:solidFill>
                  <a:srgbClr val="c00000"/>
                </a:solidFill>
                <a:latin typeface="Times New Roman"/>
              </a:rPr>
              <a:t>END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00000"/>
                </a:solidFill>
                <a:latin typeface="Times New Roman"/>
              </a:rPr>
              <a:t>V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: mytype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,j: INTEGER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00000"/>
                </a:solidFill>
                <a:latin typeface="Times New Roman"/>
              </a:rPr>
              <a:t>BEG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NEW(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^.eerste := 101;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^.tweede[5][8].knal := 102;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NEW(p^.tweede[5][8].boem,15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^.tweede[5][8].boem^[10] := 103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rCard(p^.eerste,2);WrLn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rCard(p^.tweede[5][8].knal,2);WrLn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rCard(p^.tweede[5][8].boem^[10],2);WrLn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ISPOSE(p^.tweede[5][8].boem);  (* ALLE dynamisch aangemaakte variabelen (dmv NEW()) moeten gedisposed worden! *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ISPOSE(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00000"/>
                </a:solidFill>
                <a:latin typeface="Times New Roman"/>
              </a:rPr>
              <a:t>END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PointerIntr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Box 5"/>
          <p:cNvSpPr/>
          <p:nvPr/>
        </p:nvSpPr>
        <p:spPr>
          <a:xfrm>
            <a:off x="4737240" y="3429000"/>
            <a:ext cx="3671640" cy="11912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ers zijn adressen, geen geheugen!!!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ORDEL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119400" y="-9720"/>
            <a:ext cx="6786720" cy="160812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TOPIC O: Pointer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468360" y="1989000"/>
            <a:ext cx="900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Date Placeholder 2"/>
          <p:cNvSpPr/>
          <p:nvPr/>
        </p:nvSpPr>
        <p:spPr>
          <a:xfrm>
            <a:off x="0" y="6443640"/>
            <a:ext cx="29718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parallel.vub.ac.be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ffffff"/>
                </a:solidFill>
                <a:latin typeface="Arial"/>
              </a:rPr>
              <a:t>|   pag. </a:t>
            </a:r>
            <a:fld id="{F5E69684-89B3-4470-A805-784342D5C202}" type="slidenum">
              <a:rPr b="0" lang="nl-B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9"/>
          <p:cNvSpPr/>
          <p:nvPr/>
        </p:nvSpPr>
        <p:spPr>
          <a:xfrm>
            <a:off x="631800" y="1559880"/>
            <a:ext cx="9074160" cy="49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00000"/>
                </a:solidFill>
                <a:latin typeface="Times New Roman"/>
              </a:rPr>
              <a:t>MODULE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PointerIntro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* M2EXTENSIONS + *&gt; &lt;* STORAGE + *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c00000"/>
                </a:solidFill>
                <a:latin typeface="Times New Roman"/>
              </a:rPr>
              <a:t>TYP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type = </a:t>
            </a:r>
            <a:r>
              <a:rPr b="1" lang="en-US" sz="1000" spc="-1" strike="noStrike">
                <a:solidFill>
                  <a:srgbClr val="c00000"/>
                </a:solidFill>
                <a:latin typeface="Times New Roman"/>
              </a:rPr>
              <a:t>POINTER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c00000"/>
                </a:solidFill>
                <a:latin typeface="Times New Roman"/>
              </a:rPr>
              <a:t>TO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c00000"/>
                </a:solidFill>
                <a:latin typeface="Times New Roman"/>
              </a:rPr>
              <a:t>RECORD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eerste: CARDINAL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weede: </a:t>
            </a:r>
            <a:r>
              <a:rPr b="1" lang="en-US" sz="1000" spc="-1" strike="noStrike">
                <a:solidFill>
                  <a:srgbClr val="c00000"/>
                </a:solidFill>
                <a:latin typeface="Times New Roman"/>
              </a:rPr>
              <a:t>ARRAY[1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.10],[1..10] </a:t>
            </a:r>
            <a:r>
              <a:rPr b="1" lang="en-US" sz="1000" spc="-1" strike="noStrike">
                <a:solidFill>
                  <a:srgbClr val="c00000"/>
                </a:solidFill>
                <a:latin typeface="Times New Roman"/>
              </a:rPr>
              <a:t>OF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c00000"/>
                </a:solidFill>
                <a:latin typeface="Times New Roman"/>
              </a:rPr>
              <a:t>RECORD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knal: CARDINAL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oem: </a:t>
            </a:r>
            <a:r>
              <a:rPr b="1" lang="en-US" sz="1000" spc="-1" strike="noStrike">
                <a:solidFill>
                  <a:srgbClr val="c00000"/>
                </a:solidFill>
                <a:latin typeface="Times New Roman"/>
              </a:rPr>
              <a:t>POINTER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c00000"/>
                </a:solidFill>
                <a:latin typeface="Times New Roman"/>
              </a:rPr>
              <a:t>TO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c00000"/>
                </a:solidFill>
                <a:latin typeface="Times New Roman"/>
              </a:rPr>
              <a:t>ARRAY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c00000"/>
                </a:solidFill>
                <a:latin typeface="Times New Roman"/>
              </a:rPr>
              <a:t>OF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CARDINAL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1000" spc="-1" strike="noStrike">
                <a:solidFill>
                  <a:srgbClr val="c00000"/>
                </a:solidFill>
                <a:latin typeface="Times New Roman"/>
              </a:rPr>
              <a:t>END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1000" spc="-1" strike="noStrike">
                <a:solidFill>
                  <a:srgbClr val="c00000"/>
                </a:solidFill>
                <a:latin typeface="Times New Roman"/>
              </a:rPr>
              <a:t>END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00000"/>
                </a:solidFill>
                <a:latin typeface="Times New Roman"/>
              </a:rPr>
              <a:t>V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: mytype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,j: INTEGER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00000"/>
                </a:solidFill>
                <a:latin typeface="Times New Roman"/>
              </a:rPr>
              <a:t>BEG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NEW(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^.eerste := 101;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^.tweede[5][8].knal := 102;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NEW(p^.tweede[5][8].boem,15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^.tweede[5][8].boem^[10] := 103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rCard(p^.eerste,2);WrLn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rCard(p^.tweede[5][8].knal,2);WrLn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rCard(p^.tweede[5][8].boem^[10],2);WrLn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ISPOSE(p^.tweede[5][8].boem);  (* ALLE dynamisch aangemaakte variabelen (dmv NEW()) moeten gedisposed worden! *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ISPOSE(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00000"/>
                </a:solidFill>
                <a:latin typeface="Times New Roman"/>
              </a:rPr>
              <a:t>END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PointerIntr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Box 5"/>
          <p:cNvSpPr/>
          <p:nvPr/>
        </p:nvSpPr>
        <p:spPr>
          <a:xfrm>
            <a:off x="4089240" y="3429000"/>
            <a:ext cx="5380200" cy="1922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ers zijn adressen, geen geheugen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ordel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boe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emen geen plaats in, zolang er niet expliciet geheugen voor wordt gereservee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Oval 1"/>
          <p:cNvSpPr/>
          <p:nvPr/>
        </p:nvSpPr>
        <p:spPr>
          <a:xfrm>
            <a:off x="1496880" y="3141720"/>
            <a:ext cx="863640" cy="287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Oval 2"/>
          <p:cNvSpPr/>
          <p:nvPr/>
        </p:nvSpPr>
        <p:spPr>
          <a:xfrm>
            <a:off x="6181560" y="2460600"/>
            <a:ext cx="397080" cy="2080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119400" y="-9720"/>
            <a:ext cx="6786720" cy="160812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TOPIC O: Pointer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468360" y="1989000"/>
            <a:ext cx="900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Date Placeholder 2"/>
          <p:cNvSpPr/>
          <p:nvPr/>
        </p:nvSpPr>
        <p:spPr>
          <a:xfrm>
            <a:off x="0" y="6443640"/>
            <a:ext cx="29718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parallel.vub.ac.be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ffffff"/>
                </a:solidFill>
                <a:latin typeface="Arial"/>
              </a:rPr>
              <a:t>|   pag. </a:t>
            </a:r>
            <a:fld id="{5C9E3265-0032-4BC9-A322-941C867CE42B}" type="slidenum">
              <a:rPr b="0" lang="nl-B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9"/>
          <p:cNvSpPr/>
          <p:nvPr/>
        </p:nvSpPr>
        <p:spPr>
          <a:xfrm>
            <a:off x="631800" y="1544760"/>
            <a:ext cx="9074160" cy="50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00000"/>
                </a:solidFill>
                <a:latin typeface="Times New Roman"/>
              </a:rPr>
              <a:t>MODULE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PointerIntro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* M2EXTENSIONS + *&gt; &lt;* STORAGE + *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c00000"/>
                </a:solidFill>
                <a:latin typeface="Times New Roman"/>
              </a:rPr>
              <a:t>TYP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type = </a:t>
            </a:r>
            <a:r>
              <a:rPr b="1" lang="en-US" sz="1000" spc="-1" strike="noStrike">
                <a:solidFill>
                  <a:srgbClr val="c00000"/>
                </a:solidFill>
                <a:latin typeface="Times New Roman"/>
              </a:rPr>
              <a:t>POINTER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c00000"/>
                </a:solidFill>
                <a:latin typeface="Times New Roman"/>
              </a:rPr>
              <a:t>TO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c00000"/>
                </a:solidFill>
                <a:latin typeface="Times New Roman"/>
              </a:rPr>
              <a:t>RECORD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eerste: CARDINAL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weede: </a:t>
            </a:r>
            <a:r>
              <a:rPr b="1" lang="en-US" sz="1000" spc="-1" strike="noStrike">
                <a:solidFill>
                  <a:srgbClr val="c00000"/>
                </a:solidFill>
                <a:latin typeface="Times New Roman"/>
              </a:rPr>
              <a:t>ARRAY[1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.10],[1..10] </a:t>
            </a:r>
            <a:r>
              <a:rPr b="1" lang="en-US" sz="1000" spc="-1" strike="noStrike">
                <a:solidFill>
                  <a:srgbClr val="c00000"/>
                </a:solidFill>
                <a:latin typeface="Times New Roman"/>
              </a:rPr>
              <a:t>OF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c00000"/>
                </a:solidFill>
                <a:latin typeface="Times New Roman"/>
              </a:rPr>
              <a:t>RECORD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knal: CARDINAL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oem: </a:t>
            </a:r>
            <a:r>
              <a:rPr b="1" lang="en-US" sz="1000" spc="-1" strike="noStrike">
                <a:solidFill>
                  <a:srgbClr val="c00000"/>
                </a:solidFill>
                <a:latin typeface="Times New Roman"/>
              </a:rPr>
              <a:t>POINTER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c00000"/>
                </a:solidFill>
                <a:latin typeface="Times New Roman"/>
              </a:rPr>
              <a:t>TO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c00000"/>
                </a:solidFill>
                <a:latin typeface="Times New Roman"/>
              </a:rPr>
              <a:t>ARRAY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c00000"/>
                </a:solidFill>
                <a:latin typeface="Times New Roman"/>
              </a:rPr>
              <a:t>OF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CARDINAL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1000" spc="-1" strike="noStrike">
                <a:solidFill>
                  <a:srgbClr val="c00000"/>
                </a:solidFill>
                <a:latin typeface="Times New Roman"/>
              </a:rPr>
              <a:t>END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1000" spc="-1" strike="noStrike">
                <a:solidFill>
                  <a:srgbClr val="c00000"/>
                </a:solidFill>
                <a:latin typeface="Times New Roman"/>
              </a:rPr>
              <a:t>END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00000"/>
                </a:solidFill>
                <a:latin typeface="Times New Roman"/>
              </a:rPr>
              <a:t>V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: mytype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,j: INTEGER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00000"/>
                </a:solidFill>
                <a:latin typeface="Times New Roman"/>
              </a:rPr>
              <a:t>BEG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(p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^.eerste := 101;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^.tweede[5][8].knal := 102;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(p^.tweede[5][8].boem,15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^.tweede[5][8].boem^[10] := 103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rCard(p^.eerste,2);WrLn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rCard(p^.tweede[5][8].knal,2);WrLn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rCard(p^.tweede[5][8].boem^[10],2);WrLn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ISPOSE(p^.tweede[5][8].boem);  (* ALLE dynamisch aangemaakte variabelen (dmv NEW()) moeten gedisposed worden! *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ISPOSE(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00000"/>
                </a:solidFill>
                <a:latin typeface="Times New Roman"/>
              </a:rPr>
              <a:t>END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PointerIntr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Box 5"/>
          <p:cNvSpPr/>
          <p:nvPr/>
        </p:nvSpPr>
        <p:spPr>
          <a:xfrm>
            <a:off x="4089240" y="3429000"/>
            <a:ext cx="5380200" cy="825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ers zijn adressen, geen geheugen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erst geheugen reservere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Oval 1"/>
          <p:cNvSpPr/>
          <p:nvPr/>
        </p:nvSpPr>
        <p:spPr>
          <a:xfrm>
            <a:off x="1496880" y="3700440"/>
            <a:ext cx="863640" cy="287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Oval 2"/>
          <p:cNvSpPr/>
          <p:nvPr/>
        </p:nvSpPr>
        <p:spPr>
          <a:xfrm>
            <a:off x="1531800" y="4508640"/>
            <a:ext cx="2125800" cy="2095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119400" y="-9720"/>
            <a:ext cx="6786720" cy="160812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TOPIC O: Pointer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Box 3"/>
          <p:cNvSpPr/>
          <p:nvPr/>
        </p:nvSpPr>
        <p:spPr>
          <a:xfrm>
            <a:off x="468360" y="1989000"/>
            <a:ext cx="900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Date Placeholder 2"/>
          <p:cNvSpPr/>
          <p:nvPr/>
        </p:nvSpPr>
        <p:spPr>
          <a:xfrm>
            <a:off x="0" y="6443640"/>
            <a:ext cx="29718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parallel.vub.ac.be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ffffff"/>
                </a:solidFill>
                <a:latin typeface="Arial"/>
              </a:rPr>
              <a:t>|   pag. </a:t>
            </a:r>
            <a:fld id="{8871E30F-0766-4F5A-A3EB-9DA2D2CA5696}" type="slidenum">
              <a:rPr b="0" lang="nl-B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9"/>
          <p:cNvSpPr/>
          <p:nvPr/>
        </p:nvSpPr>
        <p:spPr>
          <a:xfrm>
            <a:off x="631800" y="1544760"/>
            <a:ext cx="9074160" cy="50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00000"/>
                </a:solidFill>
                <a:latin typeface="Times New Roman"/>
              </a:rPr>
              <a:t>MODULE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PointerIntro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* M2EXTENSIONS + *&gt; &lt;* STORAGE + *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c00000"/>
                </a:solidFill>
                <a:latin typeface="Times New Roman"/>
              </a:rPr>
              <a:t>TYP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type = </a:t>
            </a:r>
            <a:r>
              <a:rPr b="1" lang="en-US" sz="1000" spc="-1" strike="noStrike">
                <a:solidFill>
                  <a:srgbClr val="c00000"/>
                </a:solidFill>
                <a:latin typeface="Times New Roman"/>
              </a:rPr>
              <a:t>POINTER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c00000"/>
                </a:solidFill>
                <a:latin typeface="Times New Roman"/>
              </a:rPr>
              <a:t>TO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c00000"/>
                </a:solidFill>
                <a:latin typeface="Times New Roman"/>
              </a:rPr>
              <a:t>RECORD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eerste: CARDINAL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weede: </a:t>
            </a:r>
            <a:r>
              <a:rPr b="1" lang="en-US" sz="1000" spc="-1" strike="noStrike">
                <a:solidFill>
                  <a:srgbClr val="c00000"/>
                </a:solidFill>
                <a:latin typeface="Times New Roman"/>
              </a:rPr>
              <a:t>ARRAY[1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.10],[1..10] </a:t>
            </a:r>
            <a:r>
              <a:rPr b="1" lang="en-US" sz="1000" spc="-1" strike="noStrike">
                <a:solidFill>
                  <a:srgbClr val="c00000"/>
                </a:solidFill>
                <a:latin typeface="Times New Roman"/>
              </a:rPr>
              <a:t>OF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c00000"/>
                </a:solidFill>
                <a:latin typeface="Times New Roman"/>
              </a:rPr>
              <a:t>RECORD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knal: CARDINAL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oem: </a:t>
            </a:r>
            <a:r>
              <a:rPr b="1" lang="en-US" sz="1000" spc="-1" strike="noStrike">
                <a:solidFill>
                  <a:srgbClr val="c00000"/>
                </a:solidFill>
                <a:latin typeface="Times New Roman"/>
              </a:rPr>
              <a:t>POINTER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c00000"/>
                </a:solidFill>
                <a:latin typeface="Times New Roman"/>
              </a:rPr>
              <a:t>TO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c00000"/>
                </a:solidFill>
                <a:latin typeface="Times New Roman"/>
              </a:rPr>
              <a:t>ARRAY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c00000"/>
                </a:solidFill>
                <a:latin typeface="Times New Roman"/>
              </a:rPr>
              <a:t>OF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CARDINAL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1000" spc="-1" strike="noStrike">
                <a:solidFill>
                  <a:srgbClr val="c00000"/>
                </a:solidFill>
                <a:latin typeface="Times New Roman"/>
              </a:rPr>
              <a:t>END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1000" spc="-1" strike="noStrike">
                <a:solidFill>
                  <a:srgbClr val="c00000"/>
                </a:solidFill>
                <a:latin typeface="Times New Roman"/>
              </a:rPr>
              <a:t>END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00000"/>
                </a:solidFill>
                <a:latin typeface="Times New Roman"/>
              </a:rPr>
              <a:t>V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: mytype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,j: INTEGER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00000"/>
                </a:solidFill>
                <a:latin typeface="Times New Roman"/>
              </a:rPr>
              <a:t>BEG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(p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^.eerste := 101;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^.tweede[5][8].knal := 102;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(p^.tweede[5][8].boem,15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^.tweede[5][8].boem^[10] := 103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rCard(p^.eerste,2);WrLn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rCard(p^.tweede[5][8].knal,2);WrLn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rCard(p^.tweede[5][8].boem^[10],2);WrLn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ISPOSE(p^.tweede[5][8].boem);  (* ALLE dynamisch aangemaakte variabelen (dmv NEW()) moeten gedisposed worden! *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ISPOSE(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00000"/>
                </a:solidFill>
                <a:latin typeface="Times New Roman"/>
              </a:rPr>
              <a:t>END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PointerIntr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Box 5"/>
          <p:cNvSpPr/>
          <p:nvPr/>
        </p:nvSpPr>
        <p:spPr>
          <a:xfrm>
            <a:off x="4089240" y="3429000"/>
            <a:ext cx="5380200" cy="11912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ers zijn adressen, geen geheugen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erst geheugen reservere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Variabel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NEW(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Oval 1"/>
          <p:cNvSpPr/>
          <p:nvPr/>
        </p:nvSpPr>
        <p:spPr>
          <a:xfrm>
            <a:off x="1496880" y="3700440"/>
            <a:ext cx="863640" cy="287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Oval 2"/>
          <p:cNvSpPr/>
          <p:nvPr/>
        </p:nvSpPr>
        <p:spPr>
          <a:xfrm>
            <a:off x="1531800" y="4508640"/>
            <a:ext cx="2125800" cy="2095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19400" y="-9720"/>
            <a:ext cx="6786720" cy="160812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TOPIC O: Pointer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Box 3"/>
          <p:cNvSpPr/>
          <p:nvPr/>
        </p:nvSpPr>
        <p:spPr>
          <a:xfrm>
            <a:off x="468360" y="1989000"/>
            <a:ext cx="900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Date Placeholder 2"/>
          <p:cNvSpPr/>
          <p:nvPr/>
        </p:nvSpPr>
        <p:spPr>
          <a:xfrm>
            <a:off x="0" y="6443640"/>
            <a:ext cx="29718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parallel.vub.ac.be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ffffff"/>
                </a:solidFill>
                <a:latin typeface="Arial"/>
              </a:rPr>
              <a:t>|   pag. </a:t>
            </a:r>
            <a:fld id="{12688A39-172E-4E4D-844B-ADA9BD59A1D8}" type="slidenum">
              <a:rPr b="0" lang="nl-B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9"/>
          <p:cNvSpPr/>
          <p:nvPr/>
        </p:nvSpPr>
        <p:spPr>
          <a:xfrm>
            <a:off x="631800" y="1514520"/>
            <a:ext cx="9074160" cy="50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00000"/>
                </a:solidFill>
                <a:latin typeface="Times New Roman"/>
              </a:rPr>
              <a:t>MODULE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PointerIntro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* M2EXTENSIONS + *&gt; &lt;* STORAGE + *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c00000"/>
                </a:solidFill>
                <a:latin typeface="Times New Roman"/>
              </a:rPr>
              <a:t>TYP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type = </a:t>
            </a:r>
            <a:r>
              <a:rPr b="1" lang="en-US" sz="1000" spc="-1" strike="noStrike">
                <a:solidFill>
                  <a:srgbClr val="c00000"/>
                </a:solidFill>
                <a:latin typeface="Times New Roman"/>
              </a:rPr>
              <a:t>POINTER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c00000"/>
                </a:solidFill>
                <a:latin typeface="Times New Roman"/>
              </a:rPr>
              <a:t>TO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c00000"/>
                </a:solidFill>
                <a:latin typeface="Times New Roman"/>
              </a:rPr>
              <a:t>RECORD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eerste: CARDINAL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weede: </a:t>
            </a:r>
            <a:r>
              <a:rPr b="1" lang="en-US" sz="1000" spc="-1" strike="noStrike">
                <a:solidFill>
                  <a:srgbClr val="c00000"/>
                </a:solidFill>
                <a:latin typeface="Times New Roman"/>
              </a:rPr>
              <a:t>ARRAY[1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.10],[1..10] </a:t>
            </a:r>
            <a:r>
              <a:rPr b="1" lang="en-US" sz="1000" spc="-1" strike="noStrike">
                <a:solidFill>
                  <a:srgbClr val="c00000"/>
                </a:solidFill>
                <a:latin typeface="Times New Roman"/>
              </a:rPr>
              <a:t>OF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c00000"/>
                </a:solidFill>
                <a:latin typeface="Times New Roman"/>
              </a:rPr>
              <a:t>RECORD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knal: CARDINAL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oem: </a:t>
            </a:r>
            <a:r>
              <a:rPr b="1" lang="en-US" sz="1000" spc="-1" strike="noStrike">
                <a:solidFill>
                  <a:srgbClr val="c00000"/>
                </a:solidFill>
                <a:latin typeface="Times New Roman"/>
              </a:rPr>
              <a:t>POINTER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c00000"/>
                </a:solidFill>
                <a:latin typeface="Times New Roman"/>
              </a:rPr>
              <a:t>TO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c00000"/>
                </a:solidFill>
                <a:latin typeface="Times New Roman"/>
              </a:rPr>
              <a:t>ARRAY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c00000"/>
                </a:solidFill>
                <a:latin typeface="Times New Roman"/>
              </a:rPr>
              <a:t>OF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CARDINAL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1000" spc="-1" strike="noStrike">
                <a:solidFill>
                  <a:srgbClr val="c00000"/>
                </a:solidFill>
                <a:latin typeface="Times New Roman"/>
              </a:rPr>
              <a:t>END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1000" spc="-1" strike="noStrike">
                <a:solidFill>
                  <a:srgbClr val="c00000"/>
                </a:solidFill>
                <a:latin typeface="Times New Roman"/>
              </a:rPr>
              <a:t>END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00000"/>
                </a:solidFill>
                <a:latin typeface="Times New Roman"/>
              </a:rPr>
              <a:t>V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: mytype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,j: INTEGER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00000"/>
                </a:solidFill>
                <a:latin typeface="Times New Roman"/>
              </a:rPr>
              <a:t>BEG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NEW(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^.eerste := 101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^.tweede[5][8].knal := 102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(p^.tweede[5][8].boem,15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^.tweede[5][8].boem^[10] := 103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rCard(p^.eerste,2);WrLn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rCard(p^.tweede[5][8].knal,2);WrLn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rCard(p^.tweede[5][8].boem^[10],2);WrLn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ISPOSE(p^.tweede[5][8].boem);  (* ALLE dynamisch aangemaakte variabelen (dmv NEW()) moeten gedisposed worden! *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ISPOSE(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00000"/>
                </a:solidFill>
                <a:latin typeface="Times New Roman"/>
              </a:rPr>
              <a:t>END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PointerIntr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Box 5"/>
          <p:cNvSpPr/>
          <p:nvPr/>
        </p:nvSpPr>
        <p:spPr>
          <a:xfrm>
            <a:off x="4089240" y="3429000"/>
            <a:ext cx="5380200" cy="11912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ers zijn adressen, geen geheugen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brui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p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MS PGothic"/>
              </a:rPr>
              <a:t>^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=&gt;  REC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Oval 1"/>
          <p:cNvSpPr/>
          <p:nvPr/>
        </p:nvSpPr>
        <p:spPr>
          <a:xfrm>
            <a:off x="1554120" y="3855960"/>
            <a:ext cx="1166760" cy="3002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Oval 2"/>
          <p:cNvSpPr/>
          <p:nvPr/>
        </p:nvSpPr>
        <p:spPr>
          <a:xfrm>
            <a:off x="1490760" y="4156200"/>
            <a:ext cx="2124000" cy="3524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19400" y="-9720"/>
            <a:ext cx="6786720" cy="160812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TOPIC O: Pointer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Box 3"/>
          <p:cNvSpPr/>
          <p:nvPr/>
        </p:nvSpPr>
        <p:spPr>
          <a:xfrm>
            <a:off x="468360" y="1989000"/>
            <a:ext cx="900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Date Placeholder 2"/>
          <p:cNvSpPr/>
          <p:nvPr/>
        </p:nvSpPr>
        <p:spPr>
          <a:xfrm>
            <a:off x="0" y="6443640"/>
            <a:ext cx="29718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parallel.vub.ac.be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ffffff"/>
                </a:solidFill>
                <a:latin typeface="Arial"/>
              </a:rPr>
              <a:t>|   pag. </a:t>
            </a:r>
            <a:fld id="{BEE09A70-BAB4-4647-8931-F490C21E8CEA}" type="slidenum">
              <a:rPr b="0" lang="nl-B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9"/>
          <p:cNvSpPr/>
          <p:nvPr/>
        </p:nvSpPr>
        <p:spPr>
          <a:xfrm>
            <a:off x="631800" y="1544760"/>
            <a:ext cx="9074160" cy="50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00000"/>
                </a:solidFill>
                <a:latin typeface="Times New Roman"/>
              </a:rPr>
              <a:t>MODULE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PointerIntro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* M2EXTENSIONS + *&gt; &lt;* STORAGE + *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c00000"/>
                </a:solidFill>
                <a:latin typeface="Times New Roman"/>
              </a:rPr>
              <a:t>TYP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type = </a:t>
            </a:r>
            <a:r>
              <a:rPr b="1" lang="en-US" sz="1000" spc="-1" strike="noStrike">
                <a:solidFill>
                  <a:srgbClr val="c00000"/>
                </a:solidFill>
                <a:latin typeface="Times New Roman"/>
              </a:rPr>
              <a:t>POINTER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c00000"/>
                </a:solidFill>
                <a:latin typeface="Times New Roman"/>
              </a:rPr>
              <a:t>TO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c00000"/>
                </a:solidFill>
                <a:latin typeface="Times New Roman"/>
              </a:rPr>
              <a:t>RECORD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eerste: CARDINAL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weede: </a:t>
            </a:r>
            <a:r>
              <a:rPr b="1" lang="en-US" sz="1000" spc="-1" strike="noStrike">
                <a:solidFill>
                  <a:srgbClr val="c00000"/>
                </a:solidFill>
                <a:latin typeface="Times New Roman"/>
              </a:rPr>
              <a:t>ARRAY[1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.10],[1..10] </a:t>
            </a:r>
            <a:r>
              <a:rPr b="1" lang="en-US" sz="1000" spc="-1" strike="noStrike">
                <a:solidFill>
                  <a:srgbClr val="c00000"/>
                </a:solidFill>
                <a:latin typeface="Times New Roman"/>
              </a:rPr>
              <a:t>OF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c00000"/>
                </a:solidFill>
                <a:latin typeface="Times New Roman"/>
              </a:rPr>
              <a:t>RECORD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knal: CARDINAL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oem: </a:t>
            </a:r>
            <a:r>
              <a:rPr b="1" lang="en-US" sz="1000" spc="-1" strike="noStrike">
                <a:solidFill>
                  <a:srgbClr val="c00000"/>
                </a:solidFill>
                <a:latin typeface="Times New Roman"/>
              </a:rPr>
              <a:t>POINTER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c00000"/>
                </a:solidFill>
                <a:latin typeface="Times New Roman"/>
              </a:rPr>
              <a:t>TO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c00000"/>
                </a:solidFill>
                <a:latin typeface="Times New Roman"/>
              </a:rPr>
              <a:t>ARRAY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c00000"/>
                </a:solidFill>
                <a:latin typeface="Times New Roman"/>
              </a:rPr>
              <a:t>OF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CARDINAL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1000" spc="-1" strike="noStrike">
                <a:solidFill>
                  <a:srgbClr val="c00000"/>
                </a:solidFill>
                <a:latin typeface="Times New Roman"/>
              </a:rPr>
              <a:t>END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1000" spc="-1" strike="noStrike">
                <a:solidFill>
                  <a:srgbClr val="c00000"/>
                </a:solidFill>
                <a:latin typeface="Times New Roman"/>
              </a:rPr>
              <a:t>END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00000"/>
                </a:solidFill>
                <a:latin typeface="Times New Roman"/>
              </a:rPr>
              <a:t>V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: mytype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,j: INTEGER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00000"/>
                </a:solidFill>
                <a:latin typeface="Times New Roman"/>
              </a:rPr>
              <a:t>BEG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(p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^.eerste := 101;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^.tweede[5][8].knal := 102;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(p^.tweede[5][8].boem,15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^.tweede[5][8].boem^[10] := 103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rCard(p^.eerste,2);WrLn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rCard(p^.tweede[5][8].knal,2);WrLn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rCard(p^.tweede[5][8].boem^[10],2);WrLn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ISPOSE(p^.tweede[5][8].boem);  (* ALLE dynamisch aangemaakte variabelen (dmv NEW()) moeten gedisposed worden! *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ISPOSE(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00000"/>
                </a:solidFill>
                <a:latin typeface="Times New Roman"/>
              </a:rPr>
              <a:t>END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PointerIntr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Box 5"/>
          <p:cNvSpPr/>
          <p:nvPr/>
        </p:nvSpPr>
        <p:spPr>
          <a:xfrm>
            <a:off x="4089240" y="3429000"/>
            <a:ext cx="5380200" cy="11912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ers zijn adressen, geen geheugen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erst geheugen reservere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Open Array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NEW(x,Aantal_kotj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Oval 1"/>
          <p:cNvSpPr/>
          <p:nvPr/>
        </p:nvSpPr>
        <p:spPr>
          <a:xfrm>
            <a:off x="1496880" y="3700440"/>
            <a:ext cx="863640" cy="287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Oval 2"/>
          <p:cNvSpPr/>
          <p:nvPr/>
        </p:nvSpPr>
        <p:spPr>
          <a:xfrm>
            <a:off x="1531800" y="4508640"/>
            <a:ext cx="2125800" cy="2095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4:46:37Z</dcterms:created>
  <dc:creator>Gonzalez, Isabel</dc:creator>
  <dc:description/>
  <dc:language>en-US</dc:language>
  <cp:lastModifiedBy>Gonzalez, Isabel</cp:lastModifiedBy>
  <cp:lastPrinted>2008-03-14T08:26:46Z</cp:lastPrinted>
  <dcterms:modified xsi:type="dcterms:W3CDTF">2011-04-05T09:25:41Z</dcterms:modified>
  <cp:revision>242</cp:revision>
  <dc:subject/>
  <dc:title>Vakgroep Computer-wetenschappen</dc:title>
</cp:coreProperties>
</file>