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D2A-EB1B-4BDB-A634-6E35D66A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BB2-B5CB-4DA7-A9C6-6B35CC46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E54-2BAC-4051-9ADF-324DD7F2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795-54EA-40FE-B95F-001F6017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D477-CB41-45E2-A04D-9CC525BA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47AC-0EFC-4B13-A718-7A01870F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8668-C10D-45F8-BDBF-F22E4D00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9C68-44A1-48AC-BEA5-776D3940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9B0D-79D7-4F18-885A-DD2BB17D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CA29-3337-46B2-9E7D-467D58A3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3048-558B-41C2-AE25-B3243D48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EF2-C127-4DFA-BAE2-7D070873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5BFC-EDE4-406E-9E1F-3EF7CDDF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3235-11F3-4AD6-B977-BEA2BA26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E3C6-B7C1-4374-BAD7-948243A0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C65E-DA54-4E95-BF9F-08105813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FB16-FC8D-425A-B606-FC695D8B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9B9-6A64-4245-9E70-72FC87CB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091-73C0-446E-BEEE-9FE7A49D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535-8332-4291-892B-F531FC20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A0C-E62E-4F48-8A74-BBDAE5BC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3B8-0697-4DF7-821A-257F6D5A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4FD-0241-4789-981B-F98BF7D5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E13-57DC-41CC-8F62-768C638F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8571-51A4-4109-931F-6A906E9E08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2577-2695-474F-BB30-BF74C60AF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3F6B-2FF0-4636-AB21-359EECD817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5A52-5211-41FB-8987-9354DE060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ohan@info.vub.ac.be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 Narrow"/>
              </a:rPr>
              <a:t>Introduction to Modula</a:t>
            </a:r>
            <a:r>
              <a:rPr b="1" lang="fr-BE" sz="66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GB" sz="66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Johan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8861-0CFF-4593-B293-45E02CB10C6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A2B67C0-468D-4C0F-80B8-A4B69FD14C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Variabl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ingle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haracters (‘a’) : CH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Integers (-40) : INTE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eals (2.7) : R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os number (3) : CARD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Logical (TRUE/FALSE) : BOOL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hy the name « single types 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737-F1BC-470C-8CE7-0499B0EB97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11A8A-8A6B-4227-9850-DA20D42AF6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Variabl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a : CHA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b : INTEG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c : RE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d : CARDIN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e : BOOLEA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a := ‘z’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b := -345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c := 0.35E-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d := 345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e := FALS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198108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" y="182880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clara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4382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57200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49528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" y="411480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ssig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905120"/>
            <a:ext cx="106704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62160" y="167652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553080" y="1371600"/>
            <a:ext cx="18194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Keywo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4572000"/>
            <a:ext cx="13716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962520" y="5181480"/>
            <a:ext cx="3124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487-ADDD-4036-9DB4-0DE40A6D41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98563-E199-4984-A067-A33DA8D340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0000"/>
                </a:solidFill>
                <a:latin typeface="Arial Narrow"/>
              </a:rPr>
              <a:t>Variables vs. Literals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iable can have several values (not at one tim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Literals are the values themselv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z’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4.34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E51-59A1-46DB-8FB4-8B9A3FE59C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9699D-A104-4885-94B6-6D519443B9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Working with numbers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INTEGER, CARDINAL and R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Operato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Sum using +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Substract using 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Multiply using *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Divide u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DIV for CARDINAL and 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/ for R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o using M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1BB-4B8B-453B-BDE0-29124BB1DA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79AE7-69BD-42FE-B989-A02BED65EC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Working with numbers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a, b : INTEG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d : RE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f : CARDIN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a := -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b := a *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d := 5.0 / 3.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f  := 5 DIV 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BEA-C209-44F5-AA21-CF451B59BB5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29811-2269-452D-AC13-5ED11D80B1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0000"/>
                </a:solidFill>
                <a:latin typeface="Arial Narrow"/>
              </a:rPr>
              <a:t>Conversions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Numbers can not be mixed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CARDINAL </a:t>
            </a:r>
            <a:r>
              <a:rPr b="1" lang="fr-BE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 REAL </a:t>
            </a:r>
            <a:r>
              <a:rPr b="1" lang="fr-BE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 INTEG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Conversion is need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TRUNC(real) =&gt; CARDI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FLOAT(cardinal/integer) =&gt; R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577-ABDC-4365-9651-ECBCB8115D6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17E42-541B-4E48-888B-4C00AF578D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BOOLEAN algebra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Built-in type: BOOL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2 values: TRUE, FA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OPERATO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Logical : AND, OR,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Comparison : &lt;, &gt;, =, &lt;=, &gt;=, &lt;&gt;, #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EF1-7087-4363-AFDD-B22A13D5A5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9D8F4-7803-4B0A-8774-E127C1062F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BOOLEAN algebra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a, b : INTEG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c, d : BOOLEA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a := -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b := 3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c := a &gt; b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d := NOT c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954-CB0C-4BA4-B563-B294377317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C9A5B-CED4-44FE-B1DD-2EA7C11295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Precedence rules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Define which operator is evaluated fir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Multiplication, division, sum,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13 DIV 4 = 3 = TR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Is this correc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What is the value the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Use brackets to ensure the order of evalution =&g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((13 DIV 4) = 3) = TRU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028-BD68-4C88-B149-20A0156E44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66362-ED61-4975-A338-72C32706AF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Characters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uilt-in type: CH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lues: all the entries of the ASCII t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Character literals have to be surrounded by single quotes 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z’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How can we represent text… la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354-6875-4F8B-9F6A-77458E8997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BC460-9BA6-423D-8C40-58E1B3F9DB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3 hours of total immersion into the programming language Modula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e start from the very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Johan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 u="sng">
                <a:solidFill>
                  <a:srgbClr val="5f5f5f"/>
                </a:solidFill>
                <a:uFillTx/>
                <a:latin typeface="Arial"/>
                <a:hlinkClick r:id="rId1"/>
              </a:rPr>
              <a:t>Johan@info.vub.ac.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4K2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844-CCE4-4D97-A9B9-A5018EBB97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EA35A-3387-44F8-A848-D4B96511D7F8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0000"/>
                </a:solidFill>
                <a:latin typeface="Arial Narrow"/>
              </a:rPr>
              <a:t>Constant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Keyword CON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Usage identical to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Assignment is impossi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pi = 3.14159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code = 9342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3886200"/>
            <a:ext cx="175284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4648320"/>
            <a:ext cx="1447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BCF-B350-4542-B916-BD50AF1F81F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D25AD-3D8D-47A2-A734-2F840A936B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0000"/>
                </a:solidFill>
                <a:latin typeface="Arial Narrow"/>
              </a:rPr>
              <a:t>Constant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What is the type of the constan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Can I use constant together with variables and literal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Pi = 3.14159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, r : RE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r := 5.0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 := 2.0 * Pi * 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259-F88A-4187-85B1-CD4C89EB3FB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F2160-74C4-48D9-8272-D21DD58A8F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0000"/>
                </a:solidFill>
                <a:latin typeface="Arial Narrow"/>
              </a:rPr>
              <a:t>Enumeration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First flexible type: defined by yo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xplicit definition of the possible values of a variable during the decla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 : ( value1, value2, …, valueN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Variable x can only have the values listed between bracke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2BA-0257-4DB0-B5C5-D67BFF66233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B9AD5-842D-4BB9-B3AE-B0CC4D277E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0000"/>
                </a:solidFill>
                <a:latin typeface="Arial Narrow"/>
              </a:rPr>
              <a:t>Enumeration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continent : ( europe, asia, africa, antartica, america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continent := antartic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Danger: values of enumeration can not be used as name for other constants or vari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4A3-672A-43BC-9C4E-CA1B7C3A5C1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30BD5-5D65-498F-A861-1002DAE5FD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0000"/>
                </a:solidFill>
                <a:latin typeface="Arial Narrow"/>
              </a:rPr>
              <a:t>Subrange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quivalent to interval in mathematics x </a:t>
            </a:r>
            <a:r>
              <a:rPr b="1" lang="fr-BE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 [0, 10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Again defined by you during the decla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x : [0 .. 10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c : [’a’ .. ‘d’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Not for real valued intervals!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809880"/>
            <a:ext cx="1752840" cy="1143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4572000"/>
            <a:ext cx="2133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5E4-06FB-4D3E-A41A-71D1AA4430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C0F22-5460-4A10-B4F6-7DBD000007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Subrange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a, b, c : [2..15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a := 2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b := 8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c := a * b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755-409A-4CC7-911F-19E9274B35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FBDE7-8244-4FC7-9297-E3E1865277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Structured typ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742840" y="167652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ost types are built-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HAR, REAL, BOOLEAN, CARDINAL, INTE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elf defined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Enum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Sub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Until now simple types i.e. one variable = one value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757-5715-4AAC-A6C1-26EC921362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2CDC1-689D-4FD3-8FCC-60F742090B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Structured typ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tore more than one value per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ECORD: possible to combine different types in one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ARRAY: represent several values of the same type in one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CCF-3A8E-4F2E-AEA8-39381072470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4064A-2C02-4438-8A8A-3D1D81D2B8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Record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lc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name: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ield1 : type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ieldN : typ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FAD-8743-43ED-A78F-B8D6FCD5344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B1679-D621-4153-89F2-74FD953BF0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Record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at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day : [1..3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onth : [1..1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year : [1900..300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C52-95C7-45AB-90B7-DA7B888EDA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93FAC-D1E4-4767-A309-CFD0B53BBE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Modula 2 : why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hy not Java, C, C++, C# 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Looks like Engl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Very 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Safe (easy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Has all the modern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ll programming languages are equal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F9D-8112-46BF-BEFD-7653C2613A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9D515-9590-4C16-854B-255E41782A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Record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ince a record contains several values we use the field name to access the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1" lang="fr-BE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field_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ate.day := 8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ate.month :=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ate.year := 200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038480"/>
            <a:ext cx="1523880" cy="990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438280" y="388584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D78-0F51-44C8-A0B4-E0DF97C86DA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19113-BCC2-4DF6-B126-850EE15D6D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Record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oint1, point2 :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x, y 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oint1.x := 5.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oint1.y := 2.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oint2 := point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5562720"/>
            <a:ext cx="35816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4800600"/>
            <a:ext cx="2381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ssibl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548640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53D-8F47-4FE1-9036-E5B14A2E9D9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815ED-7896-4273-872B-F799CCA308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name : ARRA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index_type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typ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rray contains one or more values depending on the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index_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x : ARRAY [1..10] OF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E61-1B88-4542-8FCC-A6AAB82A19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7F9D0-639B-4E49-83A8-BE9005C6F5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s with RECORDs with need more work to take one value out of an array =&gt; ind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1" lang="fr-BE" sz="5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1" lang="fr-BE" sz="54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x[8] := 4.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x[2] := x[8] + 1.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F4F-033C-4CC4-95BB-027B1D252F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F19A2-2538-4DF1-BCCB-8010533135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ice : ARRAY (junior, normal, maxi) OF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ice[normal] :=  2.2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ice[maxi] := 3.0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29C-4B6A-48B4-AF39-48455B56586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7B1F2-C388-4555-8E98-B55727D494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aste : ARRAY (bread, rice) OF (bad, normal, good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lass : ARRAY(john, alan) OF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ge : [0..2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eight 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aste[bread] := g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aste[rice] := g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lass[john].age := 2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38F-5B8F-422E-A833-098DA87E783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15200-5447-4720-9AED-ACBE9F4658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spect the index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VAR x : ARRAY [3..10] OF BOOLEAN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x[1] := TRU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rrays can not be copied in 1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VAR x, y : ARRAY [3..10] OF BOOLEAN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x := y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429000"/>
            <a:ext cx="243864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666880" y="3428640"/>
            <a:ext cx="236232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666880" y="57150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5638680"/>
            <a:ext cx="144792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C07-1A48-4A6B-9896-CCF4D94A09E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E5599-D31F-4477-A4D4-23E1B76B77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String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haracter can be represented using the built-in CHAR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One character at a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here is no seperate type in Modula 2 for strings of charact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ext : ARRAY [1..30] OF CH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1E3-8FAD-486C-AD4A-B54BBD2025D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D9073-01BC-4DFB-B74D-0FB67FBAFB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Writing on scree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riting on the computer screen can be done using the follow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String : WrStr(x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INTEGER: WrInt(x, 0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EAL: WrReal(x, 7, 0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ARDINAL: WrCard(x, 0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BOOLEAN: WrBool(x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HAR: WrChar(x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4E9-6194-426A-BAC2-470EC3A9600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C4E7B-9089-47C9-A170-2DDA49CD33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N-dimensional arra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odula 2 arrays can have more than one index =&gt; more than one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x : ARRAY [1..5]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RRAY [1..3] OF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x[5][2] := 5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409-29F6-4A47-AB01-C387498C104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5BD46-BEF5-4EC5-A0D6-149E2D5B4D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rogramming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ay to control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Write down the program (edi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Translate using special program (compil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Execution by the compu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ompiler is cl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Translates in machine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eports mistak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3AB-B48E-4771-B1B6-51FD7D485E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C6623-839C-4CE9-918A-8DE844D885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N-dimensional arra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claration short hand for n-dim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x : ARRAY type1 OF ARRAY type2 OF ARRAY type3 OF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x : ARRAY type1,type2,type3 OF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dexing short hand for n-dim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x[3][3][4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x[3,3,4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F78-53FB-4729-B8A8-9DAA68AE0E8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F45F1-3A83-457B-BD45-73591F4468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TYP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odula 2 comes with built-i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You can also define new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Mp3 = REC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name : ARRAY [1..40]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HA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length : [1..3600]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572000"/>
            <a:ext cx="1904760" cy="1143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666880" y="43430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2B7-DCB9-40C0-8DC0-0441D850B7B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EB2F0-02CC-4D31-A7A0-B7F5542BA6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TYP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Mp3 = REC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name : ARRAY [1..40] OF CHA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ength : [1..360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ong : Mp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ong.name := "4 seasons – winter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D33-265C-40E4-A5EB-18B8BC87EC1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B98C1-EF92-4F26-907B-4D63EBF541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0000"/>
                </a:solidFill>
                <a:latin typeface="Arial Narrow"/>
              </a:rPr>
              <a:t>Control instruction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Normal program execu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Top dow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Line by l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tatements that influence the execution of the pr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3 group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Branch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5C0E-EE48-49B5-A920-D183FECD9C7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AD02F-937F-433B-849F-707EF6C7BE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IF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19160" y="175248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hoose an alternative based on result of the boolean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boolean_express1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LIF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boolean_express2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7400" y="3809880"/>
            <a:ext cx="380880" cy="1981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600" y="4648320"/>
            <a:ext cx="1724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pt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99B-A9CD-44CE-9025-CFB4BCFC863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C00CB-D04F-4884-B9A0-5AB53B83EC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IF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FROM IO IMPORT WrStr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x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x := 3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F (x &lt; 5) TH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WrStr(" x is smaller than 5"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demo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E58-F88C-4EA1-BEB8-9BA9E0692A3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B2798-AFBF-4FC6-A9A9-EB0CE84A6B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IF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FROM IO IMPORT WrSt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100"/>
            </a:b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 : CARD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100"/>
            </a:b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 := 3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F (x &lt; 5) T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WrStr(" x is smaller than 5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WrStr(" x is &gt;= 5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demo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7D6-EB63-4AFB-9D8D-F82D2AEAFBD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62E3B-00BE-421B-BB6A-5D7D4C5F26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IF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FROM IO IMPORT WrSt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100"/>
            </a:b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 : CARD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100"/>
            </a:b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 := 3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F (x &lt; 5) T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WrStr(" x is smaller than 5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LIF (x &gt; 5) T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WrStr(" x is bigger than 5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WrStr("x equals 5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demo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978-748E-4757-829F-F68BF2D1D4B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6DDF7-6391-405A-A412-857856C613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CASE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hoose one alternative using a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, no tes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abel1, label2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abel3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ments…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4648320"/>
            <a:ext cx="304560" cy="990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4876920"/>
            <a:ext cx="1724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pt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E2E-609D-43BB-954F-C53E2B4AA18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C2A96-52DB-4D96-8255-02D1E7CE70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CASE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819160" y="15235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100"/>
            </a:b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enu : (junior, normal, maxi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price : RE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100"/>
            </a:b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enu := junio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CASE menu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junior : price := 1.25; 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normal : price := 2.25; 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axi : price := 3.00; 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price := -99.999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demo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E8F-4830-4AC3-8083-7B9BCFF362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3660B-8B42-4AAC-A49C-961B38C2F3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Modula 2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Has keywords: words from th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lways in CAPITAL lett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O, FOR, IF, WHILE, END, THEN, UNTIL, LOOP, ELSE, RECORD, ARRAY, OF, TYPE, CONST, IMPORT, FROM, SET, VAR, WITH, CASE, MODULE, REAL, INTEG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7EF-C525-4893-A12C-9471507CB8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A814C-C041-4BD0-B5AF-F61493CCFC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FOR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oop a fixed number of times using a counter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counter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is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9AD-6CCF-4378-8418-FF2BAF52DF8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075EA-92B4-4726-B0C7-B734E0886E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FOR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he counter will be changed automatically by the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f B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is omitted a default step of 1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tart &lt; stop if step is 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OR counter := 10 TO 1 BY –1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F38-3E68-40BB-9726-BAE1A8086AF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28C5D-8A35-454A-8DA7-E8CA7B01EC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FOR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=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FOR i := 1 TO 20 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= sum + i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demo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E74-C32C-4081-A43D-0C10233E1DA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BE9A2-764D-43F1-A98F-0D2EF991DE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WHILE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oop as long as the condition return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HILE boolean_expres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38B-12A5-4EDC-91DE-857DB71B3BD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D9A8B-BB0A-4E28-9DC9-740F5EA8D9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WHILE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67057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=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 := 1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WHILE (i &lt;= 20) 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= sum + i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NC(i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617C-D238-4E57-B783-5283CAE449A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C7DCF-CA57-460A-9079-77DEF19858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REPEAT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oop until condition become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UNTIL boolean_expre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lways at least 1 loop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05720" y="4495680"/>
            <a:ext cx="228600" cy="457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009920" y="41911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077320" y="3809880"/>
            <a:ext cx="152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B93-B0F7-4EDE-B0DF-8B45F98D469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F9B70-32E2-4597-A37A-3E2F1723FE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REPEAT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=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  := 1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NC(sum, i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INC(i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UNTIL (i &gt; 20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41E-B3E5-4F00-9662-A7527A536A55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2D977-20B5-4B23-96D1-B1B729C4CD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LOOP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he most basic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No cou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No stop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Use EXIT to escape th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E68-CA98-4B7D-AEDD-DB16AC0B0A2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91847-A9C7-4DAA-95F9-786F5D8E63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LOOP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72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100"/>
            </a:b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 : CARD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sum : CARD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100"/>
            </a:b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sum := 0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 := 1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NC(sum, i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NC(i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F (i &gt;20) T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XI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5BA-419D-454D-AFC6-95A78F75BED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6E21A-F4B3-4037-B5ED-DAADB28EBF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requently used statement can be seperated and put into a procedure =&gt; code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n Modula 2 a procedure a is little program on its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ifference with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Has a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ossibly some input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ossibly some output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31C-5005-4BFA-A934-74C1B031065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810D5-36EC-4A84-B4AD-C472264D78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rogram structur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ogram is called a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ODULE 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FROM …. IMPORT …</a:t>
            </a:r>
            <a:r>
              <a:rPr b="1" lang="fr-BE" sz="4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ONST   pi = 3.1459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TYPE      euro = RE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 …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 (* comment 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 name</a:t>
            </a:r>
            <a:r>
              <a:rPr b="1" lang="fr-BE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AC6-8C8F-41F0-9245-FA1C4A985F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DA9F1-4450-4171-9338-A73798C60F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2 asp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efinition: which computation are being performed, which inputs and outpu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rocedure call: correct use of the procedure in the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798-632C-4112-BFE7-DB94F3ECD57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0390D-CE41-4150-AD66-43DD0F74C8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Number of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Type of each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oes the procedure return a val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ype of the value retur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E183-65AE-425F-9ACC-D11B8BE4660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6266F-D902-4C96-9B5B-00767DB091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2 types of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rocedures that compute a value and return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unct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rocedures that have a side effect (write to disk, reset a value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D17-91A8-4D5B-841B-1781FBAE9C9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11229-2963-49C2-B6C8-474D581361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057400" y="22856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ROCEDURE name (arg1 : TYPE1; arg2 : TYPE2; 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(* Declarations just like for a MODUL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ONST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TYPE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VAR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(* The code comes her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ND name</a:t>
            </a:r>
            <a:r>
              <a:rPr b="1" lang="fr-BE" sz="2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B57-8BDC-4F3C-8E52-FED2E6AEBFE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B3476-72EF-4865-A37A-3480918789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057400" y="22856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ROCEDURE name (arg1 : TYPE1; arg2 : TYPE2; …) : TYPE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(* Declarations just like for a MODUL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ONST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TYPE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VAR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(* The code comes her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ND name</a:t>
            </a:r>
            <a:r>
              <a:rPr b="1" lang="fr-BE" sz="2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78B-BBB0-41EE-B011-AD2455237C9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B03EC-8FA4-4602-B774-6A26E91BD9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Keyword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Jump out of the proced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eturn a value and jump out of the proced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43E-9350-43C9-9828-A1D9DD0B5D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CE742-21B8-4B28-94B7-44BCBFA5A6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PROCEDURE add ( a , b :CARDINAL)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RETURN a+b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add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 CARDIN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sum := add( 4, 2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BA9-B28F-4973-A5B2-AF267FC42DC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CD93A-DC98-48C7-8980-6E33F55850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14600" y="167652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FROM IO IMPORT WrSt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PROCEDURE odd( x : REAL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F (x &lt; 4.5) T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WrStr("x is not &lt; 4.5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od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odd(3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odd(5.5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demo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03B-98F2-40AF-800A-365D3F54643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A872C-4A62-4156-ABAF-EFBDEE2A97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SCOPING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Procedure are little programs on their ow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Own declarations : types, constants, variables and even other proced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Which variables, constants and procedure can one use inside proced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Scoping r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ECA-8A3E-45BB-87B7-8447830C707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C3AFC-EE96-4C8D-B225-3A0423F05B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SCOPING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Global vs. Local delc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Global ~ defined in the main part of the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Local ~ defined in proced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op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Hiding pheno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53B-3E0C-42A4-A8FC-EAC8CA2D0C7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6DA98-ACD1-4AA8-B120-81B08F38FC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600" spc="-1" strike="noStrike">
                <a:solidFill>
                  <a:srgbClr val="000000"/>
                </a:solidFill>
                <a:latin typeface="Arial Narrow"/>
              </a:rPr>
              <a:t>Syntax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Keywords completely in CAPITAL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paces do no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hite lines do no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ignal the end of a command with semi colon  </a:t>
            </a:r>
            <a:r>
              <a:rPr b="1" lang="fr-BE" sz="4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d of program with a period </a:t>
            </a:r>
            <a:r>
              <a:rPr b="1" lang="fr-BE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FE5-981F-48F7-8CA4-599E0C1859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C1CFF-1282-43EC-AFBF-258A8D4558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SCOPING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v : CH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c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PROCEDURE 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z : CH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(* v, c, z, p 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END 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PROCEDURE q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v = 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(* v, c, p, q 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END q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1600200"/>
            <a:ext cx="472464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971800"/>
            <a:ext cx="3886200" cy="1371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90920" y="4343400"/>
            <a:ext cx="3886200" cy="12952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CBE-8EBA-455F-AE49-D353B3803AB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07C86-C8A3-47B8-A505-72E1B0317F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VAL/VAR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PROCEDURE reset(c : REAL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c := 0.0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END zer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r : RE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r := 99.99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reset(r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56D-60DE-40B1-923F-C7B0C28DA91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13AA5-7EEA-43E1-B4DA-627AB5720B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VAL/VAR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he previous program does not work,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arameter passing mechani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Makes </a:t>
            </a:r>
            <a:r>
              <a:rPr b="0" lang="fr-BE" sz="2600" spc="-1" strike="noStrike" u="sng">
                <a:solidFill>
                  <a:srgbClr val="000000"/>
                </a:solidFill>
                <a:uFillTx/>
                <a:latin typeface="Arial"/>
              </a:rPr>
              <a:t>copy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of the arguments (value parameter V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Execute the procedure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R parameters are not copi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0F1-F603-46CA-AEF4-97B15177F6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498D3-3CE5-40EC-A573-F252C6656A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VAL/VAR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MODULE dem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PROCEDURE zero (VAR c : REAL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c := 0.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zer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x : RE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500"/>
            </a:b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reset(x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END dem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00000"/>
                </a:solidFill>
                <a:latin typeface="Arial"/>
              </a:rPr>
              <a:t>Works as was expected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EE2-7B79-4CEC-9B85-187447280CA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672CA-BE0E-4109-92FF-C9B4649E2F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VAL/VAR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VAR parameters are not copied but a reference to the original variable is passed inst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VAR parameter required variables during the procedure call,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947-38A7-4A79-8E19-A97F5791906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15B9A-7A97-4F14-92A2-0DBB8DC404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OPEN ARRAY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assing arrays as parameters is not easy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OCEDURE p(a : ARRAY [1..10] OF REA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o make it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eclare a new type 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Use type in decl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YPE Arr = ARRAY [1..10] OF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OCEDURE p(a :Ar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2514600"/>
            <a:ext cx="723924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990720" y="2514600"/>
            <a:ext cx="73152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2A07-EB93-4B9C-860E-4DA15C13D2F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F5019-94A4-4C46-8884-6C73FF2298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OPEN ARRAY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Not conveni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Not flexible in terms of the size arrays pa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olution : open array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2F06-84C9-4C64-9C2E-C64EE773499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EDF88-2AF9-440E-B36A-E2DF47BA5D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OPEN ARRAY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No need to declare a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Flexible in terms of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RRAY OF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OCEDURE p(a: ARRAY OF REA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ocedure p can accept arrays of any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3EA-0D7E-47F5-9B4D-2A657815DAA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C46D5-DBA9-4E90-BEC5-A4E00D4076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OPEN ARRAY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ll arrays start at index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HIGH returns the index of the last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5AA-0B99-457C-9D09-54AA6FC1BCF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68BC0-F517-40EA-830E-5F07D8F164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OPEN ARRAY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CEDURE sum(a : ARRAY OF REAL)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 : CARDI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t 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t := 0.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OR i := 0 TO HIGH(a)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t := tot + 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TURN to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D s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3A2-9FF0-4597-92D8-D4539F59FCB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75776-A161-4C10-A8EB-4829C5DEA5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Variabl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onvenient way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Store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Manipulate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losely related to the variable concept used in mathematic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ACF-4BF9-4DEB-B0FC-35FE0B682C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6300F-E588-46AD-AA5B-CA01769064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OPEN ARRAY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rstAr : ARRAY [30..35] OF CHA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ondAr : ARRAY [1..10] OF CHA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DURE myWrStr( str : ARRAY OF CHA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: CARDIN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i := 0 TO HIGH(str)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Char(str[i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 myWrSt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219-5937-4C4E-AE0C-CA169809A74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D326C-47DE-48C6-83C8-85B8F2F501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RECURSION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f(x) = g(f(x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factor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fac(n) := n * fac(n-1);  (n&gt;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fac(n) := 1;                   (n &lt;=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PROCEDURE fac(n : CARDINAL): CARD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IF (n &lt;= 1) T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RETURN n * fac(n-1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END fac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228600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EE3-92EC-4F03-8974-F1B6F1191E5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C611A-42A2-49A9-B6BB-F73550E706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POINTERS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Pointers are variables containing memory add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a : POINTER TO INTEGE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a contains the address of a memory block which contains an INTEGER val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6CC-8170-46E1-BDE7-1085D3EBC75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0A3C4-CE03-442E-B480-245543172C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000000"/>
                </a:solidFill>
                <a:latin typeface="Arial Narrow"/>
              </a:rPr>
              <a:t>POINTER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dresses of memory locations are not inter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he value stored at the memory location is =&gt; de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a : POINTER TO INTEGE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^ := -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7E1-0637-4045-859C-D2E02DC76B2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E12BA-6993-470E-A991-F8B9BE99E5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OINTER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ers are used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ynamic memory al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But pointers do not do the al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pecial Modula2 procedures to work with mem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 from the SYSTEM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used to ask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POSE to release the memory you g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EA5-8760-4934-8F82-F81AD1510CD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A2A58-D43E-4508-9DFA-B12993DBCF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ointers: DEMO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mem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YSTEM IMPORT NEW, DISPO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O IMPORT WrStr, WrL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_ptr : POINTER TO INTEG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: INTEG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Str("Start"); WrL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 We reserve some memory for 1 integer 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(i_pt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_ptr^ := 9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:= i_ptr^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 We tell the computer we will not use this memory anymore 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E(i_pt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Str("Stop"); WrL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mem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8CA-3F56-4906-B379-FFCF3430888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C7A63-002E-420B-91D9-32522391DF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OINTER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memory allocation is the main reason for using poin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structures are used to do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ed 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RECURSIVE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B88-8D74-4317-8CE8-4045263A599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9DF7D-7B3C-4A44-9D41-95E5BEB30A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OINTER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inkPtr = POINTER TO LinkRc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inkRc = RECO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: LinkPt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dePtr = POINTER TO NodeRc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deRc = RECO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, right : NodePt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2362320"/>
            <a:ext cx="68580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00800" y="2362320"/>
            <a:ext cx="68580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715000" y="2514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96080" y="2362320"/>
            <a:ext cx="68580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010280" y="25905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25400" y="3048120"/>
            <a:ext cx="76104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5345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6104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24480" y="3809880"/>
            <a:ext cx="60984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15200" y="5105520"/>
            <a:ext cx="609480" cy="761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5029200"/>
            <a:ext cx="6094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791320" y="45720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81680" y="45720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15000" y="358128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181120" y="5791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67280" y="5791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96080" y="5867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162920" y="5867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87D-7221-4534-A2AF-B107A6E2317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81FDB-9C25-4C2B-BA20-CD53C8B91E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OINTER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tructures can be contected to each o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by allowing us to build big structures where each element contains dat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way we can use as much memory as we need! And this without knowing in advance how much memory we would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147-F908-47C8-A404-508959D2DD9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5C286-50BE-4941-A0EB-9E9F342F48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ointers: memory allocatio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thus ask memory explicitly using NEW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mputer may run out of memory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know that when NEW returns NIL as value for our poi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EA2-A40A-4429-B77A-C2BBFCE330D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4E722-4C85-40B7-9632-80F0BA554D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00000"/>
                </a:solidFill>
                <a:latin typeface="Arial Narrow"/>
              </a:rPr>
              <a:t>Variabl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Need to be declar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 : CARD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000000"/>
                </a:solidFill>
                <a:latin typeface="Arial"/>
              </a:rPr>
              <a:t>Change the value (assignme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</a:rPr>
              <a:t>X := 451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4495680"/>
            <a:ext cx="19047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365760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: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124080"/>
            <a:ext cx="2286000" cy="1447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190760" y="3048120"/>
            <a:ext cx="25146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286000"/>
            <a:ext cx="152388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D6B-146E-48BF-B67A-DE3C42B209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7B89C-BCA4-4F05-BE8F-4C56CD0DF9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ointers: memory allocation (2)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save memory we have to recycle the memory we do not use any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to deallocate the memory using DIS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to be careful and avoid using memory we deallocated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123-E98D-4BDE-973D-E0702BE83C1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8420E-AD78-43C7-B59D-23BA3E1EED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700" spc="-1" strike="noStrike">
                <a:solidFill>
                  <a:srgbClr val="000000"/>
                </a:solidFill>
                <a:latin typeface="Arial Narrow"/>
              </a:rPr>
              <a:t>MODULES</a:t>
            </a:r>
            <a:endParaRPr b="1" lang="en-US" sz="4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um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CB4-4269-43AF-BDAD-3DA78217D21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B8183-F070-4B4D-BE17-22E8C28DDE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aomei li</cp:lastModifiedBy>
  <dcterms:modified xsi:type="dcterms:W3CDTF">2002-10-15T06:11:31Z</dcterms:modified>
  <cp:revision>72</cp:revision>
  <dc:subject/>
  <dc:title>PowerPoint Presentation</dc:title>
</cp:coreProperties>
</file>