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5.png" ContentType="image/png"/>
  <Override PartName="/ppt/media/image16.wmf" ContentType="image/x-wmf"/>
  <Override PartName="/ppt/media/image4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9.wmf" ContentType="image/x-wmf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27.png" ContentType="image/png"/>
  <Override PartName="/ppt/media/image30.wmf" ContentType="image/x-wmf"/>
  <Override PartName="/ppt/media/image4.png" ContentType="image/png"/>
  <Override PartName="/ppt/media/image12.jpeg" ContentType="image/jpeg"/>
  <Override PartName="/ppt/media/image52.jpeg" ContentType="image/jpeg"/>
  <Override PartName="/ppt/media/image33.wmf" ContentType="image/x-wmf"/>
  <Override PartName="/ppt/media/image50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38.wmf" ContentType="image/x-wmf"/>
  <Override PartName="/ppt/media/image43.jpeg" ContentType="image/jpeg"/>
  <Override PartName="/ppt/media/image32.wmf" ContentType="image/x-wmf"/>
  <Override PartName="/ppt/media/image49.jpeg" ContentType="image/jpeg"/>
  <Override PartName="/ppt/media/image46.jpeg" ContentType="image/jpeg"/>
  <Override PartName="/ppt/media/image47.wmf" ContentType="image/x-wmf"/>
  <Override PartName="/ppt/media/image48.jpeg" ContentType="image/jpeg"/>
  <Override PartName="/ppt/media/image39.wmf" ContentType="image/x-wmf"/>
  <Override PartName="/ppt/media/image34.wmf" ContentType="image/x-wmf"/>
  <Override PartName="/ppt/media/image11.jpeg" ContentType="image/jpeg"/>
  <Override PartName="/ppt/media/image23.wmf" ContentType="image/x-wmf"/>
  <Override PartName="/ppt/media/image51.jpeg" ContentType="image/jpeg"/>
  <Override PartName="/ppt/media/image9.png" ContentType="image/png"/>
  <Override PartName="/ppt/media/image37.png" ContentType="image/png"/>
  <Override PartName="/ppt/media/image7.png" ContentType="image/png"/>
  <Override PartName="/ppt/media/image36.wmf" ContentType="image/x-wmf"/>
  <Override PartName="/ppt/media/image6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13.jpeg" ContentType="image/jpeg"/>
  <Override PartName="/ppt/media/image40.jpeg" ContentType="image/jpeg"/>
  <Override PartName="/ppt/media/image4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AA4E8-5D51-4C0D-B1D1-C3B3A53BB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F2616-1119-4CEB-A205-793277CA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1AC89-7B58-4FE8-89D1-7F2139D03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128B3-E852-4CDF-B7C1-0328BAFE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B0023-DCB0-45D3-A12E-75276A89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D613F-C521-426B-AF7B-22157152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578FC-38A1-456B-A4A1-79D0979E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ECF3B-0766-42DA-B608-64BA7939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A137F-5CEC-4F94-8E50-885B7194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8AFE6-0472-4A41-A26D-291DD4B0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9D331-D8CC-40F5-ADC8-D3097FC0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C3E77-74DA-44AB-9737-670978C8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ADC14-B31E-4BF4-BE5F-25964F8D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960A9-A07F-494A-8292-4741D568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D0D27-07DC-45DA-9875-E1D9F186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F8646-4BB9-46BC-92B7-AFF284955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8E433-F1F4-4FD0-AEA0-29BE6616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D0390-020D-4D52-8DF1-2C311270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1C0D8-7737-40B8-93C4-DD4DDA0C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5A84A-DDCC-4F26-9183-B28E80C2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9B4B8-5599-41AF-A8E1-354EC6C6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10427-0579-42E6-B489-F2CD2656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477BB-E563-49FA-9723-336A6FCD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0E813-7C13-4D18-99DD-28E0091C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07120"/>
            <a:ext cx="9140760" cy="647640"/>
          </a:xfrm>
          <a:prstGeom prst="rect">
            <a:avLst/>
          </a:prstGeom>
          <a:solidFill>
            <a:srgbClr val="abb202"/>
          </a:solidFill>
          <a:ln w="9360">
            <a:solidFill>
              <a:srgbClr val="abb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586800" indent="-22572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2" marL="90288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3" marL="126396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4" marL="1625040" indent="-180360">
              <a:spcBef>
                <a:spcPts val="1001"/>
              </a:spcBef>
              <a:buClr>
                <a:srgbClr val="7f7358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5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6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61892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0A52-B4A3-4C5C-A571-2631F7432D49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219640" y="6207120"/>
            <a:ext cx="392292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46800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58920" y="651672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Verdana"/>
              </a:rPr>
              <a:t>Pa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0760" cy="5235480"/>
          </a:xfrm>
          <a:prstGeom prst="rect">
            <a:avLst/>
          </a:prstGeom>
          <a:solidFill>
            <a:srgbClr val="7f7358"/>
          </a:solidFill>
          <a:ln w="9360">
            <a:solidFill>
              <a:srgbClr val="7f73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467B-FC54-456B-BBA6-41EBF9FB4E44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18200" y="6638760"/>
            <a:ext cx="392256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81480" y="5541840"/>
            <a:ext cx="349092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7f7358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22.wmf"/><Relationship Id="rId1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4.wmf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35.jpeg"/><Relationship Id="rId4" Type="http://schemas.openxmlformats.org/officeDocument/2006/relationships/image" Target="../media/image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6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45.jpeg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image" Target="../media/image48.jpe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15.png"/><Relationship Id="rId6" Type="http://schemas.openxmlformats.org/officeDocument/2006/relationships/image" Target="../media/image7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15.png"/><Relationship Id="rId5" Type="http://schemas.openxmlformats.org/officeDocument/2006/relationships/image" Target="../media/image7.png"/><Relationship Id="rId6" Type="http://schemas.openxmlformats.org/officeDocument/2006/relationships/image" Target="../media/image15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6.wmf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ausal Models for Performance Analysis of Computer Systems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23640" y="5589720"/>
            <a:ext cx="41036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Jan Lemeir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TELE lab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May 24</a:t>
            </a:r>
            <a:r>
              <a:rPr b="0" lang="en-US" sz="2000" spc="-1" strike="noStrike" baseline="30000">
                <a:solidFill>
                  <a:srgbClr val="5f604a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2006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Causal Performance 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40226-A71F-47F3-88E8-93357F8589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onditional Independenc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Two variables A and B are independent if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5f604a"/>
                </a:solidFill>
                <a:latin typeface="Courier New"/>
              </a:rPr>
              <a:t>P(A|B)=P(A)</a:t>
            </a:r>
            <a:endParaRPr b="0" lang="en-US" sz="3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Qualitative property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Quality of my speech is independent of chance of rain today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5f604a"/>
                </a:solidFill>
                <a:latin typeface="Courier New"/>
              </a:rPr>
              <a:t>P(rain|speech)=P(rain) ?</a:t>
            </a:r>
            <a:endParaRPr b="0" lang="en-US" sz="3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F9648-1BC1-4F40-938F-790BABA93A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4920" y="549360"/>
            <a:ext cx="8529480" cy="52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Verdana"/>
              </a:rPr>
              <a:t>A.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5f604a"/>
                </a:solidFill>
                <a:latin typeface="Verdana"/>
              </a:rPr>
              <a:t>Conditional independencies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Reduction of factorization complexity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Bayesian Network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Minimal factorization = MDL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Verdana"/>
              </a:rPr>
              <a:t>B.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5f604a"/>
                </a:solidFill>
                <a:latin typeface="Verdana"/>
              </a:rPr>
              <a:t>Faithfulness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Verdana"/>
              </a:rPr>
              <a:t>         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Joint Distribution</a:t>
            </a:r>
            <a:r>
              <a:rPr b="1" lang="en-US" sz="2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5f604a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Directed Acyclic Graph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      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Conditional independencies </a:t>
            </a:r>
            <a:r>
              <a:rPr b="0" lang="en-US" sz="2400" spc="-1" strike="noStrike">
                <a:solidFill>
                  <a:srgbClr val="5f604a"/>
                </a:solidFill>
                <a:latin typeface="Wingdings"/>
                <a:ea typeface="Wingdings"/>
              </a:rPr>
              <a:t>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 d-separation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Verdana"/>
              </a:rPr>
              <a:t>Theorem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: if faithful graph exists, it is the minimal factorization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148360" y="476280"/>
          <a:ext cx="3313080" cy="2154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48360" y="476280"/>
                    <a:ext cx="331308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250920" y="4941720"/>
            <a:ext cx="8642160" cy="792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3789360"/>
            <a:ext cx="8642160" cy="86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 Mod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8893A-0402-49C4-9A9D-6C2BA9F658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90320" y="404640"/>
            <a:ext cx="8529480" cy="55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5f604a"/>
                </a:solidFill>
                <a:latin typeface="Verdana"/>
              </a:rPr>
              <a:t>C.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5f604a"/>
                </a:solidFill>
                <a:latin typeface="Verdana"/>
              </a:rPr>
              <a:t>Causal Interpretation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7f7358"/>
                </a:solidFill>
                <a:latin typeface="Verdana"/>
              </a:rPr>
              <a:t>Definition through interventions, otherwise only correlation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7f7358"/>
                </a:solidFill>
                <a:latin typeface="Verdana"/>
              </a:rPr>
              <a:t>V-structure &lt;&gt; Markov Chain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7f7358"/>
                </a:solidFill>
                <a:latin typeface="Verdana"/>
              </a:rPr>
              <a:t>Motivation: Causal models describe </a:t>
            </a:r>
            <a:r>
              <a:rPr b="1" i="1" lang="en-US" sz="1900" spc="-1" strike="noStrike">
                <a:solidFill>
                  <a:srgbClr val="7f7358"/>
                </a:solidFill>
                <a:latin typeface="Verdana"/>
              </a:rPr>
              <a:t>all</a:t>
            </a:r>
            <a:r>
              <a:rPr b="1" lang="en-US" sz="1900" spc="-1" strike="noStrike">
                <a:solidFill>
                  <a:srgbClr val="7f7358"/>
                </a:solidFill>
                <a:latin typeface="Verdana"/>
              </a:rPr>
              <a:t> relational regularities in a canonical form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16000" y="1916280"/>
          <a:ext cx="172872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6000" y="1916280"/>
                    <a:ext cx="172872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3419640" y="1484280"/>
          <a:ext cx="2087280" cy="91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19640" y="1484280"/>
                    <a:ext cx="208728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940360" y="1484280"/>
          <a:ext cx="2160720" cy="942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40360" y="1484280"/>
                    <a:ext cx="216072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187280" y="3429000"/>
          <a:ext cx="6188400" cy="1147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87280" y="3429000"/>
                    <a:ext cx="618840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 Mod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5EE8D-47A0-46BA-8F25-0F62054D22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26828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ductionis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0320" y="1557360"/>
            <a:ext cx="852948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Causality = reductionism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Building block = </a:t>
            </a:r>
            <a:r>
              <a:rPr b="1" i="1" lang="en-US" sz="2400" spc="-1" strike="noStrike">
                <a:solidFill>
                  <a:srgbClr val="5f604a"/>
                </a:solidFill>
                <a:latin typeface="Courier New"/>
              </a:rPr>
              <a:t>P(X</a:t>
            </a:r>
            <a:r>
              <a:rPr b="1" i="1" lang="en-US" sz="2400" spc="-1" strike="noStrike" baseline="-25000">
                <a:solidFill>
                  <a:srgbClr val="5f604a"/>
                </a:solidFill>
                <a:latin typeface="Courier New"/>
              </a:rPr>
              <a:t>i</a:t>
            </a:r>
            <a:r>
              <a:rPr b="1" i="1" lang="en-US" sz="2400" spc="-1" strike="noStrike">
                <a:solidFill>
                  <a:srgbClr val="5f604a"/>
                </a:solidFill>
                <a:latin typeface="Courier New"/>
              </a:rPr>
              <a:t>|parents</a:t>
            </a:r>
            <a:r>
              <a:rPr b="1" i="1" lang="en-US" sz="2400" spc="-1" strike="noStrike" baseline="-25000">
                <a:solidFill>
                  <a:srgbClr val="5f604a"/>
                </a:solidFill>
                <a:latin typeface="Courier New"/>
              </a:rPr>
              <a:t>i</a:t>
            </a:r>
            <a:r>
              <a:rPr b="1" i="1" lang="en-US" sz="2400" spc="-1" strike="noStrike">
                <a:solidFill>
                  <a:srgbClr val="5f604a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Unique, minimal, independent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Whole theory based on it, like</a:t>
            </a: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 asymmetry of causality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3492360" y="3429000"/>
            <a:ext cx="25923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nter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= change of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971640" y="3429000"/>
          <a:ext cx="2182680" cy="2592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71640" y="3429000"/>
                    <a:ext cx="218268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364000" y="3429000"/>
          <a:ext cx="3295800" cy="2625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64000" y="3429000"/>
                    <a:ext cx="3295800" cy="26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287BC-9A80-477A-A96B-258136B1F2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12536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ut…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276720" y="3357720"/>
            <a:ext cx="3168360" cy="22348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84360" y="1268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84360" y="34290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837440" y="5661000"/>
            <a:ext cx="675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ers use causal models all the ti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771640" y="1628640"/>
                <a:ext cx="439272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∧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∧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¬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∨</m:t>
                        </m:r>
                        <m:r>
                          <m:t xml:space="preserve">¬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∨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 Mod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4F3B9-AD23-40DC-9A0F-19D7D3FEB4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1763640" y="1916280"/>
          <a:ext cx="5256360" cy="197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916280"/>
                    <a:ext cx="5256360" cy="19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1911960" y="422100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pr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91600" y="4221000"/>
            <a:ext cx="297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pres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andom distrib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2680" y="981000"/>
            <a:ext cx="58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al model is MDL of joint distribu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64000" y="5877000"/>
            <a:ext cx="5580000" cy="703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Courier New"/>
              </a:rPr>
              <a:t>Contribution 1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: MDL interpretation of causal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 Model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52E59-7ED4-417E-8A6B-5472BB5180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Learning Algorithm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Construct causal model from experimental data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Directly related variables cannot become independent by conditioning on other variables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Undirected graph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V-structures determine orientation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Directed graph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97DFD-92F9-411D-AF9F-42953F4787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91628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art III: When do causal models become incorrect?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0920" y="3357360"/>
            <a:ext cx="777708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1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f604a"/>
                </a:solidFill>
                <a:latin typeface="Verdana"/>
              </a:rPr>
              <a:t>By other regularities!</a:t>
            </a:r>
            <a:endParaRPr b="0" lang="en-US" sz="4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3789A-2255-4702-AA08-75068AC55F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. Lower-level regulariti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000" y="3860640"/>
            <a:ext cx="852948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Compression of the distributions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124000" y="1773360"/>
          <a:ext cx="4896000" cy="18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773360"/>
                    <a:ext cx="4896000" cy="18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276720" y="4508640"/>
          <a:ext cx="2087280" cy="163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508640"/>
                    <a:ext cx="2087280" cy="16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B8F57-C09F-4BEB-9655-5AEA4049E6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34136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. Better description for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0320" y="1699920"/>
            <a:ext cx="8529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marL="144000" indent="-14400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attern 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144000" indent="-14400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in figur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144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14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14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                     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ausal model?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1440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604a"/>
              </a:solidFill>
              <a:latin typeface="Verdana"/>
            </a:endParaRPr>
          </a:p>
          <a:p>
            <a:pPr marL="144000" indent="-14400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                        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Other models are better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5229360"/>
            <a:ext cx="8529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Why?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Graph is compressible &amp; blocks (CPDs) are re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059280" y="1557360"/>
          <a:ext cx="5725800" cy="16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557360"/>
                    <a:ext cx="5725800" cy="16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3276720" y="4292640"/>
            <a:ext cx="542880" cy="40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826920" y="3213000"/>
          <a:ext cx="1832040" cy="1832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6920" y="3213000"/>
                    <a:ext cx="1832040" cy="18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7E06B-11C0-49CC-8CA3-FE0A0FA160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410920" y="620280"/>
            <a:ext cx="42483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604a"/>
                </a:solidFill>
                <a:latin typeface="Verdana"/>
              </a:rPr>
              <a:t>Philosophy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1116000" y="1916280"/>
            <a:ext cx="6120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604a"/>
                </a:solidFill>
                <a:latin typeface="Verdana"/>
              </a:rPr>
              <a:t>Statistics/Caus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92360" y="3429000"/>
            <a:ext cx="590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604a"/>
                </a:solidFill>
                <a:latin typeface="Verdana"/>
              </a:rPr>
              <a:t>Machine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013360"/>
            <a:ext cx="684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604a"/>
                </a:solidFill>
                <a:latin typeface="Verdana"/>
              </a:rPr>
              <a:t>Performance Mode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564000" y="4363920"/>
            <a:ext cx="407880" cy="542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284720" y="4292640"/>
            <a:ext cx="407880" cy="542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564000" y="2781360"/>
            <a:ext cx="407880" cy="542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284720" y="2781360"/>
            <a:ext cx="407880" cy="542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4284720" y="1413000"/>
            <a:ext cx="407880" cy="542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3492360" y="1413000"/>
            <a:ext cx="408240" cy="54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 Mod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5CE97-9498-4950-B9AE-D618273D03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. Interfere with independencie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00000" y="1989000"/>
          <a:ext cx="2335320" cy="26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989000"/>
                    <a:ext cx="233532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780000" y="2781000"/>
            <a:ext cx="51624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X and Y independent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by cancellation of X</a:t>
            </a:r>
            <a:r>
              <a:rPr b="0" lang="en-US" sz="2800" spc="-1" strike="noStrike">
                <a:solidFill>
                  <a:srgbClr val="5f604a"/>
                </a:solidFill>
                <a:latin typeface="Times New Roman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U </a:t>
            </a:r>
            <a:r>
              <a:rPr b="0" lang="en-US" sz="2800" spc="-1" strike="noStrike">
                <a:solidFill>
                  <a:srgbClr val="5f604a"/>
                </a:solidFill>
                <a:latin typeface="Times New Roman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Y and X </a:t>
            </a:r>
            <a:r>
              <a:rPr b="0" lang="en-US" sz="2800" spc="-1" strike="noStrike">
                <a:solidFill>
                  <a:srgbClr val="5f604a"/>
                </a:solidFill>
                <a:latin typeface="Times New Roman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V </a:t>
            </a:r>
            <a:r>
              <a:rPr b="0" lang="en-US" sz="2800" spc="-1" strike="noStrike">
                <a:solidFill>
                  <a:srgbClr val="5f604a"/>
                </a:solidFill>
                <a:latin typeface="Times New Roman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Y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1403280" y="5084640"/>
            <a:ext cx="68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dependency of both pa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= reg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F4217-B590-47CF-BA27-05BA300342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26828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eterministic relation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187280" y="1557360"/>
          <a:ext cx="2229120" cy="105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557360"/>
                    <a:ext cx="222912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067280" y="1773000"/>
            <a:ext cx="44640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Y=f(X</a:t>
            </a:r>
            <a:r>
              <a:rPr b="0" lang="en-US" sz="28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, X</a:t>
            </a:r>
            <a:r>
              <a:rPr b="0" lang="en-US" sz="28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3924360" y="1844640"/>
            <a:ext cx="326880" cy="3272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39640" y="2852640"/>
            <a:ext cx="7344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Y becomes unexpectedly independent from Z conditioned on X</a:t>
            </a:r>
            <a:r>
              <a:rPr b="0" lang="en-US" sz="20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and X</a:t>
            </a:r>
            <a:r>
              <a:rPr b="0" lang="en-US" sz="20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3789360"/>
            <a:ext cx="8280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5f604a"/>
                </a:solidFill>
                <a:latin typeface="Verdana"/>
              </a:rPr>
              <a:t>Solution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: augmented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- add regularity to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- adapt inference algorith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04000" y="3933720"/>
          <a:ext cx="1582920" cy="132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04000" y="3933720"/>
                    <a:ext cx="1582920" cy="13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539640" y="4941720"/>
            <a:ext cx="7344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604a"/>
                </a:solidFill>
                <a:latin typeface="Verdana"/>
              </a:rPr>
              <a:t>Learning algorithm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variables possibly contain equivalen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Choose simplest re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8C131-F978-4F7A-8921-CC6DFE7D20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056360" y="1197000"/>
            <a:ext cx="2087640" cy="27813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26828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Moral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90320" y="1989000"/>
            <a:ext cx="6745320" cy="24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  </a:t>
            </a: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Occam’s Razor works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  </a:t>
            </a: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Describe </a:t>
            </a:r>
            <a:r>
              <a:rPr b="0" i="1" lang="en-US" sz="4000" spc="-1" strike="noStrike">
                <a:solidFill>
                  <a:srgbClr val="5f604a"/>
                </a:solidFill>
                <a:latin typeface="Verdana"/>
              </a:rPr>
              <a:t>all</a:t>
            </a: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 regularities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843280" y="5851440"/>
            <a:ext cx="6300720" cy="703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Courier New"/>
              </a:rPr>
              <a:t>Contribution 2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: Faithful representation of deterministic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AC4D9-D6F5-4988-9F27-BE7C3BA476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art IV: Performance Analysi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708360" y="2205000"/>
          <a:ext cx="1427040" cy="16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205000"/>
                    <a:ext cx="142704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763640" y="2565360"/>
          <a:ext cx="40644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2565360"/>
                    <a:ext cx="4064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5294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604a"/>
                </a:solidFill>
                <a:latin typeface="Verdana"/>
              </a:rPr>
              <a:t>High-Performance computing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611280" y="3573360"/>
            <a:ext cx="3217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1 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08720" y="2924280"/>
            <a:ext cx="3217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arallel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00000" y="4365720"/>
            <a:ext cx="770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erformance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64000" y="4869000"/>
            <a:ext cx="34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Performance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64000" y="5589720"/>
            <a:ext cx="34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System-dependency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4941720"/>
            <a:ext cx="34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Parameter-dependency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03280" y="5300640"/>
            <a:ext cx="43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Reasons of bad performanc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08000" y="5734080"/>
            <a:ext cx="34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Effect of Optimization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68FE9-B2D0-4CA8-9C7B-A4886DB84C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174920" cy="31352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4174920" cy="31352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3203640" y="189000"/>
            <a:ext cx="836640" cy="8636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547280" y="3716280"/>
            <a:ext cx="745020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ausal models (cf. COMO lab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Representation form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Close to reality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Learning algorithms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TETRAD tool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 Mod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0C402-B2A0-4A01-9E31-180876E282C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4176720" cy="31370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076720" y="1773360"/>
            <a:ext cx="3598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No magic bulle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780000" y="620640"/>
            <a:ext cx="884160" cy="9064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68000" y="3933720"/>
            <a:ext cx="8529480" cy="24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Verdana"/>
              </a:rPr>
              <a:t>Complexity of real data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Mix of continuous and discrete variables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Non-linear relations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Deterministic relations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Context-specific variables and relations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684360" y="476280"/>
            <a:ext cx="4174920" cy="31352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5796000" y="4724280"/>
            <a:ext cx="3217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f604a"/>
                </a:solidFill>
                <a:latin typeface="Arial"/>
              </a:rPr>
              <a:t>Frederik Verb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59640" y="5589720"/>
            <a:ext cx="3217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f604a"/>
                </a:solidFill>
                <a:latin typeface="Arial"/>
              </a:rPr>
              <a:t>Joris B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 Mod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04338-1A70-4E24-9DB1-0617A389C91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ausal Performance Model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5327640" cy="33908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6720" y="4220640"/>
            <a:ext cx="39369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Computation time of a quicksort algorithm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3382920" y="5877000"/>
            <a:ext cx="5761080" cy="703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Courier New"/>
              </a:rPr>
              <a:t>Contribution 3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: Formal definition of causal performance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E12D3-D22E-4B52-8555-FE059611D67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Integrated in statistical analysi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95280" y="1557360"/>
          <a:ext cx="3676680" cy="37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557360"/>
                    <a:ext cx="3676680" cy="37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1187280" y="5229360"/>
            <a:ext cx="1213200" cy="57456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319280" y="2133360"/>
            <a:ext cx="482436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62120" indent="-76212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Statistical characteristics 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762120" indent="-76212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Regression analysis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76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76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Iterative process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762120" indent="-762120">
              <a:spcBef>
                <a:spcPts val="451"/>
              </a:spcBef>
              <a:buClr>
                <a:srgbClr val="5f604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Perform additional experiments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762120" indent="-762120">
              <a:spcBef>
                <a:spcPts val="451"/>
              </a:spcBef>
              <a:buClr>
                <a:srgbClr val="5f604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Extract additional characteristics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762120" indent="-762120">
              <a:spcBef>
                <a:spcPts val="451"/>
              </a:spcBef>
              <a:buClr>
                <a:srgbClr val="5f604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Indicate exceptions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762120" indent="-762120">
              <a:spcBef>
                <a:spcPts val="451"/>
              </a:spcBef>
              <a:buClr>
                <a:srgbClr val="5f604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Analyze the divergences of the data points with the current hypotheses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762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50" name=""/>
          <p:cNvSpPr/>
          <p:nvPr/>
        </p:nvSpPr>
        <p:spPr>
          <a:xfrm>
            <a:off x="3382920" y="5877000"/>
            <a:ext cx="5761080" cy="703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Courier New"/>
              </a:rPr>
              <a:t>Contribution 4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: Performance modeling tool (EP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86AE0-83FB-4A79-85AD-1655E449404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sults so far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f604a"/>
                </a:solidFill>
                <a:uFillTx/>
                <a:latin typeface="Verdana"/>
              </a:rPr>
              <a:t>1. Learning of non-trivial models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211640" y="2924280"/>
            <a:ext cx="4322880" cy="24368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250920" y="3500280"/>
            <a:ext cx="38894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Iterative algorithm for solving differential equation in parall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(Aztec benchmark Libra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55640" y="5589720"/>
            <a:ext cx="61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604a"/>
                </a:solidFill>
                <a:latin typeface="Verdana"/>
              </a:rPr>
              <a:t>Now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: expert can input background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14D68-1F6E-428F-B557-292BB1EF25C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95280" y="692280"/>
            <a:ext cx="8529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41000"/>
          </a:bodyPr>
          <a:p>
            <a:pPr marL="140400" indent="-14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f604a"/>
                </a:solidFill>
                <a:uFillTx/>
                <a:latin typeface="Verdana"/>
              </a:rPr>
              <a:t>2. Point-to-point commun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ight time = latency + message size/bandwidth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  </a:t>
            </a:r>
            <a:r>
              <a:rPr b="1" lang="en-US" sz="4000" spc="-1" strike="noStrike">
                <a:solidFill>
                  <a:srgbClr val="5f604a"/>
                </a:solidFill>
                <a:latin typeface="Verdana"/>
              </a:rPr>
              <a:t>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116000" y="2852640"/>
            <a:ext cx="6070680" cy="2756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 Model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E7507-2598-4691-A221-F61D96EC251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3640" y="691920"/>
            <a:ext cx="852948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What can be learnt about the world from observations?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3500280"/>
            <a:ext cx="85294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We have to look for regular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&amp; model th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 Mod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2FF8C-F881-43C1-AA37-9195DDDDC5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95280" y="549360"/>
            <a:ext cx="8529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f604a"/>
                </a:solidFill>
                <a:uFillTx/>
                <a:latin typeface="Verdana"/>
              </a:rPr>
              <a:t>3. Explanations for out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467160" cy="31273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4762440" cy="33721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95280" y="4941720"/>
            <a:ext cx="852948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f604a"/>
                </a:solidFill>
                <a:uFillTx/>
                <a:latin typeface="Verdana"/>
              </a:rPr>
              <a:t>4. Effects of optim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604a"/>
                </a:solidFill>
                <a:latin typeface="Verdana"/>
              </a:rPr>
              <a:t>  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 Model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4665C-95F0-4B40-9935-66E5FEA2F0C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onclusion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Theoretical foundations for performance models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Practical use: a lot of tuning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ntegration, tests, extensions, …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Occam’s Razor works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Choice of simplest model 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models close to ‘reality’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but what is reality?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tomic description of regularities that we observe?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5805360"/>
            <a:ext cx="70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604a"/>
                </a:solidFill>
                <a:latin typeface="Arial"/>
              </a:rPr>
              <a:t>Papers, references and demos: http://parallel.vub.ac.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F8515-187A-4110-990E-33A04ED14F9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MDL-approach to Lear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Verdana"/>
              </a:rPr>
              <a:t>Occam’s Razor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Among equivalent models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c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hoose the simplest one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.”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Verdana"/>
              </a:rPr>
              <a:t>Minimum Description Length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(MDL)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Select model that describes data with minimal #bits.”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model = shortest program that outputs data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length of program = </a:t>
            </a:r>
            <a:r>
              <a:rPr b="1" i="1" lang="en-US" sz="2400" spc="-1" strike="noStrike">
                <a:solidFill>
                  <a:srgbClr val="5f604a"/>
                </a:solidFill>
                <a:latin typeface="Verdana"/>
              </a:rPr>
              <a:t>Kolmogorov Complexity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38960" y="5229360"/>
            <a:ext cx="900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604a"/>
                </a:solidFill>
                <a:latin typeface="Arial"/>
              </a:rPr>
              <a:t>Learning = finding regularities =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8000" y="5157720"/>
            <a:ext cx="9036000" cy="79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219640" y="1197000"/>
            <a:ext cx="1366920" cy="19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0DA00-1957-4901-9E83-103B91D669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andomness vs. Regularit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29480" cy="24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urier New"/>
              </a:rPr>
              <a:t>0110001101011010101</a:t>
            </a:r>
            <a:r>
              <a:rPr b="1" lang="en-US" sz="32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random string=incompressible=maximal information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urier New"/>
              </a:rPr>
              <a:t>010101010101010101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regularity of repetition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allows compression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4724280"/>
            <a:ext cx="30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Separation by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Verdana"/>
              </a:rPr>
              <a:t>Two-part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132000" y="4221000"/>
          <a:ext cx="5832720" cy="182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4221000"/>
                    <a:ext cx="5832720" cy="18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 rot="5254800">
            <a:off x="1335240" y="4143960"/>
            <a:ext cx="542880" cy="40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6681B-6705-41A4-A3C0-DFACC2B9F9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05264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Ex.: Numberplate Recognition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1368720" cy="1027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995640" y="141300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Noise fiercely hinders recognit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407664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Verdana"/>
              </a:rPr>
              <a:t>Two-part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995640" y="2924280"/>
            <a:ext cx="1440000" cy="934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547640" y="2924280"/>
            <a:ext cx="1368720" cy="1027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8520" y="30686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242100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f604a"/>
                </a:solidFill>
                <a:latin typeface="Verdana"/>
              </a:rPr>
              <a:t>Shortest progr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4724280"/>
            <a:ext cx="851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WV735’ + letter style +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      + drop size variance + drop freque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andom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4653000"/>
            <a:ext cx="8425080" cy="1511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84360" y="5157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4643280" y="4797360"/>
            <a:ext cx="576360" cy="432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940360" y="31417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Separa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 Mod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80A74-3D9B-4AAC-97ED-02C84B620A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onclusions Part I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628640"/>
            <a:ext cx="852948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Extensions to Shannon (information content of a messag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lgorithmic Information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&amp; Kolmogorov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Fundamenta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But not practical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No algorithm can exist that outputs the shortest program and Kolmogorov Complexity of an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1480" y="5084640"/>
            <a:ext cx="8463240" cy="86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 Mod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D1191-01FB-4459-81D2-2ED9329622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413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II Model of Multivariate System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209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604a"/>
                </a:solidFill>
                <a:latin typeface="Courier New"/>
              </a:rPr>
              <a:t>Variables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3708360" y="3141720"/>
            <a:ext cx="56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stic model of joint distribution with minimal description leng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132000" y="3213000"/>
            <a:ext cx="503280" cy="379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55640" y="2492280"/>
            <a:ext cx="1925640" cy="3240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51280" y="2060640"/>
            <a:ext cx="475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604a"/>
                </a:solidFill>
                <a:latin typeface="Courier New"/>
              </a:rPr>
              <a:t>Experiment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92560" y="301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124000" y="2060640"/>
            <a:ext cx="21600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627280" y="2421000"/>
            <a:ext cx="144000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651640" y="4581360"/>
            <a:ext cx="2952720" cy="200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9A615-D303-4B50-AD76-FE8FFD1D3C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53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1 variabl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verage code length = Shannon entropy of </a:t>
            </a:r>
            <a:r>
              <a:rPr b="1" lang="en-US" sz="2200" spc="-1" strike="noStrike">
                <a:solidFill>
                  <a:srgbClr val="7f7358"/>
                </a:solidFill>
                <a:latin typeface="Courier New"/>
              </a:rPr>
              <a:t>P(x)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Multiple variable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With help of other, </a:t>
            </a:r>
            <a:r>
              <a:rPr b="1" lang="en-US" sz="2200" spc="-1" strike="noStrike">
                <a:solidFill>
                  <a:srgbClr val="7f7358"/>
                </a:solidFill>
                <a:latin typeface="Courier New"/>
              </a:rPr>
              <a:t>P(x</a:t>
            </a:r>
            <a:r>
              <a:rPr b="1" lang="en-US" sz="2200" spc="-1" strike="noStrike" baseline="-25000">
                <a:solidFill>
                  <a:srgbClr val="7f7358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7f7358"/>
                </a:solidFill>
                <a:latin typeface="Courier New"/>
              </a:rPr>
              <a:t>|x</a:t>
            </a:r>
            <a:r>
              <a:rPr b="1" lang="en-US" sz="2200" spc="-1" strike="noStrike" baseline="-25000">
                <a:solidFill>
                  <a:srgbClr val="7f7358"/>
                </a:solidFill>
                <a:latin typeface="Courier New"/>
              </a:rPr>
              <a:t>1</a:t>
            </a:r>
            <a:r>
              <a:rPr b="1" lang="en-US" sz="2200" spc="-1" strike="noStrike">
                <a:solidFill>
                  <a:srgbClr val="7f7358"/>
                </a:solidFill>
                <a:latin typeface="Courier New"/>
              </a:rPr>
              <a:t>…x</a:t>
            </a:r>
            <a:r>
              <a:rPr b="1" lang="en-US" sz="2200" spc="-1" strike="noStrike" baseline="-25000">
                <a:solidFill>
                  <a:srgbClr val="7f7358"/>
                </a:solidFill>
                <a:latin typeface="Courier New"/>
              </a:rPr>
              <a:t>i-1</a:t>
            </a:r>
            <a:r>
              <a:rPr b="1" lang="en-US" sz="2200" spc="-1" strike="noStrike">
                <a:solidFill>
                  <a:srgbClr val="7f7358"/>
                </a:solidFill>
                <a:latin typeface="Courier New"/>
              </a:rPr>
              <a:t>) 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(CPD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Factorization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Mutual information decreases entropy of variable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f604a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276720" y="2924280"/>
          <a:ext cx="2447640" cy="198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76720" y="2924280"/>
                    <a:ext cx="24476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4427640" y="260280"/>
            <a:ext cx="3311280" cy="7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 Mod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EE095-D82F-472C-BC93-989B514B8D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9T09:38:03Z</dcterms:created>
  <dc:creator>Jan Lemeire</dc:creator>
  <dc:description/>
  <dc:language>en-US</dc:language>
  <cp:lastModifiedBy>Jan Lemeire</cp:lastModifiedBy>
  <dcterms:modified xsi:type="dcterms:W3CDTF">2006-05-24T07:46:31Z</dcterms:modified>
  <cp:revision>302</cp:revision>
  <dc:subject/>
  <dc:title>Causal Performance Models</dc:title>
</cp:coreProperties>
</file>