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18.png" ContentType="image/png"/>
  <Override PartName="/ppt/media/image58.png" ContentType="image/png"/>
  <Override PartName="/ppt/media/image15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10.wmf" ContentType="image/x-wmf"/>
  <Override PartName="/ppt/media/image55.jpeg" ContentType="image/jpeg"/>
  <Override PartName="/ppt/media/image50.jpeg" ContentType="image/jpeg"/>
  <Override PartName="/ppt/media/image48.jpeg" ContentType="image/jpeg"/>
  <Override PartName="/ppt/media/image35.wmf" ContentType="image/x-wmf"/>
  <Override PartName="/ppt/media/image46.wmf" ContentType="image/x-wmf"/>
  <Override PartName="/ppt/media/image69.jpeg" ContentType="image/jpeg"/>
  <Override PartName="/ppt/media/image44.jpeg" ContentType="image/jpeg"/>
  <Override PartName="/ppt/media/image6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2.png" ContentType="image/png"/>
  <Override PartName="/ppt/media/image72.jpeg" ContentType="image/jpeg"/>
  <Override PartName="/ppt/media/image16.wmf" ContentType="image/x-wmf"/>
  <Override PartName="/ppt/media/image45.jpeg" ContentType="image/jpeg"/>
  <Override PartName="/ppt/media/image3.jpeg" ContentType="image/jpeg"/>
  <Override PartName="/ppt/media/image28.wmf" ContentType="image/x-wmf"/>
  <Override PartName="/ppt/media/image24.png" ContentType="image/png"/>
  <Override PartName="/ppt/media/image64.wmf" ContentType="image/x-wmf"/>
  <Override PartName="/ppt/media/image14.wmf" ContentType="image/x-wmf"/>
  <Override PartName="/ppt/media/image21.wmf" ContentType="image/x-wmf"/>
  <Override PartName="/ppt/media/image22.wmf" ContentType="image/x-wmf"/>
  <Override PartName="/ppt/media/image51.jpeg" ContentType="image/jpeg"/>
  <Override PartName="/ppt/media/image23.wmf" ContentType="image/x-wmf"/>
  <Override PartName="/ppt/media/image74.jpeg" ContentType="image/jpeg"/>
  <Override PartName="/ppt/media/image6.wmf" ContentType="image/x-wmf"/>
  <Override PartName="/ppt/media/image67.wmf" ContentType="image/x-wmf"/>
  <Override PartName="/ppt/media/image27.png" ContentType="image/png"/>
  <Override PartName="/ppt/media/image5.wmf" ContentType="image/x-wmf"/>
  <Override PartName="/ppt/media/image65.wmf" ContentType="image/x-wmf"/>
  <Override PartName="/ppt/media/image71.jpeg" ContentType="image/jpeg"/>
  <Override PartName="/ppt/media/image70.jpeg" ContentType="image/jpeg"/>
  <Override PartName="/ppt/media/image43.jpeg" ContentType="image/jpeg"/>
  <Override PartName="/ppt/media/image62.wmf" ContentType="image/x-wmf"/>
  <Override PartName="/ppt/media/image75.jpeg" ContentType="image/jpeg"/>
  <Override PartName="/ppt/media/image68.wmf" ContentType="image/x-wmf"/>
  <Override PartName="/ppt/media/image31.wmf" ContentType="image/x-wmf"/>
  <Override PartName="/ppt/media/image29.wmf" ContentType="image/x-wmf"/>
  <Override PartName="/ppt/media/image66.wmf" ContentType="image/x-wmf"/>
  <Override PartName="/ppt/media/image61.wmf" ContentType="image/x-wmf"/>
  <Override PartName="/ppt/media/image63.wmf" ContentType="image/x-wmf"/>
  <Override PartName="/ppt/media/image26.wmf" ContentType="image/x-wmf"/>
  <Override PartName="/ppt/media/image47.jpeg" ContentType="image/jpeg"/>
  <Override PartName="/ppt/media/image25.wmf" ContentType="image/x-wmf"/>
  <Override PartName="/ppt/media/image17.jpeg" ContentType="image/jpeg"/>
  <Override PartName="/ppt/media/image76.jpeg" ContentType="image/jpeg"/>
  <Override PartName="/ppt/media/image11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73.png" ContentType="image/png"/>
  <Override PartName="/ppt/media/image34.wmf" ContentType="image/x-wmf"/>
  <Override PartName="/ppt/media/image12.wmf" ContentType="image/x-wmf"/>
  <Override PartName="/ppt/media/image49.wmf" ContentType="image/x-wmf"/>
  <Override PartName="/ppt/media/image53.wmf" ContentType="image/x-wmf"/>
  <Override PartName="/ppt/media/image54.jpeg" ContentType="image/jpeg"/>
  <Override PartName="/ppt/media/image9.wmf" ContentType="image/x-wmf"/>
  <Override PartName="/ppt/media/image39.wmf" ContentType="image/x-wmf"/>
  <Override PartName="/ppt/media/image32.wmf" ContentType="image/x-wmf"/>
  <Override PartName="/ppt/media/image33.wmf" ContentType="image/x-wmf"/>
  <Override PartName="/ppt/media/image1.png" ContentType="image/png"/>
  <Override PartName="/ppt/media/image13.png" ContentType="image/png"/>
  <Override PartName="/ppt/media/image52.jpeg" ContentType="image/jpeg"/>
  <Override PartName="/ppt/media/image36.png" ContentType="image/png"/>
  <Override PartName="/ppt/media/image19.png" ContentType="image/png"/>
  <Override PartName="/ppt/media/image41.wmf" ContentType="image/x-wmf"/>
  <Override PartName="/ppt/media/image4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B345-D9EC-41D7-B454-EA597114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AB3D-5691-45B2-B533-60D8F8A6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0CDD-A983-4BC9-99B8-CA62FBC7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064C-BD6E-495A-BCF7-4BF69E75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7385-F4E8-4271-BB11-6F1920E7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8C30-315B-4996-AFB7-D6869E28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2E51A-0BA9-4D16-8066-13E2F3EC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D001-53B2-4176-9C49-6FD2A56F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30F74-1E6A-46C0-91CC-5EEADFB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BE93-EF67-4FDD-A3EA-E2E848C9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4D8F4-4180-43A0-8EA0-7F8BD7A3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3EDE-843F-4B8B-BEC4-75A2EA1A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477E6-DBED-4C26-A5AD-0DB6BB3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39AF-A8B2-4878-9588-B3660D3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A400B-BB15-4801-8D26-25E2D056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53FC-9A09-43D5-BAF2-AD4CACFB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D05A-951F-4321-B758-DAF5599A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CC65-49B7-44CD-8BF0-60518995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2EE1-07BE-43D5-9267-03A4021B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C5F5-9310-45A5-9686-E5ED6FB8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BEBD-4338-45A2-9FA4-7AA5D6B8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76D4-BFE0-49E3-9DA8-730B99A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4DEC-531F-4A2C-8231-2893B19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B829-E560-48CE-A084-3BE47F80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E36-C9BB-4541-83F3-6DAEE1D54DC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9C71-A79D-453C-AD96-67CA36B66C3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0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5.wmf"/><Relationship Id="rId15" Type="http://schemas.openxmlformats.org/officeDocument/2006/relationships/image" Target="../media/image3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8.wmf"/><Relationship Id="rId2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4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.png"/><Relationship Id="rId10" Type="http://schemas.openxmlformats.org/officeDocument/2006/relationships/image" Target="../media/image2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6.wmf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48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2.png"/><Relationship Id="rId9" Type="http://schemas.openxmlformats.org/officeDocument/2006/relationships/image" Target="../media/image18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wm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8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arallel.vub.ac.be/" TargetMode="External"/><Relationship Id="rId2" Type="http://schemas.openxmlformats.org/officeDocument/2006/relationships/hyperlink" Target="http://parallel.vub.ac.be/~jan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wmf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ausal Models, Learning Algorithms and their Application to Performance Modeling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3640" y="5589720"/>
            <a:ext cx="41036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Jan Lemei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rallel Systems lab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November 15</a:t>
            </a:r>
            <a:r>
              <a:rPr b="0" lang="en-US" sz="2000" spc="-1" strike="noStrike" baseline="30000">
                <a:solidFill>
                  <a:srgbClr val="5f604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2006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I. Learning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wo type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Constraint-bas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based on the independencies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Scoring-bas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searches set of all models, give a score of how good they represent distribution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90C4-8E22-46C1-8D18-FACBDD09C3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tep 1: Adjacency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0320" y="1773360"/>
            <a:ext cx="85294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Propert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adjacent nodes do not become independent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Algorithm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tart with full-connected graph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check for marginal independenci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check for conditional independenci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04000" y="4005360"/>
          <a:ext cx="1800360" cy="16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04000" y="4005360"/>
                    <a:ext cx="180036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804000" y="3716280"/>
          <a:ext cx="1811520" cy="201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04000" y="3716280"/>
                    <a:ext cx="1811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508720" y="4005360"/>
          <a:ext cx="3095640" cy="208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4005360"/>
                    <a:ext cx="30956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E68B-E8EB-407A-8717-BE7D247C2A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tep 2: Orient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773360"/>
            <a:ext cx="45720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Propert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V-structure can be recog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Algorithm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ook for v-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rived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71640" y="4365720"/>
          <a:ext cx="150804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365720"/>
                    <a:ext cx="150804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971640" y="4365720"/>
          <a:ext cx="2889000" cy="14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365720"/>
                    <a:ext cx="28890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572000" y="4292640"/>
          <a:ext cx="2889360" cy="14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292640"/>
                    <a:ext cx="288936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940360" y="1557360"/>
          <a:ext cx="97020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1557360"/>
                    <a:ext cx="970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16360" y="2997360"/>
          <a:ext cx="2590920" cy="76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6360" y="2997360"/>
                    <a:ext cx="2590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 rot="5254800">
            <a:off x="7667280" y="2492280"/>
            <a:ext cx="5079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7380360" y="1557360"/>
          <a:ext cx="1224000" cy="80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80360" y="1557360"/>
                    <a:ext cx="1224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451640" y="2997360"/>
          <a:ext cx="1297080" cy="815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451640" y="2997360"/>
                    <a:ext cx="12970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6E8C-12EC-459F-8EB4-A5D3CA67E5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ssump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eneral statistical assumption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No selection bia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andom sampl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ufficient data for correctness of statistical tes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Underlying network is faithful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ausal sufficiency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No unknown common caus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84720" y="4581360"/>
          <a:ext cx="1616400" cy="1374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4581360"/>
                    <a:ext cx="16164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FC6D-783F-4045-A714-264AA3D1F9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97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5294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finition causality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About predicting the effect of changes to the system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aithfulness assumption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Eg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: accidental cancell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usal Markov Condi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“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All relations are causal”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earning algorithms are not robu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tatistical tests make mistak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156360" y="2492280"/>
          <a:ext cx="1908000" cy="179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2492280"/>
                    <a:ext cx="190800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764C-2DEC-4B5F-BCCD-07A2A136C3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 III: Performance Analysi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708360" y="2205000"/>
          <a:ext cx="142704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205000"/>
                    <a:ext cx="14270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763640" y="2565360"/>
          <a:ext cx="4064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565360"/>
                    <a:ext cx="406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5294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High-Performance comput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573360"/>
            <a:ext cx="3217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1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924280"/>
            <a:ext cx="3217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alle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4365720"/>
            <a:ext cx="770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erformanc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4869000"/>
            <a:ext cx="34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erformanc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5589720"/>
            <a:ext cx="34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ystem-dependenc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4941720"/>
            <a:ext cx="34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rameter-dependenc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530064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asons of bad performan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5734080"/>
            <a:ext cx="34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 of Optimiz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DFC9-38A5-4FA0-B25D-09558AA50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74920" cy="3135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174920" cy="3135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203640" y="189000"/>
            <a:ext cx="836640" cy="8636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47280" y="3716280"/>
            <a:ext cx="7450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usal modeling (cf. COMO lab, VUB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presentation form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lose to reali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rning algorithm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ETRAD tool (open-source, java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5727600" y="98100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6140-EB3C-433A-A9D6-97993CCC6E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erformance Model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im performance analysi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Support software developer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High-performance applications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pected properties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offer insight into causes performance degradation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prediction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estimate effect of optimizations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reusable submodels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eparate application and system-depend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reason under uncertainty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ausal model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489D-B18E-4492-A206-5359CE74F4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ntegrated in statistical analy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22560" y="1773360"/>
            <a:ext cx="4321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2120" indent="-7621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tistical characteristics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gression analysi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obability table compress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-7621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Outlier dete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terative proces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1. Perform additional experimen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2. Extract additional characteristic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3. Indicate exception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4. Analyze the divergences of the data points with the current hypothes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76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700280"/>
          <a:ext cx="4321440" cy="37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700280"/>
                    <a:ext cx="43214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900000" y="5300640"/>
            <a:ext cx="1212840" cy="5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0FA4-6893-4E78-854A-6752D3909C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. Model construc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52948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odel of computation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of LU decom-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osition algorith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elementsize (redundant variable) is sufficient for influence datatype -&gt; cache misses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regression analysis on submodels  X=f(parents)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analysis of parameters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356000" y="5734080"/>
            <a:ext cx="4451400" cy="42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4932360" y="1773360"/>
          <a:ext cx="3887640" cy="223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32360" y="1773360"/>
                    <a:ext cx="38876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A268-63BA-4645-9F1E-A528FC2282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I. Causal Model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II. Learning Algorithm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III. Performance Modeling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IV. Extension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B383-1E3F-44E6-8A3B-D62A3F208D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. Detection of unexpected dependenc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4338720" cy="203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52948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oint-to-point communication performanc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background communication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9285-05DE-4B49-BED1-4D46C12332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3413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. Finding explanations for outlier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538440" cy="2504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408560" y="193680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 data in communication performance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3024360" cy="182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4221000"/>
            <a:ext cx="38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table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5280" y="4564080"/>
          <a:ext cx="2232000" cy="16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564080"/>
                    <a:ext cx="22320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990160" y="501336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derived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1CA9-3E0C-4B57-A0FB-43A69D82C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IV. Complexity of Performance Data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ixture discrete and continuous variabl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Mutual Information &amp; Kernel Density Estimation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n-linear rela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Mutual Information &amp; Kernel Density Estimation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Deterministic rela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ugmented models &amp; Complexity criterion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ntext variabl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Work in progress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ntext-specific independenci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SzPct val="1028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Work in progress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4D0C-9532-4376-A300-409284DD0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A. Information-theoretic Dependency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2203560"/>
            <a:ext cx="316872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27640" y="2131920"/>
            <a:ext cx="4211640" cy="741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671640" cy="477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924360" y="4508640"/>
            <a:ext cx="4103640" cy="696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03200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ntropy of random variable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003640" y="170028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iscretized entropy for continuou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357720"/>
            <a:ext cx="31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utu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24000" y="1700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4932360" y="17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324000" y="335772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3276720" y="4653000"/>
            <a:ext cx="30456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6A5E-EFDB-4296-97B5-F843EA2953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. Kernel Density Esti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0320" y="1989000"/>
            <a:ext cx="85294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ee applet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423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1" marL="423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7f7358"/>
                </a:solidFill>
                <a:latin typeface="Verdana"/>
              </a:rPr>
              <a:t>Trade-off maximal entropy &lt;&gt; typicalness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3645000"/>
            <a:ext cx="799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number data point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tion of continuous data jus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-free dependenc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1980-B34E-4FE0-A547-8529AC02FE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. Deterministic rela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67280" y="1483920"/>
            <a:ext cx="446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=f(X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326880" cy="326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5280" y="2133720"/>
            <a:ext cx="73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becomes independent from Z conditioned 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~ violation of the intersection condition (Pearl ’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Not faithfully describ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501336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ugmented caus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 add regularity to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 adapt inference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826920" y="1484280"/>
          <a:ext cx="27115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484280"/>
                    <a:ext cx="2711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835280" y="3068640"/>
          <a:ext cx="6624360" cy="16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068640"/>
                    <a:ext cx="66243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E075-28D4-4B1F-9315-741D234A9F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97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mplexity Criter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08360" y="2492280"/>
            <a:ext cx="5113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elect simplest rel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419640" y="4148280"/>
            <a:ext cx="1152360" cy="502920"/>
          </a:xfrm>
          <a:prstGeom prst="rightArrow">
            <a:avLst>
              <a:gd name="adj1" fmla="val 50000"/>
              <a:gd name="adj2" fmla="val 57283"/>
            </a:avLst>
          </a:prstGeom>
          <a:solidFill>
            <a:srgbClr val="869a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1557360"/>
            <a:ext cx="8713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&amp;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contai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equivalent informa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bout </a:t>
            </a:r>
            <a:r>
              <a:rPr b="1" lang="en-US" sz="2800" spc="-1" strike="noStrike">
                <a:solidFill>
                  <a:srgbClr val="5f604a"/>
                </a:solidFill>
                <a:latin typeface="Verdan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924360" y="5445000"/>
          <a:ext cx="482436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5445000"/>
                    <a:ext cx="482436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19640" y="3429000"/>
          <a:ext cx="215892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3429000"/>
                    <a:ext cx="2158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95280" y="2565360"/>
          <a:ext cx="2089080" cy="177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565360"/>
                    <a:ext cx="20890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EEEE-6C42-4C41-8065-D021F9F36D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gmented causal mod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000" y="3789360"/>
            <a:ext cx="6553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sistent models unde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mplexity Increase assum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79640" y="4724280"/>
          <a:ext cx="324000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4724280"/>
                    <a:ext cx="3240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156360" y="1773360"/>
          <a:ext cx="1380960" cy="4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1773360"/>
                    <a:ext cx="1380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755640" y="1844640"/>
            <a:ext cx="5665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strict conditional in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eneraliz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-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establish faithfu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156360" y="2276640"/>
          <a:ext cx="13809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2276640"/>
                    <a:ext cx="1380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755640" y="2276640"/>
            <a:ext cx="5665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2924280"/>
            <a:ext cx="5665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72000" y="2708280"/>
          <a:ext cx="1430280" cy="86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708280"/>
                    <a:ext cx="14302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140360" y="2421000"/>
            <a:ext cx="2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501E-659D-4A71-BA65-C813CE8907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ory works!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112760" cy="693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508720" y="1989000"/>
            <a:ext cx="960480" cy="1440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276720" y="2492280"/>
            <a:ext cx="649080" cy="285840"/>
          </a:xfrm>
          <a:prstGeom prst="rightArrow">
            <a:avLst>
              <a:gd name="adj1" fmla="val 50000"/>
              <a:gd name="adj2" fmla="val 56770"/>
            </a:avLst>
          </a:prstGeom>
          <a:solidFill>
            <a:srgbClr val="869a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2492280"/>
            <a:ext cx="649080" cy="285840"/>
          </a:xfrm>
          <a:prstGeom prst="rightArrow">
            <a:avLst>
              <a:gd name="adj1" fmla="val 50000"/>
              <a:gd name="adj2" fmla="val 56770"/>
            </a:avLst>
          </a:prstGeom>
          <a:solidFill>
            <a:srgbClr val="869a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8000" y="2492280"/>
            <a:ext cx="649440" cy="285840"/>
          </a:xfrm>
          <a:prstGeom prst="rightArrow">
            <a:avLst>
              <a:gd name="adj1" fmla="val 50000"/>
              <a:gd name="adj2" fmla="val 56801"/>
            </a:avLst>
          </a:prstGeom>
          <a:solidFill>
            <a:srgbClr val="869a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2080" y="24922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108000" y="2492280"/>
            <a:ext cx="395280" cy="385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419640" y="4076640"/>
            <a:ext cx="2313000" cy="1324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628720" y="4797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816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116000" y="4292640"/>
            <a:ext cx="1440000" cy="7412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03640" y="4437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Probabi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4797360"/>
            <a:ext cx="506520" cy="141480"/>
          </a:xfrm>
          <a:prstGeom prst="rightArrow">
            <a:avLst>
              <a:gd name="adj1" fmla="val 50000"/>
              <a:gd name="adj2" fmla="val 895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51640" y="4581360"/>
            <a:ext cx="506160" cy="141480"/>
          </a:xfrm>
          <a:prstGeom prst="rightArrow">
            <a:avLst>
              <a:gd name="adj1" fmla="val 50000"/>
              <a:gd name="adj2" fmla="val 8944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3995640" y="2205000"/>
            <a:ext cx="665280" cy="1008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108000" y="4437000"/>
            <a:ext cx="380880" cy="6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F0AD-15F7-4A91-923A-0BE9A63641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enefit of the integration of statistical techniqu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usal modeling is a challeng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wants to know the inner from the outer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ore inform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parallel.vub.ac.be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parallel.vub.ac.be/~jan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8CC1-614E-4AD8-9BD6-B28E726557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41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. Multivariate Analysi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209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4a"/>
                </a:solidFill>
                <a:latin typeface="Courier New"/>
              </a:rPr>
              <a:t>Variabl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314172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model of joint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iori unknown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502920" cy="379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1925640" cy="3240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51280" y="206064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4a"/>
                </a:solidFill>
                <a:latin typeface="Courier New"/>
              </a:rPr>
              <a:t>Experi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124000" y="2060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27280" y="242100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84720" y="4875120"/>
            <a:ext cx="2519640" cy="171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059280" y="3573360"/>
            <a:ext cx="502920" cy="3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D6A3-BC89-4C4F-9C0A-89355D4DB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. Representation of distribution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1992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actorization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duction of factorization complexity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7f7358"/>
                </a:solidFill>
                <a:latin typeface="Verdana"/>
              </a:rPr>
              <a:t>Bayesian Network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3716280"/>
          <a:ext cx="1368360" cy="43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371628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0160" y="3716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Orde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6880" y="3716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Order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4437000"/>
          <a:ext cx="3384720" cy="14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437000"/>
                    <a:ext cx="3384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3716280"/>
          <a:ext cx="1439640" cy="4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72360" y="3716280"/>
                    <a:ext cx="1439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88000" y="4437000"/>
          <a:ext cx="3671640" cy="1409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88000" y="4437000"/>
                    <a:ext cx="36716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47640" y="1844640"/>
          <a:ext cx="5832720" cy="38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7640" y="1844640"/>
                    <a:ext cx="5832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619280" y="2637000"/>
          <a:ext cx="4392720" cy="396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19280" y="2637000"/>
                    <a:ext cx="439272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437000"/>
          <a:ext cx="2448000" cy="12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9640" y="4437000"/>
                    <a:ext cx="2448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219640" y="4365720"/>
          <a:ext cx="2376720" cy="1224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19640" y="4365720"/>
                    <a:ext cx="2376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CC3C-0070-4ED3-A8F3-0F1BCA92E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onditional independence 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Qualitative property: </a:t>
            </a:r>
            <a:r>
              <a:rPr b="1" lang="en-US" sz="1800" spc="-1" strike="noStrike">
                <a:solidFill>
                  <a:srgbClr val="7f7358"/>
                </a:solidFill>
                <a:latin typeface="Courier New"/>
              </a:rPr>
              <a:t>P(rain|quality of speech)=P(rain)</a:t>
            </a:r>
            <a:r>
              <a:rPr b="1" lang="en-US" sz="2400" spc="-1" strike="noStrike">
                <a:solidFill>
                  <a:srgbClr val="7f7358"/>
                </a:solidFill>
                <a:latin typeface="Courier New"/>
              </a:rPr>
              <a:t>?</a:t>
            </a:r>
            <a:r>
              <a:rPr b="1" lang="en-US" sz="2100" spc="-1" strike="noStrike">
                <a:solidFill>
                  <a:srgbClr val="7f7358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arkov condition in graph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Variable becomes independent from all its non-descendants by conditioning on its direct parents.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graphical d-separation criter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. Representation of Independenci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26920" y="4797360"/>
          <a:ext cx="2592720" cy="122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797360"/>
                    <a:ext cx="25927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979640" y="1700280"/>
          <a:ext cx="4968720" cy="44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700280"/>
                    <a:ext cx="4968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95640" y="4581360"/>
          <a:ext cx="4897440" cy="14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4581360"/>
                    <a:ext cx="489744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5925960" y="3645000"/>
            <a:ext cx="246096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476F-C9B8-4581-8EC7-E706F16C89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97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aithfulnes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529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Faithful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Joint Distribution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Directed Acyclic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     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onditional independencies </a:t>
            </a:r>
            <a:r>
              <a:rPr b="0" lang="en-US" sz="2400" spc="-1" strike="noStrike">
                <a:solidFill>
                  <a:srgbClr val="5f604a"/>
                </a:solidFill>
                <a:latin typeface="Wingdings"/>
                <a:ea typeface="Wingdings"/>
              </a:rPr>
              <a:t>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d-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a faithful graph exists, it is the minimal factor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2360" y="3502080"/>
            <a:ext cx="8642520" cy="86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2360" y="5157720"/>
            <a:ext cx="8642520" cy="7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64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Independence-m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All independencies in the Bayesian network appear in th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917720"/>
            <a:ext cx="8642160" cy="86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DE07-3A80-4D0A-86D5-E2E8ECD28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500280"/>
            <a:ext cx="852948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Definition through intervention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causal model + Conditional Probability Distributions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+ Causal Markov Condition = Bayesian network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97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Representation of Causal Mechanis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2952720" cy="2082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3280" y="170028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Arial"/>
              </a:rPr>
              <a:t>Model of the underlying physical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63640" y="3933720"/>
          <a:ext cx="174168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3640" y="3933720"/>
                    <a:ext cx="17416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859280" y="3933720"/>
          <a:ext cx="174168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59280" y="3933720"/>
                    <a:ext cx="17416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050920" y="4292640"/>
          <a:ext cx="143676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0920" y="4292640"/>
                    <a:ext cx="1436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48360" y="4292640"/>
          <a:ext cx="143676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4292640"/>
                    <a:ext cx="1436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C756-E22A-4029-B365-DD18190CB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1253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ductionis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1341360"/>
            <a:ext cx="8529480" cy="46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ausal modeling = reductionism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358"/>
                </a:solidFill>
                <a:latin typeface="Verdana"/>
              </a:rPr>
              <a:t>Canonical representation: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unique, minimal, independ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uilding block = </a:t>
            </a:r>
            <a:r>
              <a:rPr b="1" i="1" lang="en-US" sz="2400" spc="-1" strike="noStrike">
                <a:solidFill>
                  <a:srgbClr val="5f604a"/>
                </a:solidFill>
                <a:latin typeface="Courier New"/>
              </a:rPr>
              <a:t>P(X</a:t>
            </a:r>
            <a:r>
              <a:rPr b="1" i="1" lang="en-US" sz="2400" spc="-1" strike="noStrike" baseline="-25000">
                <a:solidFill>
                  <a:srgbClr val="5f604a"/>
                </a:solidFill>
                <a:latin typeface="Courier New"/>
              </a:rPr>
              <a:t>i</a:t>
            </a:r>
            <a:r>
              <a:rPr b="1" i="1" lang="en-US" sz="2400" spc="-1" strike="noStrike">
                <a:solidFill>
                  <a:srgbClr val="5f604a"/>
                </a:solidFill>
                <a:latin typeface="Courier New"/>
              </a:rPr>
              <a:t>|parents(X</a:t>
            </a:r>
            <a:r>
              <a:rPr b="1" i="1" lang="en-US" sz="2400" spc="-1" strike="noStrike" baseline="-25000">
                <a:solidFill>
                  <a:srgbClr val="5f604a"/>
                </a:solidFill>
                <a:latin typeface="Courier New"/>
              </a:rPr>
              <a:t>i</a:t>
            </a:r>
            <a:r>
              <a:rPr b="1" i="1" lang="en-US" sz="2400" spc="-1" strike="noStrike">
                <a:solidFill>
                  <a:srgbClr val="5f604a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ole theory is based on this modularity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3716280"/>
            <a:ext cx="2592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 change of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0000" y="3357720"/>
          <a:ext cx="2183040" cy="259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3357720"/>
                    <a:ext cx="21830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651640" y="3357720"/>
          <a:ext cx="3295440" cy="2625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357720"/>
                    <a:ext cx="3295440" cy="26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1948-54CA-4BF8-97A4-837E2A21BD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268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ltimate motivation for causal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4149360"/>
            <a:ext cx="82407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odel = canonical representation able to explain all qualitative properties (independencies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lose to reali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076640"/>
            <a:ext cx="849636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700280"/>
            <a:ext cx="82407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causal mechanisms are un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model is faith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627200"/>
            <a:ext cx="849636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usal Performance Mod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CDB8-EF07-445E-975D-1A72E8069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9:38:03Z</dcterms:created>
  <dc:creator>Jan Lemeire</dc:creator>
  <dc:description/>
  <dc:language>en-US</dc:language>
  <cp:lastModifiedBy>jan</cp:lastModifiedBy>
  <dcterms:modified xsi:type="dcterms:W3CDTF">2006-11-15T08:46:30Z</dcterms:modified>
  <cp:revision>524</cp:revision>
  <dc:subject/>
  <dc:title>Causal Performance Models</dc:title>
</cp:coreProperties>
</file>